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765C-7F81-4D0B-8803-EDCCA38056E9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8794-5FC5-4124-AADB-AE5F917F0540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64C7-090F-4DF1-8838-77EB76CCED59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E55B-16BE-4441-A937-57C375B7B815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28FF-DC74-4639-9938-BAB3EBAB57F5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F539-8039-4D09-AE17-C42018071F69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C7C4-807F-48E3-AB92-848A30736582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0BAC-EC3D-4ECB-9EFD-C98F7117088F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3F21-2919-4D93-93DC-6F9892381132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DA0C-51E4-4257-ACB5-D956B1B4FC99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5473-F729-4191-A220-BD0692C45DAE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F590-FB77-4E58-B1FA-370F25193F2B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E97C-2A9B-4A45-ADF4-1B4A55D78921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3C2F-12A4-49B5-A82D-043138717018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AEBB-9795-432C-AA2A-8CB6DD5F598A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E732-862B-4475-BF9C-AE6A37731BEC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2FAC-F639-4C4E-B25B-616594088BF3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5578-3FA1-4C31-A3CD-FCB073A35F84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A841-A78D-4343-A433-13889FD02ED3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AA28-B129-499E-841A-AAA54CB88BA7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7334-3B2E-4933-B375-CC552D8910C7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4312-E6D3-4FC6-ADF2-8375C7A4A456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D022-0275-4D4E-BD30-321369792564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D3EB-1287-46F6-BCB1-9C7DDEA7B68A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617C-57CE-4F86-A89E-0C4B40536C70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ACD4-13DC-4EB9-A355-18E7C645B863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37CA-3546-42FE-8F80-173803DBB4F0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7364-EA69-4D57-9166-B9D977DD96B6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6BE3-0834-453C-A683-F8C6B2143476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EA49-422C-4324-A7BB-29D831C13C09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C765-82C5-4DAC-A346-FAE5B9D15981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EE0F-DC65-43F6-8F2E-D3580C51A648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EEE6-8379-402D-B68B-D8AB1EBEA261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142B-6662-4D89-8489-BCD08F06F207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94C2-C847-4D0E-8CA0-69DB8D32765A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EDE8D-EBC6-480B-AA15-E269DFC5D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39400" y="3988440"/>
            <a:ext cx="8294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592FF-F4D0-4531-9E40-852AB5FCE1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940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8956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6ADA-85A9-426B-BB92-DA266DC33C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44160" y="160020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48920" y="160020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39400" y="398844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44160" y="398844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48920" y="398844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5D8E4-25B3-4C5E-8061-657895DE68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28600" y="303120"/>
            <a:ext cx="779616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940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CB67B-57E0-47F1-B1E1-B2F3DFBC5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8956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39400" y="3988440"/>
            <a:ext cx="8294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39400" y="3988440"/>
            <a:ext cx="8294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3940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8956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044160" y="160020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48920" y="160020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39400" y="398844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044160" y="398844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48920" y="398844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2B402-C9EE-4F2D-843D-05AB92C0E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5A36E-854D-49AF-9ACF-1B36667AA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8DFAA-6333-4D3F-B5CE-E4E5F363D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" y="303120"/>
            <a:ext cx="779616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DA5D4-3891-4AD4-B9A3-AC4B7F0536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940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6A09-39BB-44F0-B852-5534AF67D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8956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C5D12-4BAD-41A5-B295-D54A566AF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39400" y="3988440"/>
            <a:ext cx="8294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6039-DAFD-47F5-8145-419257486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5"/>
          <p:cNvGrpSpPr/>
          <p:nvPr/>
        </p:nvGrpSpPr>
        <p:grpSpPr>
          <a:xfrm>
            <a:off x="8935200" y="1449360"/>
            <a:ext cx="208080" cy="5408640"/>
            <a:chOff x="8935200" y="1449360"/>
            <a:chExt cx="208080" cy="5408640"/>
          </a:xfrm>
        </p:grpSpPr>
        <p:sp>
          <p:nvSpPr>
            <p:cNvPr id="1" name="Rectangle 38"/>
            <p:cNvSpPr/>
            <p:nvPr/>
          </p:nvSpPr>
          <p:spPr>
            <a:xfrm flipH="1">
              <a:off x="9041760" y="1449360"/>
              <a:ext cx="101160" cy="5408640"/>
            </a:xfrm>
            <a:prstGeom prst="rect">
              <a:avLst/>
            </a:prstGeom>
            <a:solidFill>
              <a:srgbClr val="67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4"/>
            <p:cNvGrpSpPr/>
            <p:nvPr/>
          </p:nvGrpSpPr>
          <p:grpSpPr>
            <a:xfrm>
              <a:off x="8935200" y="1449360"/>
              <a:ext cx="143280" cy="5408640"/>
              <a:chOff x="8935200" y="1449360"/>
              <a:chExt cx="143280" cy="5408640"/>
            </a:xfrm>
          </p:grpSpPr>
          <p:sp>
            <p:nvSpPr>
              <p:cNvPr id="3" name="Rectangle 43"/>
              <p:cNvSpPr/>
              <p:nvPr/>
            </p:nvSpPr>
            <p:spPr>
              <a:xfrm flipH="1" rot="10800000">
                <a:off x="8934840" y="1449360"/>
                <a:ext cx="78120" cy="5408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32"/>
              <p:cNvSpPr/>
              <p:nvPr/>
            </p:nvSpPr>
            <p:spPr>
              <a:xfrm flipH="1" rot="10800000">
                <a:off x="9000720" y="1449360"/>
                <a:ext cx="77760" cy="5408640"/>
              </a:xfrm>
              <a:prstGeom prst="rect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Rectangle 37"/>
          <p:cNvSpPr/>
          <p:nvPr/>
        </p:nvSpPr>
        <p:spPr>
          <a:xfrm rot="16200000">
            <a:off x="3845520" y="-3845520"/>
            <a:ext cx="1449360" cy="9140760"/>
          </a:xfrm>
          <a:prstGeom prst="rect">
            <a:avLst/>
          </a:prstGeom>
          <a:solidFill>
            <a:srgbClr val="67722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ldNum" idx="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99003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C21E0EA3-1265-4559-BD9F-3F239C4C9470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Rectangle 30"/>
          <p:cNvSpPr/>
          <p:nvPr/>
        </p:nvSpPr>
        <p:spPr>
          <a:xfrm>
            <a:off x="838080" y="639756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7 Ramez Elmasr and Shamkant B. Navath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4"/>
          <p:cNvSpPr/>
          <p:nvPr/>
        </p:nvSpPr>
        <p:spPr>
          <a:xfrm>
            <a:off x="830592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677228">
                  <a:alpha val="44313"/>
                </a:srgbClr>
              </a:gs>
              <a:gs pos="100000">
                <a:srgbClr val="5a64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7"/>
          <p:cNvSpPr/>
          <p:nvPr/>
        </p:nvSpPr>
        <p:spPr>
          <a:xfrm rot="16200000">
            <a:off x="3500280" y="-986040"/>
            <a:ext cx="2143080" cy="9144000"/>
          </a:xfrm>
          <a:prstGeom prst="rect">
            <a:avLst/>
          </a:prstGeom>
          <a:solidFill>
            <a:srgbClr val="677228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8"/>
          <p:cNvSpPr/>
          <p:nvPr/>
        </p:nvSpPr>
        <p:spPr>
          <a:xfrm>
            <a:off x="7315200" y="2438280"/>
            <a:ext cx="1828800" cy="229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5" descr="awtri_4c UPDATE_color"/>
          <p:cNvPicPr/>
          <p:nvPr/>
        </p:nvPicPr>
        <p:blipFill>
          <a:blip r:embed="rId2"/>
          <a:stretch/>
        </p:blipFill>
        <p:spPr>
          <a:xfrm>
            <a:off x="76320" y="5950080"/>
            <a:ext cx="684000" cy="831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6" descr="elmasri_thumb"/>
          <p:cNvPicPr/>
          <p:nvPr/>
        </p:nvPicPr>
        <p:blipFill>
          <a:blip r:embed="rId3"/>
          <a:stretch/>
        </p:blipFill>
        <p:spPr>
          <a:xfrm>
            <a:off x="7419960" y="2514600"/>
            <a:ext cx="1724040" cy="2143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2"/>
          </p:nvPr>
        </p:nvSpPr>
        <p:spPr>
          <a:xfrm>
            <a:off x="837720" y="639756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7 Ramez Elmasri and Shamkant B. Nava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85B4F37C-A244-4045-89A7-E31E88F53BE0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9" name="Picture 11" descr="Elmasri_co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D108666E-3ADD-4BA2-AA56-7D24D56227C2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Types of Attributes (2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 general, composite and multi-valued attributes may be nested arbitrarily to any number of levels, although this is rare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For example, PreviousDegrees of a STUDENT is a composite multi-valued attribute denoted by {PreviousDegrees (College, Year, Degree, Field)}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Multiple PreviousDegrees values can exist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Each has four subcomponent attributes: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llege, Year, Degree, Fiel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B0620465-C7E6-4A8C-9FEB-B96C4AD7E146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Example of a composite attribut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9" name="Picture 4" descr="fig03_04"/>
          <p:cNvPicPr/>
          <p:nvPr/>
        </p:nvPicPr>
        <p:blipFill>
          <a:blip r:embed="rId1"/>
          <a:stretch/>
        </p:blipFill>
        <p:spPr>
          <a:xfrm>
            <a:off x="541440" y="2362320"/>
            <a:ext cx="8061120" cy="32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DE4CB799-5B48-4CB2-958E-2652A4432397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Entity Types and Key Attributes (1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ntities with the same basic attributes are grouped or typed into an entity type.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For example, the entity type EMPLOYEE and PROJECT.</a:t>
            </a:r>
            <a:endParaRPr b="0" lang="en-US" sz="3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 attribute of an entity type for which each entity must have a unique value is called a key attribute of the entity type.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For example, SSN of EMPLOYEE.</a:t>
            </a:r>
            <a:endParaRPr b="0" lang="en-US" sz="3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E5B8AF65-12DC-468B-9A44-B76CB5D22C24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Entity Types and Key Attributes (2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key attribute may be composite.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VehicleTagNumber is a key of the CAR entity type with components (Number, State)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 entity type may have more than one key.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The CAR entity type may have two keys: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hicleIdentificationNumber (popularly called VIN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hicleTagNumber (Number, State), aka license plate number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ach key is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underline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461265E2-F207-414B-A38A-807C515BC66C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Displaying an Entity typ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 ER diagrams, an entity type is displayed in a rectangular box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ttributes are displayed in ova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Each attribute is connected to its entity type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Components of a composite attribute are connected to the oval representing the composite attribute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Each key attribute is underlined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Multivalued attributes displayed in double ovals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e CAR example on next slid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EB4DEB46-45AD-4BF0-A854-2B27757826B9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Entity Type CAR with two keys and a corresponding Entity Se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41" name="Picture 1028" descr="fig03_07"/>
          <p:cNvPicPr/>
          <p:nvPr/>
        </p:nvPicPr>
        <p:blipFill>
          <a:blip r:embed="rId1"/>
          <a:stretch/>
        </p:blipFill>
        <p:spPr>
          <a:xfrm>
            <a:off x="1219320" y="1600200"/>
            <a:ext cx="70102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3737F064-9785-40C4-A39F-856278CCA4DF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Entity Se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ach entity type will have a collection of entities stored in the databa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Called the 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entity set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evious slide shows three CAR entity instances in the entity set for CA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ame name (CAR) used to refer to both the entity type and the entity se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ntity set is the current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stat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of the entities of that type that are stored in the databa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9970E55A-F292-4A2C-B5B0-13230FA034A4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Initial Design of Entity Types for the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COMPANY 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Database Schema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ased on the requirements, we can identify four initial entity types in the COMPANY database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DEPARTMENT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PROJECT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EMPLOYEE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DEPENDENT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ir initial design is shown on the following slid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initial attributes shown are derived from the requirements descrip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A457F39B-E755-45AD-8169-7672A3407BEF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Initial Design of Entity Types:</a:t>
            </a:r>
            <a:br>
              <a:rPr sz="3600"/>
            </a:b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EMPLOYEE, DEPARTMENT, PROJECT, DEPENDENT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50" name="Picture 4" descr="fig03_08"/>
          <p:cNvPicPr/>
          <p:nvPr/>
        </p:nvPicPr>
        <p:blipFill>
          <a:blip r:embed="rId1"/>
          <a:stretch/>
        </p:blipFill>
        <p:spPr>
          <a:xfrm>
            <a:off x="2133720" y="1600200"/>
            <a:ext cx="485928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C2ACE7B0-CDA1-4ECD-9115-2BD01C8C42BE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Refining the initial design by introducing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relationship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initial design is typically not complet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me aspects in the requirements will be represented as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lationship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R model has three main concepts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Entities (and their entity types and entity sets)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Attributes (simple, composite, multivalued)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Relationships (and their relationship types and relationship sets)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e introduce relationship concepts nex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9"/>
          <p:cNvSpPr/>
          <p:nvPr/>
        </p:nvSpPr>
        <p:spPr>
          <a:xfrm>
            <a:off x="838080" y="639756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7 Ramez Elmasri and Shamkant B. Nava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086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33"/>
                </a:solidFill>
                <a:latin typeface="Arial"/>
              </a:rPr>
              <a:t>Chapter 3</a:t>
            </a:r>
            <a:endParaRPr b="0" lang="en-US" sz="6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560" y="2590560"/>
            <a:ext cx="6629400" cy="190476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ata Modeling Using the Entity-Relationship (ER) Mod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1CF72DEB-C2C9-4CE2-BD7D-8AE0BB30EB3E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Relationships and Relationship Types (1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lationship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relates two or more distinct entities with a specific meaning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800000"/>
                </a:solidFill>
                <a:latin typeface="Arial"/>
              </a:rPr>
              <a:t>For example, EMPLOYEE John Smith </a:t>
            </a:r>
            <a:r>
              <a:rPr b="0" i="1" lang="en-US" sz="2100" spc="-1" strike="noStrike">
                <a:solidFill>
                  <a:srgbClr val="800000"/>
                </a:solidFill>
                <a:latin typeface="Arial"/>
              </a:rPr>
              <a:t>works on</a:t>
            </a:r>
            <a:r>
              <a:rPr b="0" lang="en-US" sz="2100" spc="-1" strike="noStrike">
                <a:solidFill>
                  <a:srgbClr val="800000"/>
                </a:solidFill>
                <a:latin typeface="Arial"/>
              </a:rPr>
              <a:t> the ProductX PROJECT, or EMPLOYEE Franklin Wong </a:t>
            </a:r>
            <a:r>
              <a:rPr b="0" i="1" lang="en-US" sz="2100" spc="-1" strike="noStrike">
                <a:solidFill>
                  <a:srgbClr val="800000"/>
                </a:solidFill>
                <a:latin typeface="Arial"/>
              </a:rPr>
              <a:t>manages</a:t>
            </a:r>
            <a:r>
              <a:rPr b="0" lang="en-US" sz="2100" spc="-1" strike="noStrike">
                <a:solidFill>
                  <a:srgbClr val="800000"/>
                </a:solidFill>
                <a:latin typeface="Arial"/>
              </a:rPr>
              <a:t> the Research DEPARTMENT.</a:t>
            </a:r>
            <a:endParaRPr b="0" lang="en-US" sz="21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lationships of the same type are grouped or typed into 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lationship typ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800000"/>
                </a:solidFill>
                <a:latin typeface="Arial"/>
              </a:rPr>
              <a:t>For example, the WORKS_ON relationship type in which EMPLOYEEs and PROJECTs participate, or the MANAGES relationship type in which EMPLOYEEs and DEPARTMENTs participate.</a:t>
            </a:r>
            <a:endParaRPr b="0" lang="en-US" sz="21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degree of a relationship type is the number of participating entity types.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800000"/>
                </a:solidFill>
                <a:latin typeface="Arial"/>
              </a:rPr>
              <a:t>Both MANAGES and WORKS_ON are </a:t>
            </a:r>
            <a:r>
              <a:rPr b="0" i="1" lang="en-US" sz="2100" spc="-1" strike="noStrike">
                <a:solidFill>
                  <a:srgbClr val="800000"/>
                </a:solidFill>
                <a:latin typeface="Arial"/>
              </a:rPr>
              <a:t>binary</a:t>
            </a:r>
            <a:r>
              <a:rPr b="0" lang="en-US" sz="2100" spc="-1" strike="noStrike">
                <a:solidFill>
                  <a:srgbClr val="800000"/>
                </a:solidFill>
                <a:latin typeface="Arial"/>
              </a:rPr>
              <a:t> relationships.</a:t>
            </a:r>
            <a:endParaRPr b="0" lang="en-US" sz="21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B8E26A6A-CCB5-402A-AA7E-980C00ACFA59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290520"/>
            <a:ext cx="8763120" cy="7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Relationship instances of the WORKS_FOR N:1 relationship between EMPLOYEE and DEPARTMEN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59" name="Picture 31" descr="fig03_09"/>
          <p:cNvPicPr/>
          <p:nvPr/>
        </p:nvPicPr>
        <p:blipFill>
          <a:blip r:embed="rId1"/>
          <a:stretch/>
        </p:blipFill>
        <p:spPr>
          <a:xfrm>
            <a:off x="685800" y="1608120"/>
            <a:ext cx="79246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0B222C27-999E-4ACF-8D38-0CB19D3F60B6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7000" y="85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Relationship instances of the M:N  WORKS_ON relationship between EMPLOYEE and PROJEC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685800" y="1822320"/>
            <a:ext cx="809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8" descr="fig03_13"/>
          <p:cNvPicPr/>
          <p:nvPr/>
        </p:nvPicPr>
        <p:blipFill>
          <a:blip r:embed="rId1"/>
          <a:stretch/>
        </p:blipFill>
        <p:spPr>
          <a:xfrm>
            <a:off x="1281240" y="1644480"/>
            <a:ext cx="6948360" cy="47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198E09B2-0F82-43C4-BC22-11C86CD55BF6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Relationship type vs. relationship set (1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lationship Type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Is the schema description of a relationship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Identifies the relationship name and the participating entity types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Also identifies certain relationship constraints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lationship Set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The current set of relationship instances represented in the database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The current </a:t>
            </a:r>
            <a:r>
              <a:rPr b="0" i="1" lang="en-US" sz="2600" spc="-1" strike="noStrike">
                <a:solidFill>
                  <a:srgbClr val="800000"/>
                </a:solidFill>
                <a:latin typeface="Arial"/>
              </a:rPr>
              <a:t>state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of a relationship type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187BF69F-91EA-4D4A-A885-D4C8D6F6375A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Relationship type vs. relationship set (2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evious figures displayed the relationship se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ach instance in the set relates individual participating entities – one from each participating entity typ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 ER diagrams, we represent the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relationship typ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s follows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Diamond-shaped box is used to display a relationship type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Connected to the participating entity types via straight lines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7C71CE57-EF02-44E8-AD01-225D9F01FA47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Refining the COMPANY database schema by introducing relationship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y examining the requirements, six relationship types are identifie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l ar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binar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relationships( degree 2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isted below with their participating entity type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WORKS_FOR (between EMPLOYEE, DEPARTMENT)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MANAGES (also between EMPLOYEE, DEPARTMENT)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CONTROLS (between DEPARTMENT, PROJECT)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WORKS_ON (between EMPLOYEE, PROJECT)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SUPERVISION (between EMPLOYEE (as subordinate), EMPLOYEE (as supervisor))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DEPENDENTS_OF (between EMPLOYEE, DEPENDENT)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E9BF6451-7587-4477-9101-2E19B1EAA18F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2080" y="216000"/>
            <a:ext cx="7940520" cy="76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ER DIAGRAM – Relationship Types are:</a:t>
            </a:r>
            <a:br>
              <a:rPr sz="3200"/>
            </a:b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WORKS_FOR, MANAGES, WORKS_ON, CONTROLS, SUPERVISION, DEPENDENTS_OF</a:t>
            </a:r>
            <a:endParaRPr b="0" lang="en-US" sz="1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5" name="Picture 4" descr="fig03_02"/>
          <p:cNvPicPr/>
          <p:nvPr/>
        </p:nvPicPr>
        <p:blipFill>
          <a:blip r:embed="rId1"/>
          <a:stretch/>
        </p:blipFill>
        <p:spPr>
          <a:xfrm>
            <a:off x="1981080" y="1565280"/>
            <a:ext cx="5181840" cy="499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89757A5B-5BDB-46DF-851D-37A812A36104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Discussion on Relationship Typ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 the refined design, some attributes from the initial entity types are refined into relationship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Manager of DEPARTMENT -&gt; MANAGE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Works_on of EMPLOYEE -&gt; WORKS_ON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Department of EMPLOYEE -&gt; WORKS_FOR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etc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 general, more than one relationship type can exist between the same participating entity type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MANAGES and WORKS_FOR are distinct relationship types between EMPLOYEE and DEPARTMENT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Different meanings and different relationship instances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2185C730-490C-4724-A682-3C4DFB0F9184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Recursive Relationship Typ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 relationship type whose with the same participating entity type in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stinct ro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: the SUPERVISION relationship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MPLOYEE participates twice in two distinct role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supervisor (or boss) role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supervisee (or subordinate) role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ch relationship instance relates two distinct EMPLOYEE entitie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One employee in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supervisor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role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One employee in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supervisee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role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C401EC6F-9361-4877-80C5-18BE212938F1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Weak Entity Typ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 entity that does not have a key attribut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weak entity must participate in an identifying relationship type with an owner or identifying entity typ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tities are identified by the combination of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A partial key of the weak entity type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e particular entity they are related to in the identifying entity type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ple: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A DEPENDENT entity is identified by the dependent’s first name, </a:t>
            </a: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the specific EMPLOYEE with whom the dependent is related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Name of DEPENDENT is the </a:t>
            </a: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partial key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DEPENDENT is a </a:t>
            </a:r>
            <a:r>
              <a:rPr b="0" i="1" lang="en-US" sz="2000" spc="-1" strike="noStrike">
                <a:solidFill>
                  <a:srgbClr val="800000"/>
                </a:solidFill>
                <a:latin typeface="Arial"/>
              </a:rPr>
              <a:t>weak entity type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EMPLOYEE is its identifying entity type via the identifying relationship type DEPENDENT_OF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6DC03EDA-DF11-4E01-A096-C5BFC02984A4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hapter Outlin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verview of Database Design Proces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 Database Application (COMPANY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R Model Concep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Entities and Attribute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Entity Types, Value Sets, and Key Attribute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Relationships and Relationship Type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Weak Entity Type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Roles and Attributes in Relationship Type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R Diagrams - Not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R Diagram for COMPANY Schema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ternative Notations – UML class diagrams, other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82E92303-6620-4D2E-89FC-F9A9ADFCCC65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onstraints on Relationship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traints on Relationship Typ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(Also known as ratio constraints)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Cardinality Ratio (specifies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maximum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participation)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ne-to-one (1:1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ne-to-many (1:N) or Many-to-one (N:1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ny-to-many (M:N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Existence Dependency Constraint (specifies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minimum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participation) (also called participation constraint)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zero (optional participation, not existence-dependent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ne or more (mandatory participation, existence-dependent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B74CBE52-7D14-4822-8EA2-56F1187C8FC3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325440"/>
            <a:ext cx="8418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Many-to-one (N:1) Relationship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90" name="Picture 1054" descr="fig03_09"/>
          <p:cNvPicPr/>
          <p:nvPr/>
        </p:nvPicPr>
        <p:blipFill>
          <a:blip r:embed="rId1"/>
          <a:stretch/>
        </p:blipFill>
        <p:spPr>
          <a:xfrm>
            <a:off x="533520" y="1692360"/>
            <a:ext cx="7772400" cy="46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599AD75D-5791-4D97-BC03-79629A89510E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97000" y="85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Many-to-many (M:N) Relationship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93" name="Picture 1062" descr="fig03_13"/>
          <p:cNvPicPr/>
          <p:nvPr/>
        </p:nvPicPr>
        <p:blipFill>
          <a:blip r:embed="rId1"/>
          <a:stretch/>
        </p:blipFill>
        <p:spPr>
          <a:xfrm>
            <a:off x="1447920" y="1676520"/>
            <a:ext cx="6781680" cy="46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F2D7F08A-A707-43CD-94AA-0B3E07150B5D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Displaying a recursive relationship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 a recursive relationship type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Both participations are same entity type in different roles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For example, SUPERVISION relationships between EMPLOYEE (in role of supervisor or boss) and (another) EMPLOYEE (in role of subordinate or worker)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 following figure, first role participation labeled with 1 and second role participation labeled with 2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 ER diagram, need to display role names to distinguish participation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A0AE2666-77EB-4352-9850-A72E60AE02D2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74840" y="-76320"/>
            <a:ext cx="836424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A Recursive Relationship Supervision`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99" name="Picture 1074" descr="fig03_11"/>
          <p:cNvPicPr/>
          <p:nvPr/>
        </p:nvPicPr>
        <p:blipFill>
          <a:blip r:embed="rId1"/>
          <a:stretch/>
        </p:blipFill>
        <p:spPr>
          <a:xfrm>
            <a:off x="550800" y="1752480"/>
            <a:ext cx="7755120" cy="457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F3729431-4B3D-409A-AD20-04C19E9EF90C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2080" y="216000"/>
            <a:ext cx="794052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Recursive Relationship Type is: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UPERVISION</a:t>
            </a:r>
            <a:br>
              <a:rPr sz="24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(participation role names are shown)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02" name="Picture 4" descr="fig03_02"/>
          <p:cNvPicPr/>
          <p:nvPr/>
        </p:nvPicPr>
        <p:blipFill>
          <a:blip r:embed="rId1"/>
          <a:stretch/>
        </p:blipFill>
        <p:spPr>
          <a:xfrm>
            <a:off x="1828800" y="1523880"/>
            <a:ext cx="5156280" cy="49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5655EC80-0864-454C-A8CD-9E85D7AF9661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Attributes of Relationship typ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relationship type can have attributes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For example, HoursPerWeek of WORKS_ON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Its value for each relationship instance describes the number of hours per week that an EMPLOYEE works on a PROJECT.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value of HoursPerWeek depends on a particular (employee, project) combin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Most relationship attributes are used with M:N relationships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 1:N relationships, they can be transferred to the entity type on the N-side of the relationship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AA4D171A-82B9-4553-A712-269FC6926B57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Example Attribute of a Relationship Type: </a:t>
            </a:r>
            <a:br>
              <a:rPr sz="3600"/>
            </a:b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Hours of WORKS_ON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08" name="Picture 4" descr="fig03_02"/>
          <p:cNvPicPr/>
          <p:nvPr/>
        </p:nvPicPr>
        <p:blipFill>
          <a:blip r:embed="rId1"/>
          <a:stretch/>
        </p:blipFill>
        <p:spPr>
          <a:xfrm>
            <a:off x="2209680" y="1579680"/>
            <a:ext cx="507996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67985998-1FDF-4870-BA7E-C109EEE97168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Notation for Constraints on Relationship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rdinality ratio (of a binary relationship): 1:1, 1:N, N:1, or M: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Shown by placing appropriate numbers on the relationship edges.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articipation constraint (on each participating entity type): total (called existence dependency) or partial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Total shown by double line, partial by single line.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TE: These are easy to specify for Binary Relationship Type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97EADFA5-6B16-4345-AFB8-90985D8FAC13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Alternative (min, max) notation for relationship structural constraints: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pecified on each participation of an entity type E in a relationship type 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pecifies that each entity e in E participates in at least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and at most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relationship instances in 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fault(no constraint): min=0, max=n (signifying no limit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ust have min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x, min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0, max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rived from the knowledge of mini-world constraint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A department has exactly one manager and an employee can manage at most one department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pecify (0,1) for participation of EMPLOYEE in MANAG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pecify (1,1) for participation of DEPARTMENT in MANAG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An employee can work for exactly one department but a department can have any number of employees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pecify (1,1) for participation of EMPLOYEE in WORKS_FOR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pecify (0,n) for participation of DEPARTMENT in WORKS_FOR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CEA0F240-9375-4E9B-80B1-D905E0BD1CBF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Overview of Database Design Proces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wo main activities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Database design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Applications design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cus in this chapter on database desig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To design the conceptual schema for a database application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pplications design focuses on the programs and interfaces that access the databa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Generally considered part of software engineering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64551F51-6E16-4560-9109-A68BAF9AFBCF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The (min,max) notation for relationship constraint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17" name="Picture 27" descr="Slide3-40"/>
          <p:cNvPicPr/>
          <p:nvPr/>
        </p:nvPicPr>
        <p:blipFill>
          <a:blip r:embed="rId1"/>
          <a:stretch/>
        </p:blipFill>
        <p:spPr>
          <a:xfrm>
            <a:off x="608040" y="2209680"/>
            <a:ext cx="7773840" cy="28688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28"/>
          <p:cNvSpPr/>
          <p:nvPr/>
        </p:nvSpPr>
        <p:spPr>
          <a:xfrm>
            <a:off x="1295280" y="541008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 min,max numbers next to the entity type and look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way 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tity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CDBA75C1-8D15-4E87-85E6-30AEAE781A58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920" y="303120"/>
            <a:ext cx="8534160" cy="8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MPANY ER Schema Diagram using (min, max) notation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21" name="Picture 4" descr="fig03_15"/>
          <p:cNvPicPr/>
          <p:nvPr/>
        </p:nvPicPr>
        <p:blipFill>
          <a:blip r:embed="rId1"/>
          <a:stretch/>
        </p:blipFill>
        <p:spPr>
          <a:xfrm>
            <a:off x="2043000" y="1600200"/>
            <a:ext cx="4586400" cy="48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BB292578-004F-4E23-9452-6E0738E763AD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Alternative diagrammatic notation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R diagrams is one popular example for displaying database schema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ny other notations exist in the literature and in various database design and modeling too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ppendix A illustrates some of the alternative notations that have been use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ML class diagrams is representative of another way of displaying ER concepts that is used in several commercial design too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E23B3864-7657-4FF9-88E2-B6505BEA9D61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ummary of notation for ER diagram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27" name="Picture 4" descr="fig03_14"/>
          <p:cNvPicPr/>
          <p:nvPr/>
        </p:nvPicPr>
        <p:blipFill>
          <a:blip r:embed="rId1"/>
          <a:stretch/>
        </p:blipFill>
        <p:spPr>
          <a:xfrm>
            <a:off x="2570040" y="1600200"/>
            <a:ext cx="375444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AEF8E564-9F86-4F9A-B6FD-E270467C4A05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UML class diagram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present classes (similar to entity types) as large rounded boxes with three section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Top section includes entity type (class) name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Second section includes attribute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Third section includes class operations (operations are not in basic ER model)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lationships (called associations) represented as lines connecting the class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Other UML terminology also differs from ER terminology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sed in database design and object-oriented software desig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ML has many other types of diagrams for software design (see Chapter 12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403F6F17-7B61-4916-80B7-63C8420B9AA7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UML class diagram for COMPANY database schema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33" name="Picture 4" descr="fig03_16"/>
          <p:cNvPicPr/>
          <p:nvPr/>
        </p:nvPicPr>
        <p:blipFill>
          <a:blip r:embed="rId1"/>
          <a:stretch/>
        </p:blipFill>
        <p:spPr>
          <a:xfrm>
            <a:off x="1170000" y="1600200"/>
            <a:ext cx="6854760" cy="48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B2D448FA-0C1C-4218-AB1A-C7DA0A91FBC4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Other alternative diagrammatic notation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36" name="Picture 4" descr="figA_01"/>
          <p:cNvPicPr/>
          <p:nvPr/>
        </p:nvPicPr>
        <p:blipFill>
          <a:blip r:embed="rId1"/>
          <a:stretch/>
        </p:blipFill>
        <p:spPr>
          <a:xfrm>
            <a:off x="2206800" y="1523880"/>
            <a:ext cx="4041720" cy="50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2C30FC98-199A-4AE2-8860-4B298253EED0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Relationships of Higher Degre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lationship types of degree 2 are called binar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lationship types of degree 3 are called ternary and of degree n are called n-ar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 general, an n-ary relationship is not equivalent to n binary relationship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straints are harder to specify for higher-degree relationships (n &gt; 2) than for binary relationship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46B98D82-1D49-4274-9162-C347188F7C61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Discussion of n-ary relationships (n &gt; 2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 general, 3 binary relationships can represent different information than a single ternary relationship (see Figure 3.17a and b on next slide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needed, the binary and n-ary relationships can all be included in the schema design (see Figure 3.17a and b, where all relationships convey different meanings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 some cases, a ternary relationship can be represented as a weak entity if the data model allows a weak entity type to have multiple identifying relationships (and hence multiple owner entity types) (see Figure 3.17c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5468E54D-B404-4F12-BEA8-2007987646B4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Example of a ternary relationship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5" name="Picture 1029" descr="fig03_17"/>
          <p:cNvPicPr/>
          <p:nvPr/>
        </p:nvPicPr>
        <p:blipFill>
          <a:blip r:embed="rId1"/>
          <a:stretch/>
        </p:blipFill>
        <p:spPr>
          <a:xfrm>
            <a:off x="2362320" y="1523880"/>
            <a:ext cx="41958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81688DB0-9AB4-40AC-8B85-1EDA550A0C99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Overview of Database Design Proces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1" name="Picture 4" descr="fig03_01"/>
          <p:cNvPicPr/>
          <p:nvPr/>
        </p:nvPicPr>
        <p:blipFill>
          <a:blip r:embed="rId1"/>
          <a:stretch/>
        </p:blipFill>
        <p:spPr>
          <a:xfrm>
            <a:off x="2057400" y="1523880"/>
            <a:ext cx="5272200" cy="50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837FCC37-4F60-4EE6-89CC-CE30937D69C1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Discussion of n-ary relationships (n &gt; 2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a particular binary relationship can be derived from a higher-degree relationship at all times, then it is redundan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r example, the TAUGHT_DURING binary relationship in Figure 3.18 (see next slide) can be derived from the ternary relationship OFFERS (based on the meaning of the relationships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35CCC1FE-85C2-48FB-BB8A-5634CE4E981C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nother example of a ternary relationship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51" name="Picture 1029" descr="fig03_18"/>
          <p:cNvPicPr/>
          <p:nvPr/>
        </p:nvPicPr>
        <p:blipFill>
          <a:blip r:embed="rId1"/>
          <a:stretch/>
        </p:blipFill>
        <p:spPr>
          <a:xfrm>
            <a:off x="316080" y="1905120"/>
            <a:ext cx="79898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069D64A5-4421-4554-AF3E-21A6C33AD79B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Displaying constraints on higher-degree relationship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(min, max) constraints can be displayed on the edges – however, they do not fully describe the constrain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splaying a 1, M, or N indicates additional constrain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n M or N indicates no constraint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 1 indicates that an entity can participate in at most one relationship instance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that has a particular combination of the other participating entitie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 general, both (min, max) and 1, M, or N are needed to describe fully the constrain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71D97972-7B10-4CA3-8744-848CA4B9D28C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Data Modeling Tool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number of popular tools that cover conceptual modeling and mapping into relational schema design.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Examples: ERWin, S- Designer (Enterprise Application Suite), ER- Studio,  etc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SITIVES: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Serves as documentation of application requirements, easy user interface - mostly graphics editor support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GATIVE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Most tools lack a proper distinct notation for relationships with relationship attribute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Mostly represent a relational design in a diagrammatic form rather than a conceptual ER-based design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(See Chapter 12 for details)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7200B476-7530-46CC-BEE2-99BBDBE033B8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914400" y="396720"/>
            <a:ext cx="72882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Some of the Currently Available Automated Database Design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28600" y="1447920"/>
          <a:ext cx="8664480" cy="5045040"/>
        </p:xfrm>
        <a:graphic>
          <a:graphicData uri="http://schemas.openxmlformats.org/drawingml/2006/table">
            <a:tbl>
              <a:tblPr/>
              <a:tblGrid>
                <a:gridCol w="1446120"/>
                <a:gridCol w="2712960"/>
                <a:gridCol w="4505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COMP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T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FUNCTIONA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Embarcadero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ER Stu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Database Modeling in ER and IDEF1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DB Artis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Database administration, space and security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Ora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Developer 2000/Designer 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Database modeling, application develo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Popkin Soft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System Architect 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Data modeling, object modeling, process modeling, structured analysis/desig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Platinum (Computer Associates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Enterprise Modeling Suite: Erwin, BPWin, Paradigm P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Data, process, and business component mode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Persistence In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Pwerti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Mapping from O-O to relational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Rational (IB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Rational R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UML Modeling &amp; application generation in C++/JA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Resolution Lt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Xc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Conceptual modeling up to code 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Syb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Enterprise Application Su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Data modeling, business logic mode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Vis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Visio Enterpr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Data modeling, design/reengineering Visual Basic/C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38D1D0E2-4962-4932-BE7E-762D47156889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Extended Entity-Relationship (EER) Model (in next chapter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entity relationship model in its original form did not support the specialization and generalization abstracti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chapter illustrates how the ER model can be extended with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Type-subtype and set-subset relationships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Specialization/Generalization Hierarchies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Notation to display them in EER diagrams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BCF81133-EA2E-483A-AD46-D5C16A3A52C7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hapter Summary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R Model Concepts: Entities, attributes, relationship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straints in the ER mod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ing ER in step-by-step conceptual schema design for the COMPANY databa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R Diagrams - Not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ternative Notations – UML class diagrams, othe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48250A8C-B49C-428B-9AB1-EC0A58072F1B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Example COMPANY Databas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e need to create a database schema design based on the following (simplified)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quirement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of the COMPANY Database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The company is organized into DEPARTMENTs. Each department has a name, number and an employee who </a:t>
            </a:r>
            <a:r>
              <a:rPr b="0" i="1" lang="en-US" sz="2600" spc="-1" strike="noStrike">
                <a:solidFill>
                  <a:srgbClr val="800000"/>
                </a:solidFill>
                <a:latin typeface="Arial"/>
              </a:rPr>
              <a:t>manages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the department. We keep track of the start date of the department manager. A department may have several locations.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Each department </a:t>
            </a:r>
            <a:r>
              <a:rPr b="0" i="1" lang="en-US" sz="2600" spc="-1" strike="noStrike">
                <a:solidFill>
                  <a:srgbClr val="800000"/>
                </a:solidFill>
                <a:latin typeface="Arial"/>
              </a:rPr>
              <a:t>controls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a number of PROJECTs. Each project has a unique name, unique number and is located at a single location.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1BDC9DAA-4446-4B05-9A20-4303CE5157CA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Example COMPANY Database (Contd.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We store each EMPLOYEE’s social security number, address, salary, sex, and birthdate.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ch employe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works for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ne department but may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work o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everal projects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 keep track of the number of hours per week that an employee currently works on each project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 also keep track of th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direct supervisor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f each employee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Each employee may </a:t>
            </a:r>
            <a:r>
              <a:rPr b="0" i="1" lang="en-US" sz="2600" spc="-1" strike="noStrike">
                <a:solidFill>
                  <a:srgbClr val="800000"/>
                </a:solidFill>
                <a:latin typeface="Arial"/>
              </a:rPr>
              <a:t>have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a number of DEPENDENTs.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 each dependent, we keep track of their name, sex, birthdate, and relationship to the employee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749DAA1E-86FC-4613-8ACC-981A19BDDD89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ER Model Concept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ntities and Attribut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Entities are specific objects or things in the mini-world that are represented in the database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r example the EMPLOYEE John Smith, the Research DEPARTMENT, the ProductX PROJEC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ttributes are properties used to describe an entity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r example an EMPLOYEE entity may have the attributes Name, SSN, Address, Sex, BirthDat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 specific entity will have a value for each of its attributes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r example a specific employee entity may have Name='John Smith', SSN='123456789', Address ='731, Fondren, Houston, TX', Sex='M', BirthDate='09-JAN-55‘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Each attribute has a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value set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(or data type) associated with it – e.g. integer, string, subrange, enumerated type, …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3- </a:t>
            </a:r>
            <a:fld id="{6577A813-347C-4395-BFB6-39A4CC2ACC51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Types of Attributes (1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800000"/>
                </a:solidFill>
                <a:latin typeface="Arial"/>
              </a:rPr>
              <a:t>Each entity has a single atomic value for the attribute. For example, SSN or Sex.</a:t>
            </a:r>
            <a:endParaRPr b="0" lang="en-US" sz="21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osi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800000"/>
                </a:solidFill>
                <a:latin typeface="Arial"/>
              </a:rPr>
              <a:t>The attribute may be composed of several components. For example:</a:t>
            </a:r>
            <a:endParaRPr b="0" lang="en-US" sz="21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Address(Apt#, House#, Street, City, State, ZipCode, Country), or</a:t>
            </a:r>
            <a:endParaRPr b="0" lang="en-US" sz="19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Name(FirstName, MiddleName, LastName).</a:t>
            </a:r>
            <a:endParaRPr b="0" lang="en-US" sz="19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position may form a hierarchy where some components are themselves composite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ulti-value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800000"/>
                </a:solidFill>
                <a:latin typeface="Arial"/>
              </a:rPr>
              <a:t>An entity may have multiple values for that attribute. For example, Color of a CAR or PreviousDegrees of a STUDENT.</a:t>
            </a:r>
            <a:endParaRPr b="0" lang="en-US" sz="21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noted as {Color} or {PreviousDegrees}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9:46:41Z</dcterms:created>
  <dc:creator>Elmasri/Navathe</dc:creator>
  <dc:description/>
  <cp:keywords/>
  <dc:language>en-US</dc:language>
  <cp:lastModifiedBy>DIU</cp:lastModifiedBy>
  <cp:lastPrinted>2001-11-04T00:51:13Z</cp:lastPrinted>
  <dcterms:modified xsi:type="dcterms:W3CDTF">2024-07-17T06:54:55Z</dcterms:modified>
  <cp:revision>62</cp:revision>
  <dc:subject>Data Modeling Using the Entity-Relationship (ER) Model</dc:subject>
  <dc:title>Chapter 3</dc:title>
</cp:coreProperties>
</file>