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2132-0D3B-419B-95C5-2EF199F5C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B143-23CA-4190-BB6A-7964504B7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02A7-FC53-40ED-89DF-02CA2BCE0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95B5-9284-445F-ACAF-40CFA5A3B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6CF-36CA-4C2C-A82C-76C38DFF0E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F74-E93D-46ED-85DB-2EDC03EFB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4C0-4D16-4D9B-A7EC-AC6C14E31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787-133F-4A42-A2BD-BE902E81E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7BC-2088-4C52-AD4C-454449A267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E04-F609-4E35-ACEA-60FEF617E9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86A-2ABF-49A2-8DAA-EF891CB54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2D38-6890-4E43-871E-09BACFC14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AC2-251F-41B2-A9B5-93BF10A884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31F-1EEB-4479-8495-B67160710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0B5-57A1-4EF8-830F-6068C78187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EC7-EBBB-4720-BFD9-1ED614AF1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996-D787-4FFA-AD50-D3B64A1B1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C424-F496-4C08-8D84-9655DE5AA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CDD2-1F5F-4277-86B0-2CDB4C400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95BE-1D03-44F8-8F86-9476A4DA6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3DD3-3F9A-4DF4-A44E-543598694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04AD-92D5-44BB-A529-E3CCDCC14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B8A7-C9A3-4607-BFBD-7C96D3B25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0720-F0E5-4F51-880C-D8EB241D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503-A86B-4AB3-9613-F9C5647AB85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512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56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3.</a:t>
            </a:r>
            <a:fld id="{2D7ED08D-ACAF-4FC5-9B57-C6BF05CF37D8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40" y="6613560"/>
            <a:ext cx="34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5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, June 15, 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0240" cy="878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AB1-AFA2-4915-B483-5BC5BB1219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7560" y="5726160"/>
            <a:ext cx="36252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5th 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8720" cy="74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8066160" cy="51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 the attributes desired in the result of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projection operation of the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s of all branch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elational algebra, the query would b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SQL names are case insensitive (i.e., you may use upper- or lower-case letters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use upper case wherever we use bold f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duplicates in relations as well as in query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ce the elimination of duplicates, insert the keywor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stin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, and remove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that duplicates not be remov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terisk in the select clause denotes “all attribu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can contain arithmetic expressions involving the operation, +, –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/, and operating on constants or attributes of 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, branch_name, amou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return a relation that is the same a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, except that the value of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multiplied by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specifies conditions that the result must 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selection predicate of the relational algebr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all loan number for loans made at the Perryridge branch with loan amounts greater than $1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results can be combined using the logical connecti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, o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can be applied to results of arithmetic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089920" cy="19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ncludes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is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Find the loan number of those loans with loan amounts between $90,000 and $100,000 (that is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0,000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5840" y="218124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_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7631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lists the relations involved i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Cartesian product operation of the relational alge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artesian produ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X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0040" y="2838600"/>
            <a:ext cx="82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, loan number and loan amount of all customers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having a loan at the Perryridge bran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1240" y="3718080"/>
            <a:ext cx="664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borrower.loan_number, am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15120" cy="24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L allows renaming relations and attributes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ld-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new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, loan number and loan amount of all customers; rename the column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9720" y="2955960"/>
            <a:ext cx="75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borrower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id, am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ple Variab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5760" y="1108080"/>
            <a:ext cx="7661160" cy="14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variables are defined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via the u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ustomer names and their loan numbers for all customers having a loan at som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45482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assets &gt; S.asse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branch_city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8880" y="3637080"/>
            <a:ext cx="75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that have greater assets th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ome branch located in Brookly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9960" y="2652840"/>
            <a:ext cx="5292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T.loan_number, S.am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loan_number = S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ncludes a string-matching operator for comparisons on character strings.  The operator “like” uses patterns that are described using two special 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 (%).  The % character matches any subst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core (_).  The _ character matches any charac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se street includes the substring “Ma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_stre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Main%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name “Main%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\%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cape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upports a variety of string operations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atenation (using “||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ing from upper to lower case (and vice ver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string length, extracting substring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ing the Display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107720"/>
            <a:ext cx="76615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n alphabetic order the names of all customers having a loan in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loan_number = loan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specify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scending order o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scending order, for each attribute; ascending order is the de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9280" y="1104840"/>
            <a:ext cx="741348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Que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Sub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ed Relations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s with duplicates, SQL can define how many copies of tuples appear in the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lti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of some of the relational algebra operators – given multiset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isfies sele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copy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copy of tu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s the projection of the single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he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3960" y="1104840"/>
            <a:ext cx="699156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uppose multiset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2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2), (3), (3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ould be {(a), (a)}, whi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duplicate semant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quivalent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ion of the exp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682720" y="5108400"/>
                <a:ext cx="3640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peration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ers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 on relations and correspond to the relational algebra operatio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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the above operations automatically eliminates duplicates; to retain all duplicates use the corresponding multiset version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on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ersect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cept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uple occu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it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(0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– 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2600" y="37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 loan, an account, 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4640" y="4707000"/>
            <a:ext cx="622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23600" y="3137040"/>
            <a:ext cx="425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4480" y="4222800"/>
            <a:ext cx="6581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but no loa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0400" y="1535040"/>
            <a:ext cx="472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040" y="2678040"/>
            <a:ext cx="62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 loan and an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01064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unctions operate on the multiset of values of a column of a relation, and return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account balance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214880"/>
            <a:ext cx="47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depositors in the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880" y="2813040"/>
            <a:ext cx="70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tupl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72440" y="1660680"/>
            <a:ext cx="46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v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balan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9840" y="3341520"/>
            <a:ext cx="26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0720" y="472428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 (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Group B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960" y="1160280"/>
            <a:ext cx="8070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depositors for each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3503520"/>
            <a:ext cx="79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Attribut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outside of aggregate functions must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appear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8000" y="175896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(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 account.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400" y="33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Having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4320" y="1193760"/>
            <a:ext cx="766152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where the average account balance is more than $1,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800" y="3659040"/>
            <a:ext cx="76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predica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are applied after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formation of groups whereas predica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clause are applied before form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7960" y="211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av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8996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for tuples to have a null value, deno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of thei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ifies an unknown value or that a value does not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check for null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all loan number which appear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null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any arithmetic express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5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turn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aggregate functions simply ignore nu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68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Three Valued Logi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omparison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5 &lt; null   or   null &lt;&gt; null    or    null =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-valued logic using the truth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) = unknown,    (fa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) = fals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(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nknow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s to true if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predicate is treate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equel language developed as part of System R project at the IBM San Jose Research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d Structured Query Language 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and ISO standard SQ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(language name became Y2K complian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offer most, if not all, SQL-92 features, plus varying feature sets from later standards and special proprietary featu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examples here may work on your particu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Aggreg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094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ll loan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statement ignores null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is no non-nul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ggregate operations excep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(*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gnore tuples with null values on the aggregated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provides a mechanism for the nesting of sub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query is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lect-from-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ression that is nested within another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on use of subqueries is to perform tests for set membership, set comparisons, and set cardin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1080" y="1109160"/>
            <a:ext cx="7661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n account and a loan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8880" y="359568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 loan at the bank but do not ha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an account at th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3480" y="4519440"/>
            <a:ext cx="66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53640" y="1952640"/>
            <a:ext cx="62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n account and a loan at the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3040" y="50864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ve query can be written in a much simpler manner. 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formulation above is simply to illustrate SQL fe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1160" y="2066760"/>
            <a:ext cx="666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account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26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Comparis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branches that have greater assets than some branch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800" y="3411360"/>
            <a:ext cx="72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query using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8880" y="3970440"/>
            <a:ext cx="526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city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52640" y="1957320"/>
            <a:ext cx="52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,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assets &gt; S.asse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branch_city = </a:t>
            </a: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52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 Som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6800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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&lt;comp&gt; can b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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04920" y="1952640"/>
            <a:ext cx="457200" cy="1066320"/>
            <a:chOff x="2104920" y="1952640"/>
            <a:chExt cx="457200" cy="1066320"/>
          </a:xfrm>
        </p:grpSpPr>
        <p:sp>
          <p:nvSpPr>
            <p:cNvPr id="196" name=""/>
            <p:cNvSpPr/>
            <p:nvPr/>
          </p:nvSpPr>
          <p:spPr>
            <a:xfrm>
              <a:off x="2104920" y="195264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4920" y="22726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4920" y="2646000"/>
              <a:ext cx="457200" cy="372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0160" y="22575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38440" y="2257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04920" y="317196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04920" y="3476520"/>
            <a:ext cx="457200" cy="29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04920" y="393048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38440" y="341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04920" y="423540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04920" y="477216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04920" y="50767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9640" y="5000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38440" y="5000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8600" y="2486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:  5 &lt; some tuple in the rel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4560" y="34020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38440" y="4159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5960" y="41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8360" y="5472000"/>
            <a:ext cx="68007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819160" y="5840280"/>
            <a:ext cx="12204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that have greater assets than all branches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9960" y="2039760"/>
            <a:ext cx="522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Brooklyn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all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3680" y="1122480"/>
            <a:ext cx="663876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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619360" y="1752480"/>
            <a:ext cx="457200" cy="1067040"/>
            <a:chOff x="2619360" y="1752480"/>
            <a:chExt cx="457200" cy="1067040"/>
          </a:xfrm>
        </p:grpSpPr>
        <p:sp>
          <p:nvSpPr>
            <p:cNvPr id="222" name=""/>
            <p:cNvSpPr/>
            <p:nvPr/>
          </p:nvSpPr>
          <p:spPr>
            <a:xfrm>
              <a:off x="2619360" y="17524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19360" y="207252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19360" y="244620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59372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5288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9360" y="297180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9360" y="3276720"/>
            <a:ext cx="457200" cy="296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19360" y="373068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52880" y="32162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9360" y="40356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19360" y="45720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19360" y="48769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0496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6404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and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3228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52880" y="3959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0496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38400" y="5257800"/>
            <a:ext cx="6800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015720" y="5603760"/>
            <a:ext cx="109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Empty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returns the val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rgument subquery is nonemp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xis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102708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at all branches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8760" y="1951200"/>
            <a:ext cx="729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not exi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Brooklyn’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account_number = R.account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customer_name = T.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560" y="5230800"/>
            <a:ext cx="61711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– Y = Ø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write this query us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23640" y="1898640"/>
            <a:ext cx="663732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a for each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main of values associated with each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indices to be maintained for each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nd authorization information for each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ysical storage structure of each relation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800" y="110664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he specification of not only a set of relations but also information about each relation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12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Absence of Duplicate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14320" y="1112400"/>
            <a:ext cx="758664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tests whether a subquery has any duplicate tuples in its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t most one account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ni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,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customer_name = R.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ccount_number = account.account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ranch_name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t least two accounts at the Perryridge bran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2880" y="2003400"/>
            <a:ext cx="729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not 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customer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 = R.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ccount_number = account.account_numbe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rived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a subquery expression to be used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account balance of those branches where the average account balance is greater than $1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avg_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avg_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g_balance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we do not need to u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, since we compute the temporary (view)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, and the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directly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provides a way of defining a temporary view whose definition is available only to the query in which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occ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accounts with the maximum balanc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_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max_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 = max_balance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Query using 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4320" y="1147680"/>
            <a:ext cx="766152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branches where the total account deposit is greater than the average of the total account deposits at all bra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36800" y="1932120"/>
            <a:ext cx="732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_av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total.value &gt;= branch_total_avg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84872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, it is not desirable for all users to see the entire logical model (that is, all the actual relations stored in the databa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person who needs to know a customer’s loan number but has no need to see the loan amount.  This person should see a relation described, in SQL,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a mechanism to hide certain data from the view of certain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relation that is not of the conceptual model but is made visible to a user as a “virtual relation” is called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305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is defined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which ha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express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&lt;query expression&gt; is any legal SQL expression.  The view name is represen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view is defined, the view name can be used to refer to the virtual relation that the view gene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definition is not the same as creating a new relation by evaluating the query expres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, a view definition causes the saving of an expression; the expression is substituted into queries using the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962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consisting of branches and thei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0960" y="4338720"/>
            <a:ext cx="63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of the Perryridg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2360" y="1574640"/>
            <a:ext cx="697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38800" y="4738680"/>
            <a:ext cx="46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 Defined Using Other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view may be used in the expression defining another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depend directl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in the expression def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depend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direct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r there is a path of dependencies from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recur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depends on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Expan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ay to define the meaning of views defined in terms of other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defined by an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ay itself contain uses of view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expansion of an expression repeats the following replacement st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y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e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expression def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more view relations are presen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long as the view definitions are not recursive, this loop will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Typ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ar(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length character string, with user-specifie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archar(n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 length character strings, with user-specified maximum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(a finite subset of the integers that is machine-depend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malli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ll integer (a machine-dependent subset of the integer domain typ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umeric(p,d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point number, with user-specified preci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,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 to the right of decimal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l, double precis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oating point and double-precision floating point numbers, with machine-dependent pre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oat(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oating point number, with user-specified precision of at lea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re covered in Chapter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9720" y="331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7468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 tuples at the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s at every branch located in the city ‘Needham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280" y="1109520"/>
            <a:ext cx="76611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record of all accounts with balances below the average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20880" y="2160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6440" y="3521160"/>
            <a:ext cx="81406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 as we delete tuples from deposit, the average balanc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used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First, compu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 and find all tuples to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Next, delete all tuples found above (without recomp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retesting the tu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69480" y="1778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A-9732’, ‘Perryridge’,12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quivalentl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balance, 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Perryridge’, 1200, ‘A-973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to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A-777’,‘Perryridge’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8840" y="203040"/>
            <a:ext cx="805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15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 a gift for all loan customers of the Perryridge branch, a $200 savings account.  Let the loan number serve as the account number for the new savings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, branch_name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, 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.account_number = borrower.account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rom 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is evaluated fully before any of its results are inserted into the relation (otherwise queries lik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cause probl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056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ll accounts with balances over $10,000 by 6%, all other accounts receive 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w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= 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etter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-50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e Statement for Conditional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query as before: Increase all accounts with balances over $10,000 by 6%, all other accounts receive 5%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10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1.0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1.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of a 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51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view of all loan data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, hid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Perryridge’, ‘L-307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sertion must be represented by the insertion of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L-307’, ‘Perryridge’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Through View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4320" y="1147680"/>
            <a:ext cx="7066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pdates through views are impossible to translate into updates on the databas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-99’, ‘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town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‘2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cannot be translated uniqu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lu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o choose loan or account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loan/account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QL implementations allow updates only on simple views (without aggregates) defined on a singl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 two relations and return as a result anoth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operations are typically used as subquery expressions in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con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fines which tuples in the two relations match, and what attributes are present in the result of the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fines how tuples in each relation that do not match any tuple in the other relation (based on the join condition) are t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399" t="32022" r="402" b="31486"/>
          <a:stretch/>
        </p:blipFill>
        <p:spPr>
          <a:xfrm>
            <a:off x="1100160" y="4216320"/>
            <a:ext cx="7081920" cy="1954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120" y="165240"/>
            <a:ext cx="828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Datasets for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7200" y="1109160"/>
            <a:ext cx="66387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160" y="1571760"/>
            <a:ext cx="6801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320" y="4189320"/>
            <a:ext cx="6801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orrower information missing for L-260 and loan information missing for L-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399" t="36216" r="598" b="37279"/>
          <a:stretch/>
        </p:blipFill>
        <p:spPr>
          <a:xfrm>
            <a:off x="981000" y="2265480"/>
            <a:ext cx="7580520" cy="1522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able Constr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4040" y="1127160"/>
            <a:ext cx="71625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SQL relation is defined using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eate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ttribute name in the schema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ata type of values in the domain of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15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3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3836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8720" y="1098360"/>
            <a:ext cx="661968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loan_number = borrower.loan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7080" y="3300480"/>
            <a:ext cx="6801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outer jo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loan_number = borrower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827" t="38677" r="413" b="39228"/>
          <a:stretch/>
        </p:blipFill>
        <p:spPr>
          <a:xfrm>
            <a:off x="947880" y="4181400"/>
            <a:ext cx="7235640" cy="12146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2"/>
          <a:srcRect l="591" t="41473" r="395" b="41994"/>
          <a:stretch/>
        </p:blipFill>
        <p:spPr>
          <a:xfrm>
            <a:off x="947880" y="1928880"/>
            <a:ext cx="7985160" cy="1000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8360" y="1093680"/>
            <a:ext cx="6638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inner 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3040" y="3233880"/>
            <a:ext cx="6800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ural right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591" t="41473" r="395" b="41994"/>
          <a:stretch/>
        </p:blipFill>
        <p:spPr>
          <a:xfrm>
            <a:off x="1190520" y="1676520"/>
            <a:ext cx="7534440" cy="9428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646" t="36497" r="646" b="36206"/>
          <a:stretch/>
        </p:blipFill>
        <p:spPr>
          <a:xfrm>
            <a:off x="1190520" y="3727440"/>
            <a:ext cx="7164360" cy="1486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15760" y="1117080"/>
            <a:ext cx="663876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389556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either an account or a loan (but not both) at the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37480" y="4782960"/>
            <a:ext cx="66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full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ull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388" t="32835" r="580" b="33095"/>
          <a:stretch/>
        </p:blipFill>
        <p:spPr>
          <a:xfrm>
            <a:off x="946080" y="1765440"/>
            <a:ext cx="7296120" cy="18828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: Database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city, as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customer_street, customer_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an_numb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name, 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, loan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, 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0880" y="658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3: Tuples inserted into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loa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orrow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428" t="19432" r="642" b="20288"/>
          <a:stretch/>
        </p:blipFill>
        <p:spPr>
          <a:xfrm>
            <a:off x="1106640" y="1528920"/>
            <a:ext cx="7127640" cy="3257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8800" y="4726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4: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loa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orrowe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399" t="36216" r="598" b="37279"/>
          <a:stretch/>
        </p:blipFill>
        <p:spPr>
          <a:xfrm>
            <a:off x="1054080" y="2149560"/>
            <a:ext cx="7580160" cy="1522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 in Create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3680" y="1098360"/>
            <a:ext cx="6638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480" y="2395440"/>
            <a:ext cx="6800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primary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ensure that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n-neg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1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3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tion on an attribute automatically ens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-92 onwards, needs to be explicitly stated in SQL-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38504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rop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deletes all information about the dropped relation from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is used to add attributes to an existing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the attribute to be added to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uples in the relation are assign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value for the new attribu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an also be used to drop attributes of a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an attribute of 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ping of attributes not supported by man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Query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640640" cy="48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s based on set and relational operations with certain modifications and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SQL query has the for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ed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query is equivalent to the relational algebra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an SQL query is a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02000" y="4692600"/>
                <a:ext cx="388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6:48:44Z</dcterms:created>
  <dc:creator>Marilyn Turnamian</dc:creator>
  <dc:description/>
  <dc:language>en-US</dc:language>
  <cp:lastModifiedBy>as668</cp:lastModifiedBy>
  <cp:lastPrinted>1999-12-01T19:45:26Z</cp:lastPrinted>
  <dcterms:modified xsi:type="dcterms:W3CDTF">2005-08-26T15:38:38Z</dcterms:modified>
  <cp:revision>234</cp:revision>
  <dc:subject/>
  <dc:title>Chapter 4:  SQL</dc:title>
</cp:coreProperties>
</file>