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160" bIns="4716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41CD-B24F-4F02-9EFE-06F1B1972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7162-3714-4DF7-9827-6DBD16B87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C66F-877D-4E7B-9B4E-DCACFC041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DA87-3A1F-459A-A2E4-98442CBCD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D4F-AB77-48BE-BF9C-5FC38B104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DCC-FDBA-4B3C-8A11-A0983AAA7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B8F-A94F-4C4B-84B7-E6CC8F223F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422-1688-4AC8-A438-0DB04C4CD6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C90-05E6-4BB5-AA4A-B842F7873E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CC6-CD34-4FF7-AB38-970DF49082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64F-1630-46E5-A8EA-514919834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4430-FD42-477A-A326-D3BF61915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DC9-1771-459E-B230-509899EA2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1C8-0F7B-4386-9EE2-5E8A87B541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C98-71BB-4D75-A395-639BFF2FA2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E42-342C-4B6C-A1F2-5B76D4FE9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066-F091-4264-9A14-088AEE894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353B-382F-4FB5-B221-216558943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20A7-D70D-4F19-AF73-2452B616E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EBBC-CB46-4FB6-9F57-396355B41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A720-FF11-4E94-85A2-650B91B8A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89FE-27B7-4CA2-9AF8-C157C6F37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C975-1725-41F9-9C57-460469620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2E15-D75C-427B-B6C6-E2DD79F97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D11-A6A5-4E51-BA35-10618DDEDFD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6512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56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3.</a:t>
            </a:r>
            <a:fld id="{E139C599-F1C0-4B73-BF69-CDD81678F50F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40" y="6613560"/>
            <a:ext cx="34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5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, June 15, 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0240" cy="8780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rcRect l="0" t="0" r="0" b="26142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299-CFB7-4264-AA69-3123BA35293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7560" y="5726160"/>
            <a:ext cx="36252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5th 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8720" cy="743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0" t="0" r="0" b="26142"/>
          <a:stretch/>
        </p:blipFill>
        <p:spPr>
          <a:xfrm>
            <a:off x="8528040" y="6053040"/>
            <a:ext cx="615960" cy="614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8066160" cy="51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list the attributes desired in the result of a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projection operation of the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the names of all branch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elational algebra, the query would b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SQL names are case insensitive (i.e., you may use upper- or lower-case letters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use upper case wherever we use bold f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duplicates in relations as well as in query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ce the elimination of duplicates, insert the keywor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istin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se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, and remove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that duplicates not be remov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select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sterisk in the select clause denotes “all attribu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can contain arithmetic expressions involving the operation, +, –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/, and operating on constants or attributes of 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e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, branch_name, amoun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return a relation that is the same a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, except that the value of the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multiplied by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wher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specifies conditions that the result must 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selection predicate of the relational algebr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all loan number for loans made at the Perryridge branch with loan amounts greater than $1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results can be combined using the logical connectiv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, o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can be applied to results of arithmetic expr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where Claus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089920" cy="19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ncludes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etw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aris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Find the loan number of those loans with loan amounts between $90,000 and $100,000 (that is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0,000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5840" y="2181240"/>
            <a:ext cx="713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_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from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7631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lists the relations involved in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s to the Cartesian product operation of the relational alge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artesian produ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X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63504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0040" y="2838600"/>
            <a:ext cx="82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, loan number and loan amount of all customers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having a loan at the Perryridge bran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1240" y="3718080"/>
            <a:ext cx="664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borrower.loan_number, am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Rename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15120" cy="24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L allows renaming relations and attributes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ld-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new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, loan number and loan amount of all customers; rename the column na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9720" y="2955960"/>
            <a:ext cx="75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borrower.loan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id, am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ple Variab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5760" y="1108080"/>
            <a:ext cx="7661160" cy="14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variables are defined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via the u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ustomer names and their loan numbers for all customers having a loan at som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454824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 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assets &gt; S.asse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branch_city = 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ly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8880" y="3637080"/>
            <a:ext cx="75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that have greater assets th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some branch located in Brookly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9960" y="2652840"/>
            <a:ext cx="5292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T.loan_number, S.am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 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.loan_number = S.loan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ring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ncludes a string-matching operator for comparisons on character strings.  The operator “like” uses patterns that are described using two special 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 (%).  The % character matches any subst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core (_).  The _ character matches any charac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customers whose street includes the substring “Mai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stomer_stre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Main%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name “Main%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\%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cape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upports a variety of string operations 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atenation (using “||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ing from upper to lower case (and vice ver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403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string length, extracting substring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ing the Display of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4320" y="1107720"/>
            <a:ext cx="76615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n alphabetic order the names of all customers having a loan in Perryridg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loan_number = loan.loan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branch_name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specify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descending order o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scending order, for each attribute; ascending order is the de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3: 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9280" y="1104840"/>
            <a:ext cx="741348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Que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Sub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Qu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ed Relations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9280" y="1095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lations with duplicates, SQL can define how many copies of tuples appear in the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lti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of some of the relational algebra operators – given multiset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tisfies selec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copy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copy of tup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s the projection of the single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ies of the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uplicat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3960" y="1104840"/>
            <a:ext cx="699156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uppose multiset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2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2), (3), (3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ould be {(a), (a)}, whi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3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duplicate semant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quivalent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ulti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sion of the exp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43676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682720" y="5108400"/>
                <a:ext cx="3640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9280" y="109512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peration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ers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 on relations and correspond to the relational algebra operation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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f the above operations automatically eliminates duplicates; to retain all duplicates use the corresponding multiset version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ion 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ersect 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cept 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uple occu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it occ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(0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– 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2600" y="378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 loan, an account, or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4640" y="4707000"/>
            <a:ext cx="6228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rro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23600" y="3137040"/>
            <a:ext cx="425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rro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4480" y="4222800"/>
            <a:ext cx="6581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but no loa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0400" y="1535040"/>
            <a:ext cx="472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orr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040" y="2678040"/>
            <a:ext cx="62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both a loan and an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01064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unctions operate on the multiset of values of a column of a relation, and return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val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verage account balance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214880"/>
            <a:ext cx="47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depositors in the ba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880" y="2813040"/>
            <a:ext cx="70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tuple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72440" y="1660680"/>
            <a:ext cx="46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v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balan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9840" y="3341520"/>
            <a:ext cx="26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0720" y="472428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count (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Group B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960" y="1160280"/>
            <a:ext cx="8070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depositors for each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5840" y="3503520"/>
            <a:ext cx="79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Attribute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outside of aggregate functions must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appear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8000" y="1758960"/>
            <a:ext cx="78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(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_number = account.account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400" y="33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ggregate Functions – Having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4320" y="1193760"/>
            <a:ext cx="766152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where the average account balance is more than $1,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800" y="3659040"/>
            <a:ext cx="76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predicat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are applied after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formation of groups whereas predicate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clause are applied before form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7960" y="211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av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8996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for tuples to have a null value, deno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r some of thei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ifies an unknown value or that a value does not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to check for null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ind all loan number which appear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ith null value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any arithmetic express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5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turn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aggregate functions simply ignore nu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68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Three Valued Logic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omparison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5 &lt; null   or   null &lt;&gt; null    or    null =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-valued logic using the truth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: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) = unknown,    (fa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) = false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(unknow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nknown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s to true if pred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predicate is treated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evaluate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equel language developed as part of System R project at the IBM San Jose Research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d Structured Query Language (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and ISO standard SQ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-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1999 (language name became Y2K complian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offer most, if not all, SQL-92 features, plus varying feature sets from later standards and special proprietary featu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examples here may work on your particu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ull Values and Aggreg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094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ll loan 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s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statement ignores null 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re is no non-nul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ggregate operations excep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(*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gnore tuples with null values on the aggregated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 Sub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provides a mechanism for the nesting of subque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query is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lect-from-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ression that is nested within another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on use of subqueries is to perform tests for set membership, set comparisons, and set cardin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1080" y="1109160"/>
            <a:ext cx="7661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both an account and a loan at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8880" y="359568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 loan at the bank but do not ha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an account at th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3480" y="4519440"/>
            <a:ext cx="66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53640" y="1952640"/>
            <a:ext cx="62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4360"/>
                <a:tab algn="l" pos="125100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both an account and a loan at the Perryridg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3040" y="50864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ve query can be written in a much simpler manner. 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formulation above is simply to illustrate SQL fea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1160" y="2066760"/>
            <a:ext cx="666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_number =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account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260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Comparis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8302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branches that have greater assets than some branch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800" y="3411360"/>
            <a:ext cx="72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query using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8880" y="3970440"/>
            <a:ext cx="526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city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ly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52640" y="1957320"/>
            <a:ext cx="52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, bran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.assets &gt; S.asse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branch_city = </a:t>
            </a: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oklyn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52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 Some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6800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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&lt;comp&gt; can b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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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04920" y="1952640"/>
            <a:ext cx="457200" cy="1066320"/>
            <a:chOff x="2104920" y="1952640"/>
            <a:chExt cx="457200" cy="1066320"/>
          </a:xfrm>
        </p:grpSpPr>
        <p:sp>
          <p:nvSpPr>
            <p:cNvPr id="196" name=""/>
            <p:cNvSpPr/>
            <p:nvPr/>
          </p:nvSpPr>
          <p:spPr>
            <a:xfrm>
              <a:off x="2104920" y="195264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4920" y="22726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4920" y="2646000"/>
              <a:ext cx="457200" cy="372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0160" y="22575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38440" y="2257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04920" y="317196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04920" y="3476520"/>
            <a:ext cx="457200" cy="297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04920" y="393048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38440" y="3416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04920" y="4235400"/>
            <a:ext cx="457200" cy="308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04920" y="477216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04920" y="50767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9640" y="50007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38440" y="5000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 (since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8600" y="24861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:  5 &lt; some tuple in the rel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4560" y="340200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38440" y="4159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5960" y="41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8360" y="5472000"/>
            <a:ext cx="68007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819160" y="5840280"/>
            <a:ext cx="12204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4320" y="1108080"/>
            <a:ext cx="7661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ames of all branches that have greater assets than all branches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9960" y="2039760"/>
            <a:ext cx="522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Brooklyn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nition of all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3680" y="1122480"/>
            <a:ext cx="663876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&lt;comp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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 &lt;comp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619360" y="1752480"/>
            <a:ext cx="457200" cy="1067040"/>
            <a:chOff x="2619360" y="1752480"/>
            <a:chExt cx="457200" cy="1067040"/>
          </a:xfrm>
        </p:grpSpPr>
        <p:sp>
          <p:nvSpPr>
            <p:cNvPr id="222" name=""/>
            <p:cNvSpPr/>
            <p:nvPr/>
          </p:nvSpPr>
          <p:spPr>
            <a:xfrm>
              <a:off x="2619360" y="175248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19360" y="207252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19360" y="2446200"/>
              <a:ext cx="457200" cy="373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59372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52880" y="2057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9360" y="2971800"/>
            <a:ext cx="4572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19360" y="3276720"/>
            <a:ext cx="457200" cy="296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19360" y="373068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52880" y="32162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19360" y="40356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19360" y="4572000"/>
            <a:ext cx="457200" cy="307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19360" y="4876920"/>
            <a:ext cx="457200" cy="309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04960" y="4800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64040" y="47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true (since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and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50960" y="3228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52880" y="3959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0496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38400" y="5257800"/>
            <a:ext cx="6800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(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015720" y="5603760"/>
            <a:ext cx="109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Empty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 returns the val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rgument subquery is nonemp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xis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102708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n account at all branches located in Brookl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8760" y="1951200"/>
            <a:ext cx="729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not exi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Brooklyn’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, accou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account_number = R.account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.customer_name = T.customer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560" y="5230800"/>
            <a:ext cx="61711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– Y = Ø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write this query us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var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ata Definition Languag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23640" y="1898640"/>
            <a:ext cx="663732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a for each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main of values associated with each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indices to be maintained for each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nd authorization information for each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ysical storage structure of each relation on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800" y="110664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the specification of not only a set of relations but also information about each relation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120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 for Absence of Duplicate Tu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14320" y="1112400"/>
            <a:ext cx="7586640" cy="43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truct tests whether a subquery has any duplicate tuples in its re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t most one account at the Perryridg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niq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, 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.customer_name = R.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account_number = account.account_numb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ranch_name = 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’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80316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at least two accounts at the Perryridge bran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2880" y="2003400"/>
            <a:ext cx="729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distin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customer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not 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customer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 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.customer_name = R.customer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account_number = account.account_numbe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ranch_name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rived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allows a subquery expression to be used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verage account balance of those branches where the average account balance is greater than $1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avg_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avg_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g_balance 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we do not need to u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, since we compute the temporary (view)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, and the attribut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used directly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146240"/>
                <a:tab algn="l" pos="160812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 provides a way of defining a temporary view whose definition is available only to the query in which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 occ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accounts with the maximum balance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_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, max_balan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balance = max_balance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lex Query using With Clau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4320" y="1147680"/>
            <a:ext cx="766152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branches where the total account deposit is greater than the average of the total account deposits at all bra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36800" y="1932120"/>
            <a:ext cx="732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_avg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total.value &gt;= branch_total_avg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84872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, it is not desirable for all users to see the entire logical model (that is, all the actual relations stored in the databas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person who needs to know a customer’s loan number but has no need to see the loan amount.  This person should see a relation described, in SQL,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a mechanism to hide certain data from the view of certain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relation that is not of the conceptual model but is made visible to a user as a “virtual relation” is called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Defini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305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is defined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which ha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88"/>
              </a:spcBef>
              <a:buNone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express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&lt;query expression&gt; is any legal SQL expression.  The view name is represent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view is defined, the view name can be used to refer to the virtual relation that the view gene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definition is not the same as creating a new relation by evaluating the query express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ctr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, a view definition causes the saving of an expression; the expression is substituted into queries using the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962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consisting of branches and thei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0960" y="4338720"/>
            <a:ext cx="63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of the Perryridg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52360" y="1574640"/>
            <a:ext cx="697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_custom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,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.account_numbe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.account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, 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.loan_number = loan.loan_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38800" y="4738680"/>
            <a:ext cx="46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_custom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s Defined Using Other Vie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view may be used in the expression defining another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depend directl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in the expression defi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depend 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direct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or there is a path of dependencies from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aid to be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recur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depends on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ew Expans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ay to define the meaning of views defined in terms of other vie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defined by an express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ay itself contain uses of view re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expansion of an expression repeats the following replacement st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y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he view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9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expression defi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more view relations are presen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long as the view definitions are not recursive, this loop will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omain Types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ar(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xed length character string, with user-specifie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varchar(n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 length character strings, with user-specified maximum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(a finite subset of the integers that is machine-depend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malli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mall integer (a machine-dependent subset of the integer domain typ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umeric(p,d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xed point number, with user-specified precis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gits,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gits to the right of decimal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l, double precis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oating point and double-precision floating point numbers, with machine-dependent prec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loat(n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oating point number, with user-specified precision of at lea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g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re covered in Chapter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9720" y="331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9440" y="1106280"/>
            <a:ext cx="774684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 tuples at the Perryridg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anch_name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accounts at every branch located in the city ‘Needham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276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 =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ham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Qu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280" y="1109520"/>
            <a:ext cx="76611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313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record of all accounts with balances below the average at the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20880" y="2160720"/>
            <a:ext cx="74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v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6440" y="3521160"/>
            <a:ext cx="81406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 as we delete tuples from deposit, the average balanc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used in SQ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First, compu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lance and find all tuples to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Next, delete all tuples found above (without recompu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retesting the tu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69480" y="1778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A-9732’, ‘Perryridge’,12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equivalentl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balance, 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Perryridge’, 1200, ‘A-973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 to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A-777’,‘Perryridge’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20492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8840" y="203040"/>
            <a:ext cx="805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8115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s a gift for all loan customers of the Perryridge branch, a $200 savings account.  Let the loan number serve as the account number for the new savings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, branch_name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Perryridge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,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, borrow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_name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an.account_number = borrower.account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from 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 is evaluated fully before any of its results are inserted into the relation (otherwise queries lik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cause probl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0560" y="37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ification of the Database –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1106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ll accounts with balances over $10,000 by 6%, all other accounts receive 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w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= bal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alance = bal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better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(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-50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e Statement for Conditional Upd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query as before: Increase all accounts with balances over $10,000 by 6%, all other accounts receive 5%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10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1.0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1.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 of a View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51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view of all loan data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, hid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loan_numb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upl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lo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Perryridge’, ‘L-307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sertion must be represented by the insertion of the t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‘L-307’, ‘Perryridge’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Through View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4320" y="1147680"/>
            <a:ext cx="7066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pdates through views are impossible to translate into updates on the databas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vie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-99’, ‘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town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‘2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cannot be translated uniqu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_custo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lu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ryridge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o choose loan or account,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loan/account nu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QL implementations allow updates only on simple views (without aggregates) defined on a singl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**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440" y="1106640"/>
            <a:ext cx="7661160" cy="35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oin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e two relations and return as a result anoth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dditional operations are typically used as subquery expressions in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oin cond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fines which tuples in the two relations match, and what attributes are present in the result of the jo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oin 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fines how tuples in each relation that do not match any tuple in the other relation (based on the join condition) are t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399" t="32022" r="402" b="31486"/>
          <a:stretch/>
        </p:blipFill>
        <p:spPr>
          <a:xfrm>
            <a:off x="1100160" y="4216320"/>
            <a:ext cx="7081920" cy="1954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6120" y="165240"/>
            <a:ext cx="828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Datasets for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7200" y="1109160"/>
            <a:ext cx="66387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3160" y="1571760"/>
            <a:ext cx="68011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0320" y="4189320"/>
            <a:ext cx="6801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orrower information missing for L-260 and loan information missing for L-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399" t="36216" r="598" b="37279"/>
          <a:stretch/>
        </p:blipFill>
        <p:spPr>
          <a:xfrm>
            <a:off x="981000" y="2265480"/>
            <a:ext cx="7580520" cy="1522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eate Table Constr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4040" y="1127160"/>
            <a:ext cx="71625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SQL relation is defined using 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reate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grity-constrai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grity-constrain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the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ttribute name in the schema of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ata type of values in the domain of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15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3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3836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28720" y="1098360"/>
            <a:ext cx="661968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loan_number = borrower.loan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7080" y="3300480"/>
            <a:ext cx="6801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outer jo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.loan_number = borrower.loan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827" t="38677" r="413" b="39228"/>
          <a:stretch/>
        </p:blipFill>
        <p:spPr>
          <a:xfrm>
            <a:off x="947880" y="4181400"/>
            <a:ext cx="7235640" cy="12146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2"/>
          <a:srcRect l="591" t="41473" r="395" b="41994"/>
          <a:stretch/>
        </p:blipFill>
        <p:spPr>
          <a:xfrm>
            <a:off x="947880" y="1928880"/>
            <a:ext cx="7985160" cy="1000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8360" y="1093680"/>
            <a:ext cx="6638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inner jo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3040" y="3233880"/>
            <a:ext cx="6800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ural right out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591" t="41473" r="395" b="41994"/>
          <a:stretch/>
        </p:blipFill>
        <p:spPr>
          <a:xfrm>
            <a:off x="1190520" y="1676520"/>
            <a:ext cx="7534440" cy="9428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rcRect l="646" t="36497" r="646" b="36206"/>
          <a:stretch/>
        </p:blipFill>
        <p:spPr>
          <a:xfrm>
            <a:off x="1190520" y="3727440"/>
            <a:ext cx="7164360" cy="14860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ed Relations – Examp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15760" y="1117080"/>
            <a:ext cx="663876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out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389556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l customers who have either an account or a loan (but not both) at the ba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37480" y="4782960"/>
            <a:ext cx="66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full outer jo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_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ull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_num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388" t="32835" r="580" b="33095"/>
          <a:stretch/>
        </p:blipFill>
        <p:spPr>
          <a:xfrm>
            <a:off x="946080" y="1765440"/>
            <a:ext cx="7296120" cy="18828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d of Chapter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1: Database Sche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city, ass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customer_street, customer_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an_numb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branch_name, am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rr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name, loan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, bal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osi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_name, account_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0880" y="658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3: Tuples inserted into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loa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borrower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428" t="19432" r="642" b="20288"/>
          <a:stretch/>
        </p:blipFill>
        <p:spPr>
          <a:xfrm>
            <a:off x="1106640" y="1528920"/>
            <a:ext cx="7127640" cy="3257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8800" y="4726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gure 3.4: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loan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borrower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399" t="36216" r="598" b="37279"/>
          <a:stretch/>
        </p:blipFill>
        <p:spPr>
          <a:xfrm>
            <a:off x="1054080" y="2149560"/>
            <a:ext cx="7580160" cy="15224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8360" y="9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grity Constraints in Create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3680" y="1098360"/>
            <a:ext cx="66387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480" y="2395440"/>
            <a:ext cx="6800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Decl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primary key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ensure that the valu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n-neg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711440"/>
                <a:tab algn="l" pos="331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1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c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(30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anch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960" y="5229360"/>
            <a:ext cx="680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tion on an attribute automatically ens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nu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-92 onwards, needs to be explicitly stated in SQL-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rop and Alter Table Construc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38504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rop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deletes all information about the dropped relation from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is used to add attributes to an existing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the attribute to be added to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uples in the relation are assign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value for the new attribu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can also be used to drop attributes of a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 ta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ame of an attribute of 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00"/>
              </a:buClr>
              <a:buSzPct val="80000"/>
              <a:buFont typeface="Monotype Sort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ping of attributes not supported by many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Query Structure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1106280"/>
            <a:ext cx="7640640" cy="48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is based on set and relational operations with certain modifications and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SQL query has the for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a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00"/>
              </a:buClr>
              <a:buSzPct val="90000"/>
              <a:buFont typeface="Monotype Sorts" charset="2"/>
              <a:buChar char="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red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query is equivalent to the relational algebra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of an SQL query is a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02000" y="4692600"/>
                <a:ext cx="388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16:48:44Z</dcterms:created>
  <dc:creator>Marilyn Turnamian</dc:creator>
  <dc:description/>
  <dc:language>en-US</dc:language>
  <cp:lastModifiedBy>as668</cp:lastModifiedBy>
  <cp:lastPrinted>1999-12-01T19:45:26Z</cp:lastPrinted>
  <dcterms:modified xsi:type="dcterms:W3CDTF">2005-08-26T15:38:38Z</dcterms:modified>
  <cp:revision>234</cp:revision>
  <dc:subject/>
  <dc:title>Chapter 4:  SQL</dc:title>
</cp:coreProperties>
</file>