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5A4B-7945-4673-B350-21AACE6F6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583E-6DEE-4F3D-B6DB-12988AA3D4B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9C3-E195-40C2-851B-90FE794A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ED99-02F3-4716-9AA0-384689C0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3C011C-7AA0-4785-9AAB-3B53C285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47FCEC-280B-4A95-BE25-4E2FAF24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ADC174-A11A-4819-8693-157F554C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523018-8968-4312-8533-B8E1FBCB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DDE612-C4A1-48B6-96E8-CC7C32B5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E75D96-2FBF-4FA3-A374-F2561813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D83A55-D640-4836-B70E-80067830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3C7F96-D5A6-40ED-B642-60B51EE5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BDFAAD-58CB-4FEF-9AA2-0FD8DAB4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E15A3B-7111-4248-A6FB-62B9BBD19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114-7813-42C0-8353-C13B55C4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30FB70-3746-4B76-8F64-8462E96C4BE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917D5-C05F-4AF6-B1E1-EF4F2A44B80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457ED6-7EE8-4D8D-96E9-12EB1379A0B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EAADDC-DFAC-4944-BD88-12187E83C36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15530-0F5C-4CE0-9070-888C935F0B7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549FA4-4424-46FD-B53B-516128D9D0A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892BF-69C7-4BF8-8852-848BDDF0CE4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321C8E-996E-40D7-9B47-EEC86D8C153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8E51BE-14B5-4ED4-93B6-7A0FD93DE1E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77FE9-8762-4F5F-A2D3-861B53BD1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D67D-8F53-45C9-8DBF-400921D2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D5DDCC-F9B3-4171-B238-920ECC736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6BA70-34A9-490D-9D2C-72E19F13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DFCA8-0A07-4A7F-9807-2EEB6C93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F785B-73F4-46DD-9F48-1105C93A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9736F-8564-42A9-9839-8684126A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D64FB-13CA-4270-819C-E826E696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3F52C-82D2-4A59-8B89-A8ECF955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FA926-6AA9-4E39-9630-7F6E6E1D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94B-AF51-4B2D-AB53-1E43119C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F17CB-7E54-41A1-BC89-82BD489C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9CE11-EE6F-4D63-8778-03D628CA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FB330-6305-40B4-BE4F-3569103F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76D5C-D861-4E94-9510-BCC97881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68EC2-9E57-4BD6-9664-D18F68AA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1CCF1-63EF-462E-93E2-63F0F009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44C47-D87B-45C0-A143-EF5A444F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0F7C4-AF96-4B09-A3B9-CC1A2D8D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B50BE-231A-4318-8C5E-6C779CB2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5C655-71B8-4001-976C-CE787521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350-C150-4221-A3F9-8B1A5999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D7F7C-E6D6-4E37-A4DE-BB77ED08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01623-D268-43D0-809B-7CFD7187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5BB3-0EE6-41EF-B3D8-7A8DAE04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E8FF1-BC83-4824-8136-0D40B1B0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F8C74-C06E-4AA5-BDAE-D1802CC1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75043-ADEA-4622-B1F0-9D2D534D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00651-C553-4075-87E0-916AC670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70ED03-430F-48E0-8DD5-7B59B512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20F33B-7FD8-4E82-9739-702B1CFD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EF8964-1F8E-464D-9B0B-520779D1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3A55-8E85-45EA-A6F7-05F1C26A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ACFB43-8FC8-42EC-9B33-7A5177AF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D6BC69-DCB9-4EFC-A645-1D6DA5CB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1FE3AE-35F6-4B48-8412-D76D4B2E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E51994-424C-42C1-89C6-43F84D10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3CCC02-E5C1-4DC9-8AE8-4F995B2B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2B9BBF-0278-428A-9047-BCF843EF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DE273E-5A03-49B5-A9A0-0129EFD5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31E423-D382-4188-A647-C5641D66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F7CF81-E566-4401-8014-4C6D58C7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41125-45E6-4AFA-AEA7-B41AE9A2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FC59-DF9F-417A-AB55-0F0FF12B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5D90D-6485-4D16-ACBD-7F2F5867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4BE8B-09D1-41E0-AFB2-003607B0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6BFA0-3C90-4D20-8909-12819850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02E05-93BC-4331-8564-02A7AA7F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95FAC-66CC-4482-97D4-856CAB73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8D6C8-428A-44D6-800B-C64A9ED0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AD204-0DB6-405C-810E-4CDED1D5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FC8C9-5026-4501-A5F3-6C922410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2C4F4-0226-417C-88E7-8069EE6A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A2A01-1220-4A95-8DED-A2F46419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91C-B8A1-4CA5-BBA1-378F002C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DB719-30E8-4C3D-BDE5-9D021FC2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0849E-22E8-4E95-986B-C7344C31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6E608-E6EC-4AC3-849C-466E502C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D310F-C543-40E0-BB4F-5952C23B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39E3D-AE1C-4914-81E0-C17E4F6B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FA39E-345A-4FAA-903B-7CB99DA8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09598-9456-4AE0-86C6-7526C650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75265-C8EF-4C5D-915E-BDC3C754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D432A-CF46-4722-95C6-A4487629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C95AB-F098-48F6-AAA5-9AB4E951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610-908A-4875-A91D-FE340948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F8ABA-FA82-47FB-9ACB-9B9A68FD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7A7ED-45E3-42F8-8D78-63709007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8A2FF-DA27-4D0A-9655-DC9F4330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563C2-B16B-45BE-A4DA-12AA31D8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A6BB0-8856-4014-8845-E8596A0C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C7352-E927-4754-B89B-534A0164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685E6-2312-43B9-B0FD-DD8DBA27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16125-CF2C-4419-96AE-0581B0F4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10CA0-61A3-445E-842C-E9A43B17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996B9-80C9-40CE-A7F9-A14B3AE2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6EE3-F092-44EB-868F-CB4F7EA0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7D024-8976-452F-A010-C1AD9FFE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F6E2C-6829-44D8-BD17-CC454040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EBA15-B91F-49C0-AA88-81E0FD72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31935-494D-4894-A40A-D2E65952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138B3-3271-4642-AC53-DEA536C7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88384E-FE3D-4032-AD68-EB2E5E61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D33823-29F5-47C3-A3BD-D05551CD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1DDD52-7238-405F-A027-FAF247E3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92BDFF-4A64-4444-A697-D54A7257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A7A06C-7E23-4FAD-87F7-6E831CB6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853-D638-4C0F-AB6F-ED63FC8F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2D0701-9349-4F1C-915D-8DC304C3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052FC2-88B6-4FC4-8B2B-1A111CC3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9A4308-4FF9-422E-B19F-5CE6E041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E38B9C-9B67-4036-887D-3FE7BDA7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36FFCF-4315-4792-BBFD-DC87137C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B4A568-3104-4707-A32D-6273447E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AC7BB7-782C-4B97-91FA-D97D5290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204447-7C2A-4B9A-8A04-33CF0452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C616F3-8E8B-4BDB-B055-C1F2A991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08960D-CE6E-468C-BAA0-BD73AC01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E3CF-81E4-4D2F-9D50-67D510F36DA9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9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Num" idx="28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BBD4-0202-4923-BCDF-D4971934DFA6}" type="slidenum">
              <a:rPr b="0" lang="en-GB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1F6B-5DD5-4E02-ACD3-AB59279BD609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763A-D04A-4DCD-BAF0-103172E89913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6215-D066-4A87-9A8A-19300D6892E6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306D-80CB-49F4-9365-059A53904CA5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CC65-4AC9-41FB-BEF9-5F856B181171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32F3-7DC2-4697-81E8-0935EF4D2A68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ED59-EADF-42FE-BA54-0110925359CC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F4D6-90F8-4A47-8395-502D81E39C23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4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3357-1E1D-4976-83C9-CCAA7B27EC78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a4b8c4"/>
                </a:solidFill>
                <a:latin typeface="Rockwell"/>
              </a:rPr>
              <a:t>Rushdi Shams, Dept of CSE, KUET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Title 3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You can give a table or a column another name by using an alias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s can be a good thing to do if you have very long or complex table names or column names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SQL Alias Syntax for Tabl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SELECT column_name(s)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FROM table_name AS alias_nam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SQL Alias Syntax for Colum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SELECT column_name AS alias_name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FROM table_name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" descr=""/>
          <p:cNvPicPr/>
          <p:nvPr/>
        </p:nvPicPr>
        <p:blipFill>
          <a:blip r:embed="rId2"/>
          <a:stretch/>
        </p:blipFill>
        <p:spPr>
          <a:xfrm>
            <a:off x="611280" y="1752480"/>
            <a:ext cx="7008840" cy="1667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"/>
          <p:cNvPicPr/>
          <p:nvPr/>
        </p:nvPicPr>
        <p:blipFill>
          <a:blip r:embed="rId3"/>
          <a:stretch/>
        </p:blipFill>
        <p:spPr>
          <a:xfrm>
            <a:off x="609480" y="4191120"/>
            <a:ext cx="78552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e2d700"/>
                </a:solidFill>
                <a:uFillTx/>
                <a:latin typeface="Rockwell"/>
              </a:rPr>
              <a:t>Set theory operation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Rockwell"/>
              </a:rPr>
              <a:t>Un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Rockwell"/>
              </a:rPr>
              <a:t>Interse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Rockwell"/>
              </a:rPr>
              <a:t>Differenc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C3C3-F26E-4602-BAA9-8F5B501BEC03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Rectangle 2" descr=""/>
          <p:cNvPicPr/>
          <p:nvPr/>
        </p:nvPicPr>
        <p:blipFill>
          <a:blip r:embed="rId1"/>
          <a:stretch/>
        </p:blipFill>
        <p:spPr>
          <a:xfrm>
            <a:off x="378000" y="262080"/>
            <a:ext cx="808344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1" name="Object 2"/>
          <p:cNvGraphicFramePr/>
          <p:nvPr/>
        </p:nvGraphicFramePr>
        <p:xfrm>
          <a:off x="2146320" y="1676520"/>
          <a:ext cx="1514520" cy="19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6320" y="1676520"/>
                    <a:ext cx="151452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3"/>
          <p:cNvGraphicFramePr/>
          <p:nvPr/>
        </p:nvGraphicFramePr>
        <p:xfrm>
          <a:off x="1711440" y="3801960"/>
          <a:ext cx="2436840" cy="198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1440" y="3801960"/>
                    <a:ext cx="243684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49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ckwell"/>
              </a:rPr>
              <a:t>There are 2 tables- R and S, we will play with them!!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6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7935-8749-429B-9C8B-BE95DDB9DAB1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378000" y="262080"/>
            <a:ext cx="808344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8" name="Object 2"/>
          <p:cNvGraphicFramePr/>
          <p:nvPr/>
        </p:nvGraphicFramePr>
        <p:xfrm>
          <a:off x="773280" y="1773360"/>
          <a:ext cx="166500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3280" y="1773360"/>
                    <a:ext cx="166500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3"/>
          <p:cNvGraphicFramePr/>
          <p:nvPr/>
        </p:nvGraphicFramePr>
        <p:xfrm>
          <a:off x="457200" y="4157640"/>
          <a:ext cx="2189160" cy="178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57640"/>
                    <a:ext cx="218916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49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ckwell"/>
              </a:rPr>
              <a:t>RUS means, a union operation on R and S that will produce another table which will have all the rows of R and S </a:t>
            </a:r>
            <a:r>
              <a:rPr b="1" lang="en-GB" sz="2400" spc="-1" strike="noStrike">
                <a:solidFill>
                  <a:srgbClr val="ffff00"/>
                </a:solidFill>
                <a:latin typeface="Rockwell"/>
              </a:rPr>
              <a:t>except the duplicate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ckwell"/>
              </a:rPr>
              <a:t>There are 2 Sally in R and S, so, just take 1 from them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4623-8A87-4997-9821-4523A09D4713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graphicFrame>
        <p:nvGraphicFramePr>
          <p:cNvPr id="464" name="Object 4"/>
          <p:cNvGraphicFramePr/>
          <p:nvPr/>
        </p:nvGraphicFramePr>
        <p:xfrm>
          <a:off x="2932200" y="1773360"/>
          <a:ext cx="1944720" cy="439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5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32200" y="1773360"/>
                    <a:ext cx="194472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378000" y="262080"/>
            <a:ext cx="808344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7" name="Object 2"/>
          <p:cNvGraphicFramePr/>
          <p:nvPr/>
        </p:nvGraphicFramePr>
        <p:xfrm>
          <a:off x="849240" y="1676520"/>
          <a:ext cx="166536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240" y="1676520"/>
                    <a:ext cx="166536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Object 3"/>
          <p:cNvGraphicFramePr/>
          <p:nvPr/>
        </p:nvGraphicFramePr>
        <p:xfrm>
          <a:off x="387360" y="4049640"/>
          <a:ext cx="2508120" cy="204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0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7360" y="4049640"/>
                    <a:ext cx="250812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49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ckwell"/>
              </a:rPr>
              <a:t>R-S means, a difference operation on R and S that will produce another table which will have all the rows which is in R but not in 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ckwell"/>
              </a:rPr>
              <a:t>As Sally is in R and in S, so, she has been omitted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B819-1B0F-400D-A316-37D04626249B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graphicFrame>
        <p:nvGraphicFramePr>
          <p:cNvPr id="473" name="Object 4"/>
          <p:cNvGraphicFramePr/>
          <p:nvPr/>
        </p:nvGraphicFramePr>
        <p:xfrm>
          <a:off x="3100320" y="2608200"/>
          <a:ext cx="1928880" cy="2665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4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00320" y="2608200"/>
                    <a:ext cx="192888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Rectangle 2" descr=""/>
          <p:cNvPicPr/>
          <p:nvPr/>
        </p:nvPicPr>
        <p:blipFill>
          <a:blip r:embed="rId1"/>
          <a:stretch/>
        </p:blipFill>
        <p:spPr>
          <a:xfrm>
            <a:off x="378000" y="262080"/>
            <a:ext cx="808344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Object 2"/>
          <p:cNvGraphicFramePr/>
          <p:nvPr/>
        </p:nvGraphicFramePr>
        <p:xfrm>
          <a:off x="773280" y="1752480"/>
          <a:ext cx="1665000" cy="218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3280" y="1752480"/>
                    <a:ext cx="166500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Object 3"/>
          <p:cNvGraphicFramePr/>
          <p:nvPr/>
        </p:nvGraphicFramePr>
        <p:xfrm>
          <a:off x="401760" y="4157640"/>
          <a:ext cx="2189160" cy="178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1760" y="4157640"/>
                    <a:ext cx="218916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49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ckwell"/>
              </a:rPr>
              <a:t>R∩S means, an intersection operation on R and S that will produce another table which will have all the rows which are in both R and 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ckwell"/>
              </a:rPr>
              <a:t>As Sally is in R and in S, so, she has been selected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EBB6-6A62-41A6-AE4F-9B128C0F2018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graphicFrame>
        <p:nvGraphicFramePr>
          <p:cNvPr id="482" name="Object 4"/>
          <p:cNvGraphicFramePr/>
          <p:nvPr/>
        </p:nvGraphicFramePr>
        <p:xfrm>
          <a:off x="2700360" y="2906640"/>
          <a:ext cx="2158920" cy="1422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3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00360" y="2906640"/>
                    <a:ext cx="215892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Fig03-05"/>
          <p:cNvPicPr/>
          <p:nvPr/>
        </p:nvPicPr>
        <p:blipFill>
          <a:blip r:embed="rId2"/>
          <a:stretch/>
        </p:blipFill>
        <p:spPr>
          <a:xfrm>
            <a:off x="685800" y="1832040"/>
            <a:ext cx="7767720" cy="3882960"/>
          </a:xfrm>
          <a:prstGeom prst="rect">
            <a:avLst/>
          </a:prstGeom>
          <a:ln w="0">
            <a:noFill/>
          </a:ln>
        </p:spPr>
      </p:pic>
      <p:sp>
        <p:nvSpPr>
          <p:cNvPr id="486" name="Slide Number Placeholder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9A2C-6F6A-4A37-B106-181DD09CCD42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3" descr="Fig03-07"/>
          <p:cNvPicPr/>
          <p:nvPr/>
        </p:nvPicPr>
        <p:blipFill>
          <a:blip r:embed="rId2"/>
          <a:stretch/>
        </p:blipFill>
        <p:spPr>
          <a:xfrm>
            <a:off x="838080" y="2349360"/>
            <a:ext cx="7664400" cy="1820880"/>
          </a:xfrm>
          <a:prstGeom prst="rect">
            <a:avLst/>
          </a:prstGeom>
          <a:ln w="0">
            <a:noFill/>
          </a:ln>
        </p:spPr>
      </p:pic>
      <p:sp>
        <p:nvSpPr>
          <p:cNvPr id="489" name="Slide Number Placeholder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CE1D-5DD6-40BA-B5A3-54027744FFEB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Fig03-06"/>
          <p:cNvPicPr/>
          <p:nvPr/>
        </p:nvPicPr>
        <p:blipFill>
          <a:blip r:embed="rId2"/>
          <a:stretch/>
        </p:blipFill>
        <p:spPr>
          <a:xfrm>
            <a:off x="762120" y="2492280"/>
            <a:ext cx="7968960" cy="1892520"/>
          </a:xfrm>
          <a:prstGeom prst="rect">
            <a:avLst/>
          </a:prstGeom>
          <a:ln w="0">
            <a:noFill/>
          </a:ln>
        </p:spPr>
      </p:pic>
      <p:sp>
        <p:nvSpPr>
          <p:cNvPr id="492" name="Slide Number Placeholder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F7E1-2294-4FB0-A630-1577244A660D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Rushdi Shams</cp:lastModifiedBy>
  <dcterms:modified xsi:type="dcterms:W3CDTF">2009-04-22T03:40:46Z</dcterms:modified>
  <cp:revision>3</cp:revision>
  <dc:subject/>
  <dc:title>Set Operations</dc:title>
</cp:coreProperties>
</file>