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9B7B-5790-43A1-9BCF-B70C51E57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A595-6CA7-4D2B-88F9-129180D9BEA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B08-FDDF-4628-AB35-6126D47C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F0C-6B9A-43B6-966D-8EA351A2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FB9134-864D-4EE6-8FC3-E4850BBE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A4CC2E-3BDC-4F3C-9A42-A8094375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C7738D-0503-4990-947F-7E435931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309EB-9402-4AE3-A043-9A50D589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360CEF-234C-40C4-9B5E-B038E1B1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9AAAA3-8A69-4027-B2FA-ABB27A12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788C93-86B0-4EDD-AF88-45F8CB73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0BCC0-81D3-4B12-B96B-99EBF8C7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3E3439-D781-47F2-9E02-6B6E97CD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ED31D-2567-442E-B2D3-BFB2C7157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DB3-43E1-452E-A1D3-A73846C5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262AB-F3FB-47C7-AC49-A8E0FADDFD5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7C2E6-FF3E-45B7-8AD7-D9304F4F909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9517F-AB52-4174-A910-9EEE7AE6836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F13A0-429D-4BFD-BBC7-CEB9F91A47E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20BBA-57D5-4115-9DF3-ACEB0A1131A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CCE64-720C-43EA-B0B2-30C5FE3845D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0EAF4-D840-4D4A-8DB9-B374BE6B872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4494F-A718-43B8-8F80-BA9383B3FD2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D7338-7B07-4A30-BCBD-EAF08A9EA5D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65478-9658-47C9-A888-778EE82BD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692-DC8C-4E72-BAF4-037D359F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F3E22-9D18-46DD-9AC9-E901013DA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063B6-EB90-441A-8C82-8E56EB59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4ED6C-B1DD-4EF4-BD52-C94CA25C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67FA4-D4DC-4601-93CD-5A296A5E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68DC5-A2FF-45C3-A64E-AD4E25A9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29F6F-D926-4A9F-8184-092BAEFB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118E7-5E2C-4994-86CE-7CD80346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8CC36-7913-409A-A024-66236997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B49-27DA-461C-89E2-FD4E4ADB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79DEE-84BF-461B-BABC-898C7BE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ACFA9-ABF2-4A4C-A195-D16B99AC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191B7-CDDD-4316-A0D3-E773777A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5AA29-BB62-4F98-A2DD-8F6510AD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F5974-B3A2-4F70-9DD3-30B0D6D5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CE597-78D9-4B75-B9BE-A832DB9A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FB8F-89EF-48F1-B78E-C4F11195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1E67-DD76-4AFA-B9C3-EFED19FA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2FA2-8580-4355-9E27-B795A917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5FA6-D420-44E0-99BE-07E2B0D4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6D2-15A1-4C02-AE78-37E615DE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DBCD-D6DC-4795-A724-209E0378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A6AC-29E9-49CF-8607-E109E539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B726C-A7FC-41CF-82D0-E8FDDA1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74E8-44EA-4872-8391-9BBCE8AE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CFB0-B4D2-4F2E-8AE8-CB726F48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D962-7904-4E11-942C-E5D389A0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F01EF-4AFB-4A40-A491-B7BFBC3D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9F62E-577A-4501-B750-95B126DB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BEF79-58C4-4F63-AED1-B5F1CE7E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7A3B3-277E-40D4-810D-757FD898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5FC-96DB-4E6C-A13F-4028D15D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23842-2F4C-4228-B7E4-BF2D5D84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3A787-3099-45BB-87A2-7FFA70B1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21FC31-4F08-424A-8C19-5EFB34FE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28777-8EBE-476D-B8FA-EA98BA6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765BC-BC11-43E4-9D7C-E4E5D1B2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E6FB6-8396-4B29-AA88-C0286900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75E9B-5140-4A3A-AB74-51FBF337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04F86-A747-46AD-9331-C9E21F93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F1E7A-4427-47DE-97F4-874EFFBC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3789C-CE6A-416E-A1F7-306568FB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897-9A61-42A4-81BD-695D0750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DC7FA-EBCB-49FF-8332-A51B2B29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BE9B3-3437-4749-A838-5DE6DF0B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5719-1904-4764-9D04-0C59C041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D4C21-CA6B-4FD3-96C2-7ABDFAB9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52C99-BA84-4EDF-A1A1-2D365375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CA04C-DF5A-4003-A297-0DC6FEBC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4C605-6B34-4460-99E3-29B9D56F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ACBA6-4241-4B0F-8A70-2DC3CD7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CA697-7327-4634-985C-72930573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FB60-BC45-4AE0-9287-3022C973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593-D6C1-4875-BF9D-58DA6F23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58B5-83DF-4402-AB5C-61202C86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4574-A46F-42BC-B15B-FDBB8303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5458D-EA42-4DCD-9816-9BFE3103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A57CA-505C-4546-A234-315DA83C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90331-AC20-4DC7-8F89-D6FAE549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CAF56-1337-4EA7-9EF5-9ED793E7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60E6D-9E0A-4A1E-8C88-9D747CA1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67ABB-3B18-4C39-8316-6EDBE0F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81F60-05B9-46B0-B6DA-F559D303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59340-5F0D-4EFE-87EA-24A3AC4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3C7-D536-4280-9DAB-BD39E229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06DAE-E25D-42B0-B3FE-F64E0C3D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0FD98-B09A-4591-9098-360DBF62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67B3D-BFDF-4FCA-8882-AB8D266F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86EA8-AA8B-46C3-ACA3-94EB84C9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393E8-DBD2-475B-BF9D-7B17636F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D9291-C4EE-4627-BD42-EAE97C00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A16A0-DE9E-43E9-AFA5-371BDF1C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2AC67-974D-4720-99D2-D776A1C0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F3848-AA2A-446D-AA7C-EFAA7BCD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CB2A2-252D-4244-8643-65B9ABB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F45-5D07-4B34-B3EF-D9316D0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29275-F069-4F50-8F6C-B1E11CF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AF63C-CDDA-409A-815C-72401D52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0F74E-833E-47D7-8B64-19D1E99E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8634B-EDAC-4D70-8648-945D7585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BBFD2-0F04-4A6A-8581-7E59EC75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BC6E5F-CD6A-4423-8A56-A259E394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9B19CA-3A82-45A6-B56B-AED77192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EE6ED5-D742-4715-8B27-7702D60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3DDE83-BEEB-4D36-9C9A-219FEDB1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E8EE7-2622-4CC4-8000-F347163C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951-A625-433F-9734-2E6CF4C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476142-E8E0-4EAC-9DA8-6974F7DB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6747AB-B9FF-4782-B651-F3FFCB97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CFCA31-228F-4505-8B52-85C081C3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1AA3C3-39C1-4471-A883-727EC2F7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3E17E0-0F6B-4108-9A6B-3E6F8921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BA3E0F-EBFE-42D8-95CB-3D8B320D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59866C-3B2D-4E7A-9842-33243A7B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775BD5-F5B4-416F-9304-F414463D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386F41-2FF9-43EC-82A0-16215252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93B97B-F82F-45D6-AEB1-04B8667D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D7E6-8C26-44F8-B7FA-3A13EB95E40C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2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1761-B4CC-4C64-919D-F70E5485C806}" type="slidenum">
              <a:rPr b="0" lang="en-GB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4840-984E-4AD3-9D5F-3E7952821C66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4B3E-F345-4A82-93D7-D73119E3D358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95AE-8E07-444B-B24F-2FC1DC604756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9843-9F07-4029-86C6-AD387B0FC94E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9368-9497-45B3-8E6E-DB292FFCCFC2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7E43-00CD-4ED5-8773-7DFE0BA41CCE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C4B1-E8E0-4972-8281-2288B397392A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EE98-A726-4A01-862A-A4CA4CAAD36A}" type="slidenum">
              <a:rPr b="0" lang="en-US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BD54-2243-4698-8775-8CFE01914F33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a4b8c4"/>
                </a:solidFill>
                <a:latin typeface="Rockwell"/>
              </a:rPr>
              <a:t>Rushdi Shams, Dept of CSE, KUET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itle 3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ou can give a table or a column another name by using an alias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s can be a good thing to do if you have very long or complex table names or column names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QL Alias Syntax for Tabl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SELECT column_name(s)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FROM table_name AS alias_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SQL Alias Syntax for Colum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SELECT column_name AS alias_name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urier New"/>
                <a:ea typeface="Courier New"/>
              </a:rPr>
              <a:t>FROM table_nam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Rockwel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611280" y="1752480"/>
            <a:ext cx="7008840" cy="1667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3"/>
          <a:stretch/>
        </p:blipFill>
        <p:spPr>
          <a:xfrm>
            <a:off x="609480" y="4191120"/>
            <a:ext cx="7855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e2d700"/>
                </a:solidFill>
                <a:uFillTx/>
                <a:latin typeface="Rockwell"/>
              </a:rPr>
              <a:t>Set theory operation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Un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Inter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Rockwell"/>
              </a:rPr>
              <a:t>Differen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30E5-5BC4-4705-B185-5CCAB7071246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2"/>
          <p:cNvGraphicFramePr/>
          <p:nvPr/>
        </p:nvGraphicFramePr>
        <p:xfrm>
          <a:off x="2146320" y="1676520"/>
          <a:ext cx="1514520" cy="19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6320" y="1676520"/>
                    <a:ext cx="15145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3"/>
          <p:cNvGraphicFramePr/>
          <p:nvPr/>
        </p:nvGraphicFramePr>
        <p:xfrm>
          <a:off x="1711440" y="3801960"/>
          <a:ext cx="2436840" cy="198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1440" y="3801960"/>
                    <a:ext cx="24368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There are 2 tables- R and S, we will play with them!!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43BE-8B3F-4410-A8B7-D98F52B45301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8" name="Object 2"/>
          <p:cNvGraphicFramePr/>
          <p:nvPr/>
        </p:nvGraphicFramePr>
        <p:xfrm>
          <a:off x="773280" y="1773360"/>
          <a:ext cx="166500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280" y="1773360"/>
                    <a:ext cx="16650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3"/>
          <p:cNvGraphicFramePr/>
          <p:nvPr/>
        </p:nvGraphicFramePr>
        <p:xfrm>
          <a:off x="457200" y="4157640"/>
          <a:ext cx="2189160" cy="17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57640"/>
                    <a:ext cx="21891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RUS means, a union operation on R and S that will produce another table which will have all the rows of R and S </a:t>
            </a:r>
            <a:r>
              <a:rPr b="1" lang="en-GB" sz="2400" spc="-1" strike="noStrike">
                <a:solidFill>
                  <a:srgbClr val="ffff00"/>
                </a:solidFill>
                <a:latin typeface="Rockwell"/>
              </a:rPr>
              <a:t>except the duplicat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There are 2 Sally in R and S, so, just take 1 from them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827A-0816-4E20-96BF-1B78418D3ABF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64" name="Object 4"/>
          <p:cNvGraphicFramePr/>
          <p:nvPr/>
        </p:nvGraphicFramePr>
        <p:xfrm>
          <a:off x="2932200" y="1773360"/>
          <a:ext cx="1944720" cy="439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32200" y="1773360"/>
                    <a:ext cx="194472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7" name="Object 2"/>
          <p:cNvGraphicFramePr/>
          <p:nvPr/>
        </p:nvGraphicFramePr>
        <p:xfrm>
          <a:off x="849240" y="1676520"/>
          <a:ext cx="166536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1676520"/>
                    <a:ext cx="16653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Object 3"/>
          <p:cNvGraphicFramePr/>
          <p:nvPr/>
        </p:nvGraphicFramePr>
        <p:xfrm>
          <a:off x="387360" y="4049640"/>
          <a:ext cx="2508120" cy="2046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7360" y="4049640"/>
                    <a:ext cx="250812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R-S means, a difference operation on R and S that will produce another table which will have all the rows which is in R but not in 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As Sally is in R and in S, so, she has been omitted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ED12-B589-439F-8BBB-85A0FF2CA624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73" name="Object 4"/>
          <p:cNvGraphicFramePr/>
          <p:nvPr/>
        </p:nvGraphicFramePr>
        <p:xfrm>
          <a:off x="3100320" y="2608200"/>
          <a:ext cx="1928880" cy="2665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00320" y="2608200"/>
                    <a:ext cx="192888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2" descr=""/>
          <p:cNvPicPr/>
          <p:nvPr/>
        </p:nvPicPr>
        <p:blipFill>
          <a:blip r:embed="rId1"/>
          <a:stretch/>
        </p:blipFill>
        <p:spPr>
          <a:xfrm>
            <a:off x="378000" y="262080"/>
            <a:ext cx="808344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2"/>
          <p:cNvGraphicFramePr/>
          <p:nvPr/>
        </p:nvGraphicFramePr>
        <p:xfrm>
          <a:off x="773280" y="1752480"/>
          <a:ext cx="1665000" cy="218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3280" y="1752480"/>
                    <a:ext cx="16650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3"/>
          <p:cNvGraphicFramePr/>
          <p:nvPr/>
        </p:nvGraphicFramePr>
        <p:xfrm>
          <a:off x="401760" y="4157640"/>
          <a:ext cx="2189160" cy="17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1760" y="4157640"/>
                    <a:ext cx="21891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9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R∩S means, an intersection operation on R and S that will produce another table which will have all the rows which are in both R and 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Rockwell"/>
              </a:rPr>
              <a:t>As Sally is in R and in S, so, she has been selected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C2C5-BEE0-4655-83E4-F71663CBEDA8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482" name="Object 4"/>
          <p:cNvGraphicFramePr/>
          <p:nvPr/>
        </p:nvGraphicFramePr>
        <p:xfrm>
          <a:off x="2700360" y="2906640"/>
          <a:ext cx="2158920" cy="1422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00360" y="2906640"/>
                    <a:ext cx="21589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Fig03-05"/>
          <p:cNvPicPr/>
          <p:nvPr/>
        </p:nvPicPr>
        <p:blipFill>
          <a:blip r:embed="rId2"/>
          <a:stretch/>
        </p:blipFill>
        <p:spPr>
          <a:xfrm>
            <a:off x="685800" y="1832040"/>
            <a:ext cx="7767720" cy="3882960"/>
          </a:xfrm>
          <a:prstGeom prst="rect">
            <a:avLst/>
          </a:prstGeom>
          <a:ln w="0">
            <a:noFill/>
          </a:ln>
        </p:spPr>
      </p:pic>
      <p:sp>
        <p:nvSpPr>
          <p:cNvPr id="486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84DB-0D38-42E8-9114-E44E22070588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Fig03-07"/>
          <p:cNvPicPr/>
          <p:nvPr/>
        </p:nvPicPr>
        <p:blipFill>
          <a:blip r:embed="rId2"/>
          <a:stretch/>
        </p:blipFill>
        <p:spPr>
          <a:xfrm>
            <a:off x="838080" y="2349360"/>
            <a:ext cx="7664400" cy="1820880"/>
          </a:xfrm>
          <a:prstGeom prst="rect">
            <a:avLst/>
          </a:prstGeom>
          <a:ln w="0">
            <a:noFill/>
          </a:ln>
        </p:spPr>
      </p:pic>
      <p:sp>
        <p:nvSpPr>
          <p:cNvPr id="489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CB66-DDEB-4350-85C8-8D442E37ECEA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Fig03-06"/>
          <p:cNvPicPr/>
          <p:nvPr/>
        </p:nvPicPr>
        <p:blipFill>
          <a:blip r:embed="rId2"/>
          <a:stretch/>
        </p:blipFill>
        <p:spPr>
          <a:xfrm>
            <a:off x="762120" y="2492280"/>
            <a:ext cx="7968960" cy="1892520"/>
          </a:xfrm>
          <a:prstGeom prst="rect">
            <a:avLst/>
          </a:prstGeom>
          <a:ln w="0">
            <a:noFill/>
          </a:ln>
        </p:spPr>
      </p:pic>
      <p:sp>
        <p:nvSpPr>
          <p:cNvPr id="492" name="Slide Number Placeholder 3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E583-EFD7-4F7B-97D1-E3DD4AD8CC39}" type="slidenum">
              <a:rPr b="0" lang="en-GB" sz="1600" spc="-1" strike="noStrike">
                <a:solidFill>
                  <a:srgbClr val="d1eaee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Rushdi Shams</cp:lastModifiedBy>
  <dcterms:modified xsi:type="dcterms:W3CDTF">2009-04-22T03:40:46Z</dcterms:modified>
  <cp:revision>3</cp:revision>
  <dc:subject/>
  <dc:title>Set Operations</dc:title>
</cp:coreProperties>
</file>