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92D1-B13D-4A93-87DB-B62843DEC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9D63-F1EA-45D6-BFED-112A75A47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CCE1-9703-414C-86E1-3570E365D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9E70-6A15-4D37-A00B-095B09272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464FF-E2A3-4DED-811A-634AA0AE4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F54C8-C93F-4929-81F0-4613F2D09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CB274-5F64-4D68-BF26-96728960E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B4293-BAB5-4966-8FCA-5760C9C4C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2B973-B94E-4A19-BAF7-83AAA8697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32261-71E4-4CAC-A4A8-8D9419A4E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122C9-DB85-441B-A908-3E553112B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7216-B28E-42F9-8F16-D71E32E2B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22CAE-FBB3-45B8-8635-288259BCD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DBA35-803D-4CD2-B134-283563F16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AF504-12AF-4F3E-A0D7-EC0458CF0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205AE-B757-47F0-AD3E-71F8B0DDA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F698C-5562-4E5C-8218-50F69E392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C868B-44AA-431F-AD63-CF9603480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9E1B7-C0CA-4740-8BF9-569663718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DB6E5-F171-47A3-A4DA-D3CDFE09A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093F2-3A39-487B-BB33-DCC50DF97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12546-5C8D-461C-BC00-EBAFE6EE7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21A4-7547-4F8B-9494-1D71C5F69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2F270-633B-4EB2-ADA5-D7E25360C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44C3C-EECC-494C-A128-1CCCA0F38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8B2DD-9D68-4B5E-91A3-29132A14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67FBB-22A1-4C53-895D-1A246599F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82578-81E2-4275-8B6D-EE5D78EC4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DA05F-7BF0-4D17-9996-21829D0EF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880E8-4193-4341-B9CD-6385CC161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FA735-D497-4176-859B-4624E385D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721E5-F1F0-4082-ADEB-63AB2935B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B7049-49E7-451B-9D81-F27FCDA22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8D57-D25D-4F1E-B7EC-02934D4F8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01E43-43C4-4900-8CCC-C42D9BC4D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1F0A0-3887-4E70-AB98-B21A893ED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56946-46B5-4CC5-BB6F-3B6009624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7B28E-83E5-4D7D-8FA8-BBF77FDF0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BC474-E96A-4D04-AE2D-0E3D756F2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CF884-472A-4D99-B655-A06FB6743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040FC-3035-45B4-B3AD-447AFBEC1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A5EF6-1F41-4A9B-B659-7611397E1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B75636-356A-46FA-AE37-55A4AC325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8DF3B8-46BC-480A-9826-FF98B56BE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9C77-E03A-4130-A4A3-D48B8BC90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BC5429-2A05-403F-AEA5-0023EDCE8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D3A459-01BF-4FA9-9144-433F24BCE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9EC5B3-041F-49B5-A53D-6208321FA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34134E-FECE-4A8E-9734-139504534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05E10C-FE06-4C62-86CB-10EDE98DC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555B13-3328-446F-BA86-6CAA4CD26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070DED-308A-4668-8847-79749D413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B2DB58-848F-454D-B531-ACF43421E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373F7A-BD36-4356-A1C6-9C77092D0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040ACD-309C-4541-A1CE-AD43B3B44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4934-A0C4-442D-A028-B7D19A2D1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B86CFD-B8F2-4DD1-8B80-75AEC2141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6620-A4D8-4E6D-BA95-035EABD54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CD61-5346-4882-A888-E138DE99F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7D14-4195-4CAD-AD63-EEF425D7D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f07f0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0DA8D-B66D-4C20-84C3-8E223C00B1C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traight Connector 8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f07f0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F666B-4A59-497F-B653-9740C885F2D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8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ded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e3ded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f07f0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00214-FCBE-43DE-AEEF-D734AED3D12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8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f07f0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DA5BF-C952-4538-9B25-FABB02CABF4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f07f0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8253D-1B14-4595-9E43-B1856F13BC0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23232"/>
                </a:solidFill>
                <a:latin typeface="Arial"/>
              </a:rPr>
              <a:t>INTRODUCTION TO PL/SQL</a:t>
            </a:r>
            <a:endParaRPr b="0" lang="en-US" sz="5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20" name="TextBox 1"/>
          <p:cNvSpPr/>
          <p:nvPr/>
        </p:nvSpPr>
        <p:spPr>
          <a:xfrm>
            <a:off x="2209680" y="4038480"/>
            <a:ext cx="44960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K. M. Azharul Has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hnuma Tabassum Om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PL SQL program- Sample I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rt into Dept values(70,’HR’,’Pune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rt into Dept values(80,’PSD’,’Mumbai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rt into Dept values(90,’ESG’,’Pune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ogram will insert three records at the same time in the table de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7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PL SQL program- Sample II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program displays the sum of two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L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_num1 Numb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_num2 Numb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_sum  Numb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_num1 := &amp;Number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_num2 := &amp;Number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_sum := v_num1 + v_num2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ms_Output.Put_Line (‘The Sum of number is :’ || v_sum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150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Save , Edit and Execute program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 your program in SQL *  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save :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ve &lt;File Name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 is saved in the bin directory to save in other folder give complete pa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g: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ve ‘C:\ESG\FirstPrg.sql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make chan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it &lt;File Na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edit program saved in folder other then b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it ‘C:\ESG\FirstPrg.Sql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Execute: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@ File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execute program saved in folder other then b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@ ‘C:\ESG\FirstPrg.Sql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2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2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2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2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Important Keywords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ing are the keywords in PL-SQL , should not be used as a variable n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LAR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P , END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, ELSE , ELSIF , END 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Important Keywords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G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O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Operators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 operators in PL 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rthmetic 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 + , - , * , /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al:                                  (AND , OR , 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ison: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&lt;=, &lt;, &gt;, =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ents (Two hyphens):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gnment operator: In PL SQL assignment operator i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to assign values we need to write :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 :=  x +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:=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:=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 := ‘MBT’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Operators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operators in PL SQ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e ends with  operator: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join two strings: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ccept valu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**3 means 2 raise to power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loop we use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X in 1..5 mean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to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 numeric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tring or dat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written in sing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ot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‘ ‘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2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2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2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2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2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2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2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Accept a value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7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1 := &amp;Number1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un time this will prompt 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ever value user will en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 will be assign to varia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3112560" y="3646440"/>
            <a:ext cx="472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b9f25"/>
                </a:solidFill>
                <a:latin typeface="Arial"/>
              </a:rPr>
              <a:t>Enter a value for Number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Accept a value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 := ‘&amp;Name’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run time this will prompt 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ever value user will en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 will be assign to vari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   ‘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used in case if entered data is not nume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3111840" y="3646440"/>
            <a:ext cx="415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b9f25"/>
                </a:solidFill>
                <a:latin typeface="Arial"/>
              </a:rPr>
              <a:t>Enter a value for Nam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2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2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Display value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isplay on same li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bms_output.put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isplay on new 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bms_output.put_lin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 dbms_output is a Oracle package its like header file or library in C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Put and .Put_Line are functions like printf in ‘C’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0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Objectives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PL-SQ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PL-SQL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guage 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Structure of PL/SQL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Flow in PL-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s in PL-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Display value : Examples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bms_output.put (‘Mahindra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bms_output.put (‘British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bms_output.put (‘Telecom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bms_output.put_line(‘ ‘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ill display </a:t>
            </a:r>
            <a:r>
              <a:rPr b="1" lang="en-US" sz="2000" spc="-1" strike="noStrike">
                <a:solidFill>
                  <a:srgbClr val="6b9f25"/>
                </a:solidFill>
                <a:latin typeface="Arial"/>
              </a:rPr>
              <a:t>Mahindra British Telec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same l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 SQL prompt after Login you need to set one command to see displayed valu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6b9f25"/>
                </a:solidFill>
                <a:latin typeface="Arial"/>
              </a:rPr>
              <a:t>SET SERVEROUTPUT ON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5000"/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 is important that at least once you write .put_line after any number of .put functions else values are not display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2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2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2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Display value : Examples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bms_output.put_line (‘Mahindra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bms_output.put_line (‘British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bms_output.put_line (‘Telecom’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ill displa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b9f25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6b9f25"/>
                </a:solidFill>
                <a:latin typeface="Arial"/>
              </a:rPr>
              <a:t>Mahind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b9f25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6b9f25"/>
                </a:solidFill>
                <a:latin typeface="Arial"/>
              </a:rPr>
              <a:t>Britis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b9f25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6b9f25"/>
                </a:solidFill>
                <a:latin typeface="Arial"/>
              </a:rPr>
              <a:t>Telec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different li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 SQL prompt after Login you need to set one command to see displayed valu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6b9f25"/>
                </a:solidFill>
                <a:latin typeface="Arial"/>
              </a:rPr>
              <a:t>SET SERVEROUTPUT ON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0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2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2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2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2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DML operations in Pl-SQL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7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ML operations (Insert/Update/Delete /Select) are to be written in Begin part of the blo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hange in the Syntax of Insert , Update and Delete , it is same as SQ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syntax is different then SQL , it contains INTO cla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Select query can return more then one rows then you should always use cursor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2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6320" y="533160"/>
            <a:ext cx="86104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Select Syntax for a Single Row Query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just">
              <a:lnSpc>
                <a:spcPct val="14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column1, column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6b9f25"/>
                </a:solidFill>
                <a:latin typeface="Arial"/>
              </a:rPr>
              <a:t>INTO Variable1,Variable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able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condition 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4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nly change is as many columns you want to get from the query you need to declare that many variables and use INTO claus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4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other parts of query are unchan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4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Where condition here is such that query will return multiple records then CURSOR should be used. Without that it will give err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0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Variable Declaration in PL SQL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s are always declared in DECLARE section of the progr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ariable Name   &lt;Data Typ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ous way to declare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_empno  Numb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_ename varchar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0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2000"/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2000"/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Variable Declaration in PL SQL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and preferred way  to declare a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ariable Name   TableName.ColName%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_empno  Emp.Empno%Typ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_ename Emp.Ename%Typ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tages of declaring in above w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 will always have same datatype as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change in column will change the type of variable also, so we need not have to change and recompile the program to ru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0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20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20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2000"/>
                                        <p:tgtEl>
                                          <p:spTgt spid="2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2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Variable Declaration in PL SQL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40000"/>
              </a:lnSpc>
              <a:spcBef>
                <a:spcPts val="550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%RowTyp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ctr">
              <a:lnSpc>
                <a:spcPct val="14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Variable Name   TableName%RowTyp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ctr">
              <a:lnSpc>
                <a:spcPct val="14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v_emp  Emp%RowType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40000"/>
              </a:lnSpc>
              <a:spcBef>
                <a:spcPts val="550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vantages of declaring in above wa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140000"/>
              </a:lnSpc>
              <a:spcBef>
                <a:spcPts val="476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Variable will  become like a structure variable in C (i.e. v_emp will have same structure like Emp Table) and you can refer to individual element as follows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4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v_emp.empn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4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v_emp.enam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4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v_emp.s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4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nodeType="clickEffect" fill="hold">
                      <p:stCondLst>
                        <p:cond delay="0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2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20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2000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2000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2000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2000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2000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Variable Declaration in PL SQL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also make your own type in program and use in the declare section to declare vari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ype  t_name   is   Varchar2(5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now you can make variable of this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v_nam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t_nam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v_name2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t_nam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_name and v_name2 both will become varchar2(5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nodeType="clickEffect" fill="hold">
                      <p:stCondLst>
                        <p:cond delay="0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20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20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20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2000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2000"/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Conditional Statements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… Then … 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f &lt;condition1&gt; 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&lt;Cod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LSIF &lt;Condition2&gt;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&lt;Cod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&lt;Cod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 here that for one IF we only need one END IF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END IF is required for ELSIF i.e for one set of IF condition only one END IF; is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0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20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2000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2000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2000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2000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2000"/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2000"/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2000"/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2000"/>
                                        <p:tgtEl>
                                          <p:spTgt spid="2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2000"/>
                                        <p:tgtEl>
                                          <p:spTgt spid="2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Conditional Statements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… Then … 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 v_deptno = 10  T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MS_OUTPUT.PUT_LINE ('Accounting'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SIF v_deptno = 20 T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MS_OUTPUT.PUT_LINE (‘ESG')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MS_OUTPUT.PUT_LINE (‘Invalid'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nodeType="clickEffect" fill="hold">
                      <p:stCondLst>
                        <p:cond delay="0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20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2000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2000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2000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2000"/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2000"/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2000"/>
                                        <p:tgtEl>
                                          <p:spTgt spid="2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2000"/>
                                        <p:tgtEl>
                                          <p:spTgt spid="2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What is PL-SQL?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/SQL stands for Procedural Language/SQ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dural Language extension for 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acle Propriet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GL Cap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ion of 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table within Oracle data 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able from any 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TYPES  OF LOOPS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it When &lt;Condition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Cod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it when is required to give the condition to end the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pre tested as condition is checked first and then code is execu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nodeType="clickEffect" fill="hold">
                      <p:stCondLst>
                        <p:cond delay="0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20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20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2000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2000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2000"/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2000"/>
                                        <p:tgtEl>
                                          <p:spTgt spid="2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2000"/>
                                        <p:tgtEl>
                                          <p:spTgt spid="2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TYPES  OF LOOPS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Loo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b9f25"/>
                </a:solidFill>
                <a:latin typeface="Arial"/>
              </a:rPr>
              <a:t>Exit When i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bms_output.put_line 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Pre Te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nodeType="clickEffect" fill="hold">
                      <p:stCondLst>
                        <p:cond delay="0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20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20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20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200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2000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2000"/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2000"/>
                                        <p:tgtEl>
                                          <p:spTgt spid="3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TYPES  OF LOOPS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Cod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t When &lt;Condi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t when is required to give the condition to end the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post tested as condition is checked after the code is execu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nodeType="clickEffect" fill="hold">
                      <p:stCondLst>
                        <p:cond delay="0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5" dur="20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20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3" dur="200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2000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2000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2" dur="2000"/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2000"/>
                                        <p:tgtEl>
                                          <p:spTgt spid="3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2" dur="2000"/>
                                        <p:tgtEl>
                                          <p:spTgt spid="3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TYPES  OF LOOPS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Loo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bms_output.put_line 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b9f25"/>
                </a:solidFill>
                <a:latin typeface="Arial"/>
              </a:rPr>
              <a:t>Exit When i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Post Te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nodeType="clickEffect" fill="hold">
                      <p:stCondLst>
                        <p:cond delay="0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20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7" dur="20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nodeType="clickEffect" fill="hold">
                      <p:stCondLst>
                        <p:cond delay="indefinite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20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5" dur="20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1" dur="2000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6" dur="2000"/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TYPES  OF LOOPS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&lt;Condition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Cod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is required for condition to end the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lso pre tes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nodeType="clickEffect" fill="hold">
                      <p:stCondLst>
                        <p:cond delay="0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3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8" dur="20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1" dur="20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6" dur="20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2" dur="2000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5" dur="2000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2000"/>
                                        <p:tgtEl>
                                          <p:spTgt spid="3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5" dur="2000"/>
                                        <p:tgtEl>
                                          <p:spTgt spid="3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TYPES  OF LOOPS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b9f25"/>
                </a:solidFill>
                <a:latin typeface="Arial"/>
              </a:rPr>
              <a:t>While i &lt;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bms_output.put_line 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nodeType="clickEffect" fill="hold">
                      <p:stCondLst>
                        <p:cond delay="0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2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20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0" dur="20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5" dur="20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8" dur="2000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1" dur="2000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4" dur="2000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TYPES  OF LOOPS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 &lt;Variable&gt; IN &lt;Min&gt; .. &lt;Max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Cod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Loop is used when we know the number of time the loop is to be exec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lso pre tes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5" dur="indefinite" restart="never" nodeType="tmRoot">
          <p:childTnLst>
            <p:seq>
              <p:cTn id="926" dur="indefinite" nodeType="mainSeq">
                <p:childTnLst>
                  <p:par>
                    <p:cTn id="927" nodeType="clickEffect" fill="hold">
                      <p:stCondLst>
                        <p:cond delay="0"/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1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nodeType="clickEffect" fill="hold">
                      <p:stCondLst>
                        <p:cond delay="indefinite"/>
                      </p:stCondLst>
                      <p:childTnLst>
                        <p:par>
                          <p:cTn id="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6" dur="20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9" dur="2000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2000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2000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2000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2000"/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8" dur="2000"/>
                                        <p:tgtEl>
                                          <p:spTgt spid="3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3" dur="2000"/>
                                        <p:tgtEl>
                                          <p:spTgt spid="3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TYPES  OF LOOPS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 i IN 1 ..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Cod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Loop will execute the given code 100 times for i = 1 to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nodeType="clickEffect" fill="hold">
                      <p:stCondLst>
                        <p:cond delay="0"/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0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nodeType="clickEffect" fill="hold">
                      <p:stCondLst>
                        <p:cond delay="indefinite"/>
                      </p:stCondLst>
                      <p:childTnLst>
                        <p:par>
                          <p:cTn id="9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5" dur="20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8" dur="2000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2000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2000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2" dur="2000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7" dur="2000"/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TYPES  OF LOOPS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Loop Reve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 i IN Reverse 1 ..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Cod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Loop will execute the given code 100 times for i = 100 to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reverse i.e from last value to first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8" dur="indefinite" restart="never" nodeType="tmRoot">
          <p:childTnLst>
            <p:seq>
              <p:cTn id="999" dur="indefinite" nodeType="mainSeq">
                <p:childTnLst>
                  <p:par>
                    <p:cTn id="1000" nodeType="clickEffect" fill="hold">
                      <p:stCondLst>
                        <p:cond delay="0"/>
                      </p:stCondLst>
                      <p:childTnLst>
                        <p:par>
                          <p:cTn id="1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4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20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2" dur="20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7" dur="20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0" dur="2000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3" dur="2000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6" dur="2000"/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nodeType="clickEffect" fill="hold">
                      <p:stCondLst>
                        <p:cond delay="indefinite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1" dur="2000"/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nodeType="clickEffect" fill="hold">
                      <p:stCondLst>
                        <p:cond delay="indefinite"/>
                      </p:stCondLst>
                      <p:childTnLst>
                        <p:par>
                          <p:cTn id="1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2000"/>
                                        <p:tgtEl>
                                          <p:spTgt spid="3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848720" cy="192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23232"/>
                </a:solidFill>
                <a:latin typeface="Arial"/>
              </a:rPr>
              <a:t>THANK YOU !!</a:t>
            </a:r>
            <a:endParaRPr b="0" lang="en-US" sz="5400" spc="-1" strike="noStrike">
              <a:solidFill>
                <a:srgbClr val="323232"/>
              </a:solidFill>
              <a:latin typeface="Arial"/>
            </a:endParaRPr>
          </a:p>
        </p:txBody>
      </p:sp>
    </p:spTree>
  </p:cSld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nodeType="clickEffect" fill="hold">
                      <p:stCondLst>
                        <p:cond delay="0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3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Why PL SQL ?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just">
              <a:lnSpc>
                <a:spcPct val="90000"/>
              </a:lnSpc>
              <a:spcBef>
                <a:spcPts val="700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/SQL extends SQL by adding constructs found in procedural languages like procedures, loops, variables, objects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90000"/>
              </a:lnSpc>
              <a:spcBef>
                <a:spcPts val="700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ing a structural language that is more powerful than SQ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PL SQL, Is there any Advantage ?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120" y="5029200"/>
            <a:ext cx="80010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case of SQL to send 3 queries we will need three network trips between client and serv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PL-SQL we bundle any number of queries in a block and in single network trip task is d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1"/>
          <p:cNvGrpSpPr/>
          <p:nvPr/>
        </p:nvGrpSpPr>
        <p:grpSpPr>
          <a:xfrm>
            <a:off x="777960" y="1714680"/>
            <a:ext cx="3260520" cy="2438280"/>
            <a:chOff x="777960" y="1714680"/>
            <a:chExt cx="3260520" cy="2438280"/>
          </a:xfrm>
        </p:grpSpPr>
        <p:sp>
          <p:nvSpPr>
            <p:cNvPr id="230" name="Rectangle 4"/>
            <p:cNvSpPr/>
            <p:nvPr/>
          </p:nvSpPr>
          <p:spPr>
            <a:xfrm>
              <a:off x="777960" y="2552760"/>
              <a:ext cx="959040" cy="76176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Q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uery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10"/>
            <p:cNvSpPr/>
            <p:nvPr/>
          </p:nvSpPr>
          <p:spPr>
            <a:xfrm>
              <a:off x="1928520" y="2552760"/>
              <a:ext cx="959040" cy="76176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Q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uery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11"/>
            <p:cNvSpPr/>
            <p:nvPr/>
          </p:nvSpPr>
          <p:spPr>
            <a:xfrm>
              <a:off x="3079440" y="2552760"/>
              <a:ext cx="959040" cy="76176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Q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uery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12"/>
            <p:cNvSpPr/>
            <p:nvPr/>
          </p:nvSpPr>
          <p:spPr>
            <a:xfrm>
              <a:off x="1161360" y="3695760"/>
              <a:ext cx="2685240" cy="457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14"/>
            <p:cNvSpPr/>
            <p:nvPr/>
          </p:nvSpPr>
          <p:spPr>
            <a:xfrm>
              <a:off x="969480" y="1714680"/>
              <a:ext cx="3069000" cy="53316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16"/>
            <p:cNvSpPr/>
            <p:nvPr/>
          </p:nvSpPr>
          <p:spPr>
            <a:xfrm>
              <a:off x="1161360" y="224784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17"/>
            <p:cNvSpPr/>
            <p:nvPr/>
          </p:nvSpPr>
          <p:spPr>
            <a:xfrm>
              <a:off x="2504160" y="21718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18"/>
            <p:cNvSpPr/>
            <p:nvPr/>
          </p:nvSpPr>
          <p:spPr>
            <a:xfrm>
              <a:off x="3463200" y="224784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Group 2"/>
          <p:cNvGrpSpPr/>
          <p:nvPr/>
        </p:nvGrpSpPr>
        <p:grpSpPr>
          <a:xfrm>
            <a:off x="4800600" y="1676520"/>
            <a:ext cx="3809880" cy="3047760"/>
            <a:chOff x="4800600" y="1676520"/>
            <a:chExt cx="3809880" cy="3047760"/>
          </a:xfrm>
        </p:grpSpPr>
        <p:sp>
          <p:nvSpPr>
            <p:cNvPr id="239" name="Rectangle 19"/>
            <p:cNvSpPr/>
            <p:nvPr/>
          </p:nvSpPr>
          <p:spPr>
            <a:xfrm>
              <a:off x="5079240" y="2671920"/>
              <a:ext cx="929160" cy="76176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Q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uery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20"/>
            <p:cNvSpPr/>
            <p:nvPr/>
          </p:nvSpPr>
          <p:spPr>
            <a:xfrm>
              <a:off x="6194520" y="2671920"/>
              <a:ext cx="929160" cy="76176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Q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uery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21"/>
            <p:cNvSpPr/>
            <p:nvPr/>
          </p:nvSpPr>
          <p:spPr>
            <a:xfrm>
              <a:off x="7309440" y="2671920"/>
              <a:ext cx="929160" cy="76176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Q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uery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22"/>
            <p:cNvSpPr/>
            <p:nvPr/>
          </p:nvSpPr>
          <p:spPr>
            <a:xfrm>
              <a:off x="5172120" y="4267080"/>
              <a:ext cx="2602080" cy="457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23"/>
            <p:cNvSpPr/>
            <p:nvPr/>
          </p:nvSpPr>
          <p:spPr>
            <a:xfrm>
              <a:off x="5265000" y="1676520"/>
              <a:ext cx="2973600" cy="53316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24"/>
            <p:cNvSpPr/>
            <p:nvPr/>
          </p:nvSpPr>
          <p:spPr>
            <a:xfrm>
              <a:off x="4800600" y="2519280"/>
              <a:ext cx="380988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25"/>
            <p:cNvSpPr/>
            <p:nvPr/>
          </p:nvSpPr>
          <p:spPr>
            <a:xfrm>
              <a:off x="6095160" y="3510000"/>
              <a:ext cx="161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L-SQL Blo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27"/>
            <p:cNvSpPr/>
            <p:nvPr/>
          </p:nvSpPr>
          <p:spPr>
            <a:xfrm>
              <a:off x="6473160" y="39625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28"/>
            <p:cNvSpPr/>
            <p:nvPr/>
          </p:nvSpPr>
          <p:spPr>
            <a:xfrm>
              <a:off x="6566040" y="22096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Language features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s constructs like any other 4th generation languag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s and Data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s and Control stat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dures and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g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s (Its like structure in C langua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PL SQL  program structure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cl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All Variables, cursors, exception etc  are declared her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All programming logic , queries , program statements are written her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All Error Handling code is written her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nd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It ends th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PL SQL  nested block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b9f25"/>
                </a:solidFill>
                <a:latin typeface="Arial"/>
              </a:rPr>
              <a:t>&lt;&lt;Outer Block&gt;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b9f2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b9f2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b9f25"/>
                </a:solidFill>
                <a:latin typeface="Arial"/>
              </a:rPr>
              <a:t>Decl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b9f2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b9f2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b9f25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&lt;&lt;Inner Block&gt;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Decl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Ex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b9f2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b9f2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b9f25"/>
                </a:solidFill>
                <a:latin typeface="Arial"/>
              </a:rPr>
              <a:t>Ex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b9f2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b9f2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b9f25"/>
                </a:solidFill>
                <a:latin typeface="Arial"/>
              </a:rPr>
              <a:t>End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PL SQL Block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member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lare is optional and only required when variables need to be decla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ption is optional and required when Error/Exception handling is d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 and End are  mandatory as all logic and queries are written inside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5T07:42:31Z</dcterms:created>
  <dc:creator>cobra</dc:creator>
  <dc:description/>
  <dc:language>en-US</dc:language>
  <cp:lastModifiedBy>cse</cp:lastModifiedBy>
  <dcterms:modified xsi:type="dcterms:W3CDTF">2015-08-02T08:09:00Z</dcterms:modified>
  <cp:revision>41</cp:revision>
  <dc:subject/>
  <dc:title>Introduction to PL/SQL</dc:title>
</cp:coreProperties>
</file>