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9CE7-470B-46E8-99B2-2580A227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994D-BB44-4F3D-8A7F-A889A482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CBEA-FA86-4A4E-98A8-6AACA5CC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D143-E298-40C8-96C5-DD220A84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CED7-E3AD-4AD8-8F05-EA2BF335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72F8-678B-449A-875C-FD7469F0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B9B0-A1F0-4246-AFD1-F63903F1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51DE-0F08-437E-B3D2-C0B91C79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EDA0-20E8-4549-A1B4-C3D9ED00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7C91-7406-4173-BFC7-75DA266D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304A-60A8-4AAA-9097-0641910F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FB22-2595-4C13-BDAC-95D06162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CD4F-0A4F-4C40-962C-B69AA941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A683-7983-43E0-BAC4-51426248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D917-5C2C-4540-BAA1-B5588D43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0788-F878-4E18-8C9D-342C2ABF0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5628-B515-4D47-8FF8-04B7E176F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737EE-3E0B-4766-8A31-DA1BB4BD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B2876-383E-44F1-98A6-BD72EAC9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CFDE0-C2B8-40E0-AA4C-514D9779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866F1-C522-4D64-B659-7BF48ACB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CE1CD-C32B-4342-A4C0-808F8D6B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9889-6B2D-4893-A5F8-F31BBCFF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9875B-980C-47A9-ADCC-D2AFBB60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50E78-4942-4697-9DE9-FB3C4D7D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AE88B-81B1-4AD2-ABCB-A61D9AB4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C1AA5-0703-4B74-A67F-5B540FE4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F15F9-38A6-4381-A9F3-9E2CC75B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80389-E797-49B0-8CE3-7908C63A9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03E99-E57D-4D37-8473-616A380C2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D17E9-86D0-4C47-B5F9-BDC4703D7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2112D-7599-4B99-8BE1-E05885D5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4B88A-D21D-4397-AE6C-993371E5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42F5-E8DF-41C1-9503-6402A2FF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8F991-8D8F-468F-B8D9-7B167451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A2EB2-179B-4542-A653-43D90D9D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1BA09-E382-4DCD-9899-2F53EA5E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08C9B-044B-4473-859D-7E0820AF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D8C4B-4BAC-474B-9AEC-C951A019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A947D-36D6-408B-893D-84175DA3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40B42-5252-4FD9-A179-FB1DB6F5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92A02-3912-4798-9578-AB12F4B3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01AA1-BBA4-4D50-BF61-592B0EB21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69DE55-E371-409C-A6B5-8E28ECF77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300A-2BBB-4AED-B50C-29077271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29113F-A580-428F-87E1-4D613FAC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466D28-1145-4BBA-91CA-6A4DD7B8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00986B-4B84-49D7-8E4B-F1AFBAAE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625BE8-F88C-4861-9289-7A1F2D6E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3857B9-44B5-4A02-A9DE-D85D53D2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914D29-8DA6-4C19-90A3-82ADD9D5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E3C4F9-D494-42F9-8070-7D81444C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4CBEF3-D923-46AF-8426-05FBFBF5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5A6972-3368-4DF9-98F1-BD7B9056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AFB832-49F5-415D-9C23-6A12DB2CC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D124-A5C0-4D31-9E5C-935BE531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E95BAF-DD9F-404D-A590-91910BDCD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A057A1-8858-4F8E-AA2E-1CB58EFA7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26AA6E-E498-4AE3-861D-DCA28AA2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F127C2-5FC3-4E22-95FA-F87F19EB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8DF4CF-B0B0-4BD2-89FD-41B4C7A2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07FABD-93C3-4781-9B9D-3465B747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101712-530C-4499-A2A4-09EA5020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D32953-393C-4285-9053-2800FFEB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BA157E-DF8B-43A8-ADF7-D51A330A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98D439-FE85-4881-A42A-D2592E6C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D5E2-E730-42C8-ADAB-B3E051B2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16951D-B7A7-4D62-B162-37C61B24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12B1D2-FD62-4240-89E6-2CFCDABD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E327E7-C62B-42C6-9E01-50444A41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5850-7485-41FE-BC8C-88854FB4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BA67-BB42-48EF-A442-B8340425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52C0-8B37-4D9B-B7A3-308677C2825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ED7E-C4B0-4777-865C-7B4A44360F3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A221-D570-49A1-8C1C-2E64557E8D1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C547-7A01-4EBA-A2E7-321D3B6BE1B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DA87-580F-4A59-86AC-4CAF9650AB0D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Constantia"/>
              </a:rPr>
              <a:t>Rushdi Shams, Dept of CSE, KU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BD49-7632-42B5-9F53-FF57D41952A4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Constantia"/>
              </a:rPr>
              <a:t>Rushdi Shams, Dept of CSE, KU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Jo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Join operations bring together two tables and combine their rows and columns in a specific fashion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he generic join operator called the </a:t>
            </a:r>
            <a:r>
              <a:rPr b="1" i="1" lang="en-GB" sz="2800" spc="-1" strike="noStrike">
                <a:solidFill>
                  <a:srgbClr val="ff0000"/>
                </a:solidFill>
                <a:latin typeface="Constantia"/>
              </a:rPr>
              <a:t>Theta Join</a:t>
            </a: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is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It takes as arguments the columns from the two tables that are to be joined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When the join condition operator is   </a:t>
            </a: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  then we call this an Equijo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7" name="Picture 6" descr="joinop"/>
          <p:cNvPicPr/>
          <p:nvPr/>
        </p:nvPicPr>
        <p:blipFill>
          <a:blip r:embed="rId1"/>
          <a:stretch/>
        </p:blipFill>
        <p:spPr>
          <a:xfrm>
            <a:off x="8381880" y="3048120"/>
            <a:ext cx="247680" cy="218880"/>
          </a:xfrm>
          <a:prstGeom prst="rect">
            <a:avLst/>
          </a:prstGeom>
          <a:ln w="0">
            <a:noFill/>
          </a:ln>
        </p:spPr>
      </p:pic>
      <p:sp>
        <p:nvSpPr>
          <p:cNvPr id="298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6D94-B7E3-4A04-8C8E-010B950B42F6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Left Outer Joi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57" name="Object 2"/>
          <p:cNvGraphicFramePr/>
          <p:nvPr/>
        </p:nvGraphicFramePr>
        <p:xfrm>
          <a:off x="179280" y="836640"/>
          <a:ext cx="215100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215100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Picture 11" descr=""/>
          <p:cNvPicPr/>
          <p:nvPr/>
        </p:nvPicPr>
        <p:blipFill>
          <a:blip r:embed="rId3"/>
          <a:stretch/>
        </p:blipFill>
        <p:spPr>
          <a:xfrm>
            <a:off x="6778800" y="620640"/>
            <a:ext cx="2041200" cy="26751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PEOPLE   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nstantia"/>
              </a:rPr>
              <a:t>people.food = menu.food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MEN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32A9-F9BD-466E-A997-8771EB77511B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Object 3"/>
          <p:cNvGraphicFramePr/>
          <p:nvPr/>
        </p:nvGraphicFramePr>
        <p:xfrm>
          <a:off x="2484360" y="2565360"/>
          <a:ext cx="4168800" cy="208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3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4360" y="2565360"/>
                    <a:ext cx="416880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4" name="Picture 13" descr="loj"/>
          <p:cNvPicPr/>
          <p:nvPr/>
        </p:nvPicPr>
        <p:blipFill>
          <a:blip r:embed="rId6"/>
          <a:stretch/>
        </p:blipFill>
        <p:spPr>
          <a:xfrm>
            <a:off x="1835280" y="4797360"/>
            <a:ext cx="29196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Right Outer Joi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66" name="Object 2"/>
          <p:cNvGraphicFramePr/>
          <p:nvPr/>
        </p:nvGraphicFramePr>
        <p:xfrm>
          <a:off x="179280" y="836640"/>
          <a:ext cx="215100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215100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8" name="Picture 5" descr=""/>
          <p:cNvPicPr/>
          <p:nvPr/>
        </p:nvPicPr>
        <p:blipFill>
          <a:blip r:embed="rId3"/>
          <a:stretch/>
        </p:blipFill>
        <p:spPr>
          <a:xfrm>
            <a:off x="6778800" y="620640"/>
            <a:ext cx="2041200" cy="267516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PEOPLE     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nstantia"/>
              </a:rPr>
              <a:t>people.food = menu.food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MEN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7417-A10E-4764-AD83-5E33A7C48B14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Object 3"/>
          <p:cNvGraphicFramePr/>
          <p:nvPr/>
        </p:nvGraphicFramePr>
        <p:xfrm>
          <a:off x="2411280" y="2133720"/>
          <a:ext cx="4345200" cy="234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11280" y="2133720"/>
                    <a:ext cx="434520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3" name="Picture 12" descr="roj"/>
          <p:cNvPicPr/>
          <p:nvPr/>
        </p:nvPicPr>
        <p:blipFill>
          <a:blip r:embed="rId6"/>
          <a:stretch/>
        </p:blipFill>
        <p:spPr>
          <a:xfrm>
            <a:off x="1908000" y="4797360"/>
            <a:ext cx="2923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Full Outer Joi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75" name="Object 2"/>
          <p:cNvGraphicFramePr/>
          <p:nvPr/>
        </p:nvGraphicFramePr>
        <p:xfrm>
          <a:off x="179280" y="836640"/>
          <a:ext cx="215100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215100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7" name="Picture 5" descr=""/>
          <p:cNvPicPr/>
          <p:nvPr/>
        </p:nvPicPr>
        <p:blipFill>
          <a:blip r:embed="rId3"/>
          <a:stretch/>
        </p:blipFill>
        <p:spPr>
          <a:xfrm>
            <a:off x="6778800" y="620640"/>
            <a:ext cx="2041200" cy="26751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PEOPLE      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nstantia"/>
              </a:rPr>
              <a:t>people.food = menu.food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MEN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5B82-D9FA-4722-AAC8-0598628F194A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Object 3"/>
          <p:cNvGraphicFramePr/>
          <p:nvPr/>
        </p:nvGraphicFramePr>
        <p:xfrm>
          <a:off x="2484360" y="1773360"/>
          <a:ext cx="4200480" cy="3049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1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4360" y="1773360"/>
                    <a:ext cx="420048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2" name="Picture 8" descr="foj"/>
          <p:cNvPicPr/>
          <p:nvPr/>
        </p:nvPicPr>
        <p:blipFill>
          <a:blip r:embed="rId6"/>
          <a:stretch/>
        </p:blipFill>
        <p:spPr>
          <a:xfrm>
            <a:off x="1908000" y="5300640"/>
            <a:ext cx="368640" cy="2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Join (continue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0" name="Object 3"/>
          <p:cNvGraphicFramePr/>
          <p:nvPr/>
        </p:nvGraphicFramePr>
        <p:xfrm>
          <a:off x="1063800" y="1523880"/>
          <a:ext cx="3508200" cy="28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1523880"/>
                    <a:ext cx="35082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2"/>
          <p:cNvGraphicFramePr/>
          <p:nvPr/>
        </p:nvGraphicFramePr>
        <p:xfrm>
          <a:off x="5029200" y="1887480"/>
          <a:ext cx="2662200" cy="216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1887480"/>
                    <a:ext cx="266220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4952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Now, we have two tables Emp and depar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We will play with these 2 tables for a while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5C58-E693-4FAE-B1FF-F23F6D8DAAB0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7" name="Object 3"/>
          <p:cNvGraphicFramePr/>
          <p:nvPr/>
        </p:nvGraphicFramePr>
        <p:xfrm>
          <a:off x="76320" y="609480"/>
          <a:ext cx="289548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609480"/>
                    <a:ext cx="289548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2"/>
          <p:cNvGraphicFramePr/>
          <p:nvPr/>
        </p:nvGraphicFramePr>
        <p:xfrm>
          <a:off x="11160" y="3124080"/>
          <a:ext cx="2960640" cy="24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" y="3124080"/>
                    <a:ext cx="296064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3496-BC70-4412-8C55-C7F64C9758A7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3048120" y="1371600"/>
          <a:ext cx="5943600" cy="398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1371600"/>
                    <a:ext cx="5943600" cy="39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Rectangle 4"/>
          <p:cNvSpPr/>
          <p:nvPr/>
        </p:nvSpPr>
        <p:spPr>
          <a:xfrm>
            <a:off x="22320" y="5715000"/>
            <a:ext cx="91440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Find all information on every employee including their department inf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EMP    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onstantia"/>
              </a:rPr>
              <a:t>emp.Dept = depart.Dept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 DEPA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16" name="Object 3"/>
          <p:cNvGraphicFramePr/>
          <p:nvPr/>
        </p:nvGraphicFramePr>
        <p:xfrm>
          <a:off x="76320" y="609480"/>
          <a:ext cx="289548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609480"/>
                    <a:ext cx="289548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2"/>
          <p:cNvGraphicFramePr/>
          <p:nvPr/>
        </p:nvGraphicFramePr>
        <p:xfrm>
          <a:off x="11160" y="3124080"/>
          <a:ext cx="2960640" cy="24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" y="3124080"/>
                    <a:ext cx="296064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579096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ake a look, one table has 5 rows, the other has 4 rows, the resultant has 5 rows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7ABD-B8D5-4D10-B5EE-7147F743A8C9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Object 4"/>
          <p:cNvGraphicFramePr/>
          <p:nvPr/>
        </p:nvGraphicFramePr>
        <p:xfrm>
          <a:off x="3048120" y="1371600"/>
          <a:ext cx="5943600" cy="398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1371600"/>
                    <a:ext cx="5943600" cy="39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25" name="Object 3"/>
          <p:cNvGraphicFramePr/>
          <p:nvPr/>
        </p:nvGraphicFramePr>
        <p:xfrm>
          <a:off x="533520" y="609480"/>
          <a:ext cx="346716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34671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Object 2"/>
          <p:cNvGraphicFramePr/>
          <p:nvPr/>
        </p:nvGraphicFramePr>
        <p:xfrm>
          <a:off x="4800600" y="550800"/>
          <a:ext cx="3695760" cy="196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550800"/>
                    <a:ext cx="3695760" cy="19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ind all information on every employee including department info where the employee works in an office numbered less than the department main off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MP   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nstantia"/>
              </a:rPr>
              <a:t>(emp.office &lt; depart.mainoffice) 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Constantia"/>
              </a:rPr>
              <a:t>Λ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nstantia"/>
              </a:rPr>
              <a:t> (emp.dept = depart.dept)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DEPART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DDB3-9975-410C-8D93-08C5C07E00F5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4"/>
          <p:cNvGraphicFramePr/>
          <p:nvPr/>
        </p:nvGraphicFramePr>
        <p:xfrm>
          <a:off x="1219320" y="2666880"/>
          <a:ext cx="5976720" cy="201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2666880"/>
                    <a:ext cx="59767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3" name="Picture 8" descr="joinop"/>
          <p:cNvPicPr/>
          <p:nvPr/>
        </p:nvPicPr>
        <p:blipFill>
          <a:blip r:embed="rId7"/>
          <a:stretch/>
        </p:blipFill>
        <p:spPr>
          <a:xfrm>
            <a:off x="1447920" y="5950080"/>
            <a:ext cx="253800" cy="21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Natural Jo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Notice in the generic (Theta) join operation, any attributes in common (such as dept above) are repeated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Natural Join operation removes these duplicate attribut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natural join operator is: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*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e can also assume using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*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that the join condition will be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on the two attributes in comm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2422-9E88-42D3-9793-CCA976CE69F4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Natural 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8" name="Object 3"/>
          <p:cNvGraphicFramePr/>
          <p:nvPr/>
        </p:nvGraphicFramePr>
        <p:xfrm>
          <a:off x="503280" y="692280"/>
          <a:ext cx="1763640" cy="16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692280"/>
                    <a:ext cx="1763640" cy="16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2"/>
          <p:cNvGraphicFramePr/>
          <p:nvPr/>
        </p:nvGraphicFramePr>
        <p:xfrm>
          <a:off x="6588000" y="692280"/>
          <a:ext cx="2197080" cy="179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692280"/>
                    <a:ext cx="21970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Emp * depar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here are 2 Dept columns, one is omitted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543B-D4F5-439E-BAF5-4C9EA5E3FC9A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Object 4"/>
          <p:cNvGraphicFramePr/>
          <p:nvPr/>
        </p:nvGraphicFramePr>
        <p:xfrm>
          <a:off x="2700360" y="2349360"/>
          <a:ext cx="3657600" cy="214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360" y="2349360"/>
                    <a:ext cx="3657600" cy="21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Outer Jo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n the Join operations so far, only those tuples from both relations that satisfy the join condition are included in the output rel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 Outer join includes other rows as well according to a few rul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ree types of outer join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Left Outer Join   includes all rows in the left hand relation and includes only those matching rows from the right hand rel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ight Outer Join   includes all rows in the right hand relation and includes only those matching rows from the left hand rel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ull Outer Join   includes all rows in the left hand relation and from the right hand rel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D859-C8FC-4672-A97D-2D062FE15B74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Outer 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50" name="Object 2"/>
          <p:cNvGraphicFramePr/>
          <p:nvPr/>
        </p:nvGraphicFramePr>
        <p:xfrm>
          <a:off x="395280" y="981000"/>
          <a:ext cx="3060720" cy="33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81000"/>
                    <a:ext cx="3060720" cy="33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Object 3"/>
          <p:cNvGraphicFramePr/>
          <p:nvPr/>
        </p:nvGraphicFramePr>
        <p:xfrm>
          <a:off x="4716360" y="907920"/>
          <a:ext cx="2889360" cy="378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907920"/>
                    <a:ext cx="2889360" cy="37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Now we have another 2 tabl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We will play with them for next few slides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6AC4-BD3C-4220-9C3D-14AC5982EA60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cse</cp:lastModifiedBy>
  <dcterms:modified xsi:type="dcterms:W3CDTF">2015-07-26T08:02:02Z</dcterms:modified>
  <cp:revision>16</cp:revision>
  <dc:subject/>
  <dc:title>Join</dc:title>
</cp:coreProperties>
</file>