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1CF-D608-48EA-A243-5CD1B60B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F33-A670-4B8D-B95B-35A6C8BA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FF3-B171-4DA4-BC0A-0FC79324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3F3-E424-482C-B029-27BCD8EC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9A08-8EB5-499F-8391-F79D5951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89F3-BB33-4DBF-A6C5-4C8FB64C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28BD-6854-4623-BE4B-DBA2C757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5422-DDAF-46DB-92E8-5D7B28F8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0AE3-6725-447E-B870-E998D65C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87BD-C5DA-4E1D-A1A1-AF6DC454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8D87-6A21-42A5-A5E6-557365B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E56-CB28-4B6F-959D-26BABE69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8CB9-93FA-4D01-8F2A-4B33B81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DE74-C301-4F20-B364-D61AFB39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729E-4874-4749-92B5-A34A53B7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1356-9BD9-44BA-8296-61B560A6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7F89-377A-4D21-959F-55AE82B3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9284-01A7-492A-AE40-45A7B7CF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63C8-A056-4F0E-B8F0-DFD90096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D805-9430-4A80-ADD4-CD7EE7E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A06B-C2C3-48AC-922E-413A8C0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4648-3E44-42C1-A9DC-F1D47A53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27E-EF71-4361-B66B-4F9CF48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3B0A-83F8-4EF9-876E-3EE338B2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727F-F7C7-4A2F-9270-453AC72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AE80-BB4C-4607-815C-7633D662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108F-51CE-4FF6-A458-8D959C3A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1ECA-8FDC-4817-B1A5-1286C6C2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2C8E-F578-48B1-8EC4-3F273423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68E4-575B-462A-BF42-C76D16C9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2C9C-C543-4BF7-852E-09C7040E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3059F-1351-43AD-92E3-D2E483E8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8C510-B1EA-4BFC-B5D4-43B96946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270-9807-4511-B2CC-FBF2982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EA12-1AE6-421F-B9D0-B5C363F4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5B83-D76D-4139-A8E3-16C0FB65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D1BD-B22E-40DA-8B5A-3C02CF4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0CC1-E9AB-44E9-8FAF-0A14A910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CB20-E61C-4CC6-ABD6-E2C5D41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C993-E873-485B-A1D5-A2CF4E75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A209-346C-4120-A7EE-FFB96059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E385-C617-4906-AC0C-D4F36422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1BDF-F8A1-4795-BF10-60EDAB21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4791C-2F39-4500-93F4-030F066C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664-9CD4-4902-BDFE-EC23B18A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A19A-043B-4ABB-8636-E800575D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086B4-5699-4D89-A48B-E93BC232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02DB-279A-4227-A8AB-A0516C05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4270-A97C-4C96-B0DF-3F1B5550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B525-D51D-4DA8-8A02-6C5676C4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C52FA-A0D3-45D4-9CD8-390D094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C9FD2-77A0-4990-83A9-63E6F54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DD7E-BBD8-41F6-B543-2345FDE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C570-65B6-4213-BEF0-68A1707F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8058-5C22-4E69-8857-EFCF4538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4CB-4B91-4163-9A67-164657B0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DB19-93AD-450D-A54F-262CEC45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734-B66E-47A2-B135-3D4733A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4F8-B3B0-4EDB-828F-9DAA5B9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E1C-2AED-462F-BE05-E27C036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46D2-2416-495C-968B-15242700F7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D11D-641F-4F6E-909B-5CD8C40D3D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111D-0618-4E6C-9B53-F539B826E3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C795-FA53-465C-9369-39E906B3CC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A13F-C392-480D-8EDE-D8008507B2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INTRODUCTION TO PL/SQL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209680" y="4038480"/>
            <a:ext cx="4496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K. M. Azharul H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numa Tabassum O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70,’HR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80,’PSD’,’Mumbai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90,’ESG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gram will insert three records at the same time in the table d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displays the sum of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:= &amp;Number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:= &amp;Numbe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:= v_num1 + v_num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The Sum of number is :’ || v_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ave , Edit and Execute program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program in SQL * 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lt;File Na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saved in the bin directory to save in other folder give complet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&lt;File 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dit program saved in folder other then b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program saved in folder other then 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re the keywords in PL-SQL , should not be used as a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, E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, ELSE , ELSIF , 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thmetic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+ , - , * , 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:                                  (AND , OR 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=, &lt;, &gt;,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(Two hyphens)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operator: In PL SQL assignment operator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assign values we need to write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 := 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‘MBT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ds with  operator: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join two strings: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pt valu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**3 means 2 raise to pow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oop we 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X in 1..5 me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numer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or d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ritten in si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 := &amp;Numbe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12560" y="3646440"/>
            <a:ext cx="47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umber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= ‘&amp;Na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   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in case if entered data is not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111840" y="3646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sam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new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dbms_output is a Oracle package its like header file or library in C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ut and .Put_Line are functions like printf in ‘C’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L-SQ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PL-SQ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tructure of PL/SQ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Telecom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‘ ‘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British 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important that at least once you write .put_line after any number of .put functions else values are not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Telecom’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Brit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ifferent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ML operations in Pl-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ML operations (Insert/Update/Delete /Select) are to be written in Begin part of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in the Syntax of Insert , Update and Delete , it is same as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yntax is different then SQL , it contains INTO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lect query can return more then one rows then you should always use cursor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elect Syntax for a Single Row Query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1, column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b9f25"/>
                </a:solidFill>
                <a:latin typeface="Arial"/>
              </a:rPr>
              <a:t>INTO Variable1,Variabl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ondi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change is as many columns you want to get from the query you need to declare that many variables and use INTO cla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parts of query are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here condition here is such that query will return multiple records then CURSOR should be used. Without that it will give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re always declared in DECLARE section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 Name   &lt;Data 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 to decla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mpno  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name varchar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nd preferred way  to declare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Name   TableName.ColName%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mpno  Emp.Empno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name Emp.Ename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will always have same datatype a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change in column will change the type of variable also, so we need not have to change and recompile the program to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ariable Name   TableName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_emp  Emp%RowTyp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40000"/>
              </a:lnSpc>
              <a:spcBef>
                <a:spcPts val="476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able will  become like a structure variable in C (i.e. v_emp will have same structure like Emp Table) and you can refer to individual element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mp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s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your own type in program and use in the declare section to declar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 t_name   is   Varchar2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ow you can make variable of thi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_name and v_name2 both will become varchar2(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&lt;condition1&gt;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IF &lt;Condition2&gt;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ere that for one IF we only need one 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 IF is required for ELSIF i.e for one set of IF condition only one END IF;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v_deptno = 10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'Accounting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v_deptno = 2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ESG')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Invalid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at is PL-SQL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/SQL stands for Procedural Language/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Language extension for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L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within Oracle data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ble from 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re tested as condition is checked first and then code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t tested as condition is checked after the code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ost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s required for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While i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&lt;Variable&gt; IN &lt;Min&gt; .. &lt;Max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is used when we know the number of time the loop is to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0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Reverse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00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reverse i.e from last value to firs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THANK YOU !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y PL SQL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/SQL extends SQL by adding constructs found in procedural languages like procedures, loops, variables, obje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 structural language that is more powerful than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, Is there any Advantage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SQL to send 3 queries we will need three network trips between client and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-SQL we bundle any number of queries in a block and in single network trip tas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"/>
          <p:cNvGrpSpPr/>
          <p:nvPr/>
        </p:nvGrpSpPr>
        <p:grpSpPr>
          <a:xfrm>
            <a:off x="777960" y="1714680"/>
            <a:ext cx="3260520" cy="2438280"/>
            <a:chOff x="777960" y="1714680"/>
            <a:chExt cx="3260520" cy="2438280"/>
          </a:xfrm>
        </p:grpSpPr>
        <p:sp>
          <p:nvSpPr>
            <p:cNvPr id="230" name="Rectangle 4"/>
            <p:cNvSpPr/>
            <p:nvPr/>
          </p:nvSpPr>
          <p:spPr>
            <a:xfrm>
              <a:off x="77796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192852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307944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161360" y="3695760"/>
              <a:ext cx="268524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969480" y="1714680"/>
              <a:ext cx="30690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6136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2504160" y="2171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346320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"/>
          <p:cNvGrpSpPr/>
          <p:nvPr/>
        </p:nvGrpSpPr>
        <p:grpSpPr>
          <a:xfrm>
            <a:off x="4800600" y="1676520"/>
            <a:ext cx="3809880" cy="3047760"/>
            <a:chOff x="4800600" y="1676520"/>
            <a:chExt cx="3809880" cy="3047760"/>
          </a:xfrm>
        </p:grpSpPr>
        <p:sp>
          <p:nvSpPr>
            <p:cNvPr id="239" name="Rectangle 19"/>
            <p:cNvSpPr/>
            <p:nvPr/>
          </p:nvSpPr>
          <p:spPr>
            <a:xfrm>
              <a:off x="50792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19452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3094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5172120" y="4267080"/>
              <a:ext cx="260208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5265000" y="1676520"/>
              <a:ext cx="29736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4800600" y="2519280"/>
              <a:ext cx="380988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5"/>
            <p:cNvSpPr/>
            <p:nvPr/>
          </p:nvSpPr>
          <p:spPr>
            <a:xfrm>
              <a:off x="6095160" y="351000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-SQL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647316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6566040" y="2209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Language featur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onstructs like any other 4th generation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nd Contro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(Its like structure in C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program structur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Variables, cursors, exception etc  are declared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programming logic , queries , program statements are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Error Handling code is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t ends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nested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Arial"/>
              </a:rPr>
              <a:t>&lt;&lt;Out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&lt;&lt;Inn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emb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is optional and only required when variables need to be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 is optional and required when Error/Exception handling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nd End are  mandatory as all logic and queries are written ins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7:42:31Z</dcterms:created>
  <dc:creator>cobra</dc:creator>
  <dc:description/>
  <dc:language>en-US</dc:language>
  <cp:lastModifiedBy>cse</cp:lastModifiedBy>
  <dcterms:modified xsi:type="dcterms:W3CDTF">2015-08-02T08:09:00Z</dcterms:modified>
  <cp:revision>41</cp:revision>
  <dc:subject/>
  <dc:title>Introduction to PL/SQL</dc:title>
</cp:coreProperties>
</file>