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46E4-61BB-45B8-9D1F-E50DC879B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D889-D630-42D3-8CFE-A6C92D7D212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FFC9-90F0-470B-87CB-B19A86B9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715F-4FDE-4395-81E7-3ECDBDDE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560A5B-4285-499C-B227-598D73BB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2F4524-EDF3-465E-ACD1-2280ECB4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9CF3B9-9498-4CA4-8AEC-D3DD2339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1DF881-363E-4720-B3D3-B7A5D049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4A78F9-8365-4C10-803C-A7CAA6FC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DCBC1F-F964-4B34-A4EF-666CAAD3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B6E8C0-A63C-41DC-813A-1D1B1FF3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E61385-7914-4FEF-9C94-09583691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C9F6D7-7C8A-49CD-8200-910F4C40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43877-C6F2-4187-8371-98A2F7ED2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620-9A46-4310-9A8C-3269C353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A286D-7FB4-4EA5-88AC-7E5A79E4719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1AFFF8-0E5B-4FCF-9F50-134204BE2AB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B17441-EE93-4519-8B73-772D7F6B0F6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F0E3BE-98A0-478F-9C94-D35970CD11B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BF98E-A3E7-4156-B2DF-151CD305DB8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BEDC5-41E6-49AB-B4D1-07C7A398057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9205C3-41FC-4A40-8E87-88464FDED2D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F8772-461C-4D5E-B767-F7DECA51176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5F09DA-99C0-4AE2-809A-164D42E9EAE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A441C3-64D1-4709-9080-F5336D4EC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DD2D-BE71-408F-9C81-640F6620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A6559-067C-4898-9E64-208743680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84692-DDBF-4A55-B52B-7E8BEDA4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BB080-E568-4153-9D05-6D7B9D9B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CB902-E55E-444B-8F6E-72647BC0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3B647-ADAD-4272-B574-CD29D523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2A551-1EC8-43E0-B7F2-300753D2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8BE44-0E0E-41F5-B67B-A5F6B1E1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E6D88-3EBF-4811-8561-B0573EDB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AD6-6CAC-4A32-AB81-726593CA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3E241-C862-41FB-926E-F5EAF525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27ABE-F4A4-4619-8819-77F0460D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63846-90A2-4BC0-A72D-E43DE1E6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CAA89-C6C4-487C-8212-A1C199E8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C6313-DDA9-451F-999B-AD941835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DD821-103F-41B1-8496-A7429D1D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B27C9-B777-496B-8DCC-84B34356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A2CF2-518D-488C-8579-A5971F5D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521C5-3BE6-403A-A912-D36F5EE9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7E6A6-D373-4F12-86DA-FB6F6FA2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D196-94A7-4591-ACF6-432F5E23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5840D-9E71-4F5A-BC14-32748C4D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E632E-1FA4-47AB-BFDF-F4A05F1E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DB58-A960-431D-B83B-4601425B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6E33F-09C7-44C2-9284-9FB9358A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3B71E-7514-4F43-ACC4-3B96DDF9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48E5A-7D21-46AE-B3AC-B02F49AB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288B5-43E3-4BFF-BAF1-E54AA4AE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5D0890-D944-4777-BD4A-78CCB851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104986-EE70-43A6-B779-3E96F9BE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DD42E1-7877-4546-A8F7-DB219DBB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096-E002-4425-AB23-B5E1232A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4D5A69-9D1E-4F1C-9EDE-4ACCD5FB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32623B-F967-4896-ACB4-9DD79418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02E03-9FAD-40D3-A4CC-C02506AE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342D7E-52F7-4698-86D6-E30950A8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329BF4-AB44-4BBE-8A3C-7659B9C3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68CC3D-D8D3-4980-A99F-E31F83AB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8F29CA-F241-4A23-B81C-2F29E7A9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697913-2866-454C-A324-44906EE5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8D10EF-4581-4F6A-B482-74E04DEA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F40E3-561C-4A98-B7EB-F73D0AB7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293-1B5B-44A6-9F08-33C309DB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B970A-7E4E-4A94-B37A-B425CF43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E3379-74CC-4EC8-9A09-B89A7F64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454D0-587A-4EB4-B483-0BAF8F06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0D797-02F0-4B97-91AC-B07C059E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C8E4D-8664-4D0F-AA7E-94828CCE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1FB9C-5D44-4316-97A5-4096E337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116E6-0CCA-4B86-B65D-E7EF4EAE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C7CC2-9260-475E-9041-40B3DCA7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73541-6E4E-4006-9ECF-E81A7551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8D376-B2B7-470C-87E1-539866C4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8F3-FCE1-422A-BEBF-4F7D63D3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2154B-3571-4EAA-B59A-F6703475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1C049-7A34-4275-9A77-76647176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335EA-1849-4865-BB4E-B0CC41B6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20128-DE09-4ADA-8ACB-C06F1BB4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036BC-DF9F-4E99-BED6-89A47F50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9FA89-7A53-4420-9EF3-93D9C594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08F3F-5085-4082-9941-C6154518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762DB-3C60-47CA-8ACB-0450ABBE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3D5C3-2B2F-4397-A99E-E06ABA7B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BC9D0-2432-4B92-95A3-28C8EB4B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653-B54C-43B1-A296-5196855E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7EB73-0FD4-4B46-BBBF-C0515800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AA1FD-EAE7-4116-9040-663328D8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7AB4C-5E83-4D57-A8C1-7927093D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D2A94-649D-4322-B7FC-9E5C5F5E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CEB01-B49F-4C8C-9FE7-5574A8E8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7BFC7-B305-44A9-96DD-A3FD0606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8327A-11CB-43D5-A5A6-6B401EFC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ABB7D-B0D0-40F9-978C-87AF827C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A5A87-7ED8-482B-9E17-61543F98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CF4C7-4A88-4A95-BB7D-C1DEC052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285E-89E1-41E2-9FC8-5277BFDF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FF78B-1233-4293-81C0-5FD55B74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1AD2E-663F-4F3A-BD9A-071469FD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83D6F-C615-440A-824A-90137D7B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73E7D-1B5C-4C4A-98E6-5EF8D4D7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776EB-F635-4ABC-B7B6-21AAF42C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3D1CAB-A81D-4FAB-B545-FC7769D2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C8BC84-E72D-4FA8-999A-C0ED1977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D687DF-6D3B-4143-B67A-438D0109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BE06C2-D808-4DF1-B780-8A1E20ED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3BB528-A1C4-442A-8BED-6ABB37E7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A5A-B2D3-4B6A-BA68-626CBB6D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BC0202-96E5-4E3D-A862-7EA08ED9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6509BF-FCAD-438A-9CC5-5D5433BB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517BDB-F22A-41A5-A950-81A5BD1B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2EED80-C9F8-4EC5-A766-101F1B70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FADD15-8555-4DD0-A3D2-9809E739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82E7B6-1177-465F-A6F7-0BC19DE1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FAAFB0-463C-43D7-A05C-8074732F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9B1D8A-C376-4B7C-BE6F-184FD577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69EC3E-F606-493C-B5D5-1CC611C6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82DD5E-6EEE-4D20-95A5-ABCC311A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58FB-1970-4AB5-8C3F-D68C1BEC1868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9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Num" idx="28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8ADB-EC51-4589-BA97-B30E46EC9BCD}" type="slidenum">
              <a:rPr b="0" lang="en-GB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944E-BEF2-43EC-96DC-E574CB94ECD0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2F31-F2A8-4C52-A4E1-908AF01F51A1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0A0B-3E14-40B4-A7D0-4124C6A741CF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C624-1C13-4F26-BD11-1CBC5BADC7DE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EF08-45D6-4D41-B2F4-32D99F34C40A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DC7D-EBA7-428C-8A3E-3FC584A3B794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3FFD-EE84-4E40-806C-9B0612716C46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0721-2D70-4B59-8D5D-17CB1AB144FE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4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248D-AC81-41D8-92C4-6EC2DEE1CA08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a4b8c4"/>
                </a:solidFill>
                <a:latin typeface="Rockwell"/>
              </a:rPr>
              <a:t>Rushdi Shams, Dept of CSE, KUET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Title 3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You can give a table or a column another name by using an alias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s can be a good thing to do if you have very long or complex table names or column names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SQL Alias Syntax for Tabl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SELECT column_name(s)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FROM table_name AS alias_nam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SQL Alias Syntax for Colum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SELECT column_name AS alias_name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FROM table_name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" descr=""/>
          <p:cNvPicPr/>
          <p:nvPr/>
        </p:nvPicPr>
        <p:blipFill>
          <a:blip r:embed="rId2"/>
          <a:stretch/>
        </p:blipFill>
        <p:spPr>
          <a:xfrm>
            <a:off x="611280" y="1752480"/>
            <a:ext cx="7008840" cy="1667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"/>
          <p:cNvPicPr/>
          <p:nvPr/>
        </p:nvPicPr>
        <p:blipFill>
          <a:blip r:embed="rId3"/>
          <a:stretch/>
        </p:blipFill>
        <p:spPr>
          <a:xfrm>
            <a:off x="609480" y="4191120"/>
            <a:ext cx="78552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e2d700"/>
                </a:solidFill>
                <a:uFillTx/>
                <a:latin typeface="Rockwell"/>
              </a:rPr>
              <a:t>Set theory operation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Rockwell"/>
              </a:rPr>
              <a:t>Un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Rockwell"/>
              </a:rPr>
              <a:t>Interse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Rockwell"/>
              </a:rPr>
              <a:t>Differenc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2AF9-0E3C-4A5D-8291-76D7D97B680F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Rectangle 2" descr=""/>
          <p:cNvPicPr/>
          <p:nvPr/>
        </p:nvPicPr>
        <p:blipFill>
          <a:blip r:embed="rId1"/>
          <a:stretch/>
        </p:blipFill>
        <p:spPr>
          <a:xfrm>
            <a:off x="378000" y="262080"/>
            <a:ext cx="808344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1" name="Object 2"/>
          <p:cNvGraphicFramePr/>
          <p:nvPr/>
        </p:nvGraphicFramePr>
        <p:xfrm>
          <a:off x="2146320" y="1676520"/>
          <a:ext cx="1514520" cy="19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6320" y="1676520"/>
                    <a:ext cx="151452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3"/>
          <p:cNvGraphicFramePr/>
          <p:nvPr/>
        </p:nvGraphicFramePr>
        <p:xfrm>
          <a:off x="1711440" y="3801960"/>
          <a:ext cx="2436840" cy="198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1440" y="3801960"/>
                    <a:ext cx="243684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9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ckwell"/>
              </a:rPr>
              <a:t>There are 2 tables- R and S, we will play with them!!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6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F9D5-DAC4-450C-BA3D-735CF57B97D5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378000" y="262080"/>
            <a:ext cx="808344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8" name="Object 2"/>
          <p:cNvGraphicFramePr/>
          <p:nvPr/>
        </p:nvGraphicFramePr>
        <p:xfrm>
          <a:off x="773280" y="1773360"/>
          <a:ext cx="166500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3280" y="1773360"/>
                    <a:ext cx="166500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3"/>
          <p:cNvGraphicFramePr/>
          <p:nvPr/>
        </p:nvGraphicFramePr>
        <p:xfrm>
          <a:off x="457200" y="4157640"/>
          <a:ext cx="2189160" cy="178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57640"/>
                    <a:ext cx="218916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49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ckwell"/>
              </a:rPr>
              <a:t>RUS means, a union operation on R and S that will produce another table which will have all the rows of R and S </a:t>
            </a:r>
            <a:r>
              <a:rPr b="1" lang="en-GB" sz="2400" spc="-1" strike="noStrike">
                <a:solidFill>
                  <a:srgbClr val="ffff00"/>
                </a:solidFill>
                <a:latin typeface="Rockwell"/>
              </a:rPr>
              <a:t>except the duplicate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ckwell"/>
              </a:rPr>
              <a:t>There are 2 Sally in R and S, so, just take 1 from them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40DB-3462-48BC-9F97-A8A7E5DDF693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graphicFrame>
        <p:nvGraphicFramePr>
          <p:cNvPr id="464" name="Object 4"/>
          <p:cNvGraphicFramePr/>
          <p:nvPr/>
        </p:nvGraphicFramePr>
        <p:xfrm>
          <a:off x="2932200" y="1773360"/>
          <a:ext cx="1944720" cy="439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5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32200" y="1773360"/>
                    <a:ext cx="194472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378000" y="262080"/>
            <a:ext cx="808344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7" name="Object 2"/>
          <p:cNvGraphicFramePr/>
          <p:nvPr/>
        </p:nvGraphicFramePr>
        <p:xfrm>
          <a:off x="849240" y="1676520"/>
          <a:ext cx="166536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240" y="1676520"/>
                    <a:ext cx="166536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Object 3"/>
          <p:cNvGraphicFramePr/>
          <p:nvPr/>
        </p:nvGraphicFramePr>
        <p:xfrm>
          <a:off x="387360" y="4049640"/>
          <a:ext cx="2508120" cy="204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0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7360" y="4049640"/>
                    <a:ext cx="250812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49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ckwell"/>
              </a:rPr>
              <a:t>R-S means, a difference operation on R and S that will produce another table which will have all the rows which is in R but not in 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ckwell"/>
              </a:rPr>
              <a:t>As Sally is in R and in S, so, she has been omitted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5C78-C1C1-4841-8766-651ED5C485BF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graphicFrame>
        <p:nvGraphicFramePr>
          <p:cNvPr id="473" name="Object 4"/>
          <p:cNvGraphicFramePr/>
          <p:nvPr/>
        </p:nvGraphicFramePr>
        <p:xfrm>
          <a:off x="3100320" y="2608200"/>
          <a:ext cx="1928880" cy="2665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4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00320" y="2608200"/>
                    <a:ext cx="192888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Rectangle 2" descr=""/>
          <p:cNvPicPr/>
          <p:nvPr/>
        </p:nvPicPr>
        <p:blipFill>
          <a:blip r:embed="rId1"/>
          <a:stretch/>
        </p:blipFill>
        <p:spPr>
          <a:xfrm>
            <a:off x="378000" y="262080"/>
            <a:ext cx="808344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Object 2"/>
          <p:cNvGraphicFramePr/>
          <p:nvPr/>
        </p:nvGraphicFramePr>
        <p:xfrm>
          <a:off x="773280" y="1752480"/>
          <a:ext cx="1665000" cy="218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3280" y="1752480"/>
                    <a:ext cx="166500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Object 3"/>
          <p:cNvGraphicFramePr/>
          <p:nvPr/>
        </p:nvGraphicFramePr>
        <p:xfrm>
          <a:off x="401760" y="4157640"/>
          <a:ext cx="2189160" cy="178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1760" y="4157640"/>
                    <a:ext cx="218916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49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ckwell"/>
              </a:rPr>
              <a:t>R∩S means, an intersection operation on R and S that will produce another table which will have all the rows which are in both R and 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ckwell"/>
              </a:rPr>
              <a:t>As Sally is in R and in S, so, she has been selected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52E2-8E8C-423B-A146-3BE69F12E13A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graphicFrame>
        <p:nvGraphicFramePr>
          <p:cNvPr id="482" name="Object 4"/>
          <p:cNvGraphicFramePr/>
          <p:nvPr/>
        </p:nvGraphicFramePr>
        <p:xfrm>
          <a:off x="2700360" y="2906640"/>
          <a:ext cx="2158920" cy="1422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3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00360" y="2906640"/>
                    <a:ext cx="215892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Fig03-05"/>
          <p:cNvPicPr/>
          <p:nvPr/>
        </p:nvPicPr>
        <p:blipFill>
          <a:blip r:embed="rId2"/>
          <a:stretch/>
        </p:blipFill>
        <p:spPr>
          <a:xfrm>
            <a:off x="685800" y="1832040"/>
            <a:ext cx="7767720" cy="3882960"/>
          </a:xfrm>
          <a:prstGeom prst="rect">
            <a:avLst/>
          </a:prstGeom>
          <a:ln w="0">
            <a:noFill/>
          </a:ln>
        </p:spPr>
      </p:pic>
      <p:sp>
        <p:nvSpPr>
          <p:cNvPr id="486" name="Slide Number Placeholder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5413-E3E7-4649-953A-0CA370CCC8BC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3" descr="Fig03-07"/>
          <p:cNvPicPr/>
          <p:nvPr/>
        </p:nvPicPr>
        <p:blipFill>
          <a:blip r:embed="rId2"/>
          <a:stretch/>
        </p:blipFill>
        <p:spPr>
          <a:xfrm>
            <a:off x="838080" y="2349360"/>
            <a:ext cx="7664400" cy="1820880"/>
          </a:xfrm>
          <a:prstGeom prst="rect">
            <a:avLst/>
          </a:prstGeom>
          <a:ln w="0">
            <a:noFill/>
          </a:ln>
        </p:spPr>
      </p:pic>
      <p:sp>
        <p:nvSpPr>
          <p:cNvPr id="489" name="Slide Number Placeholder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CEF4-9143-41D1-92E0-CF42E129FF42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Fig03-06"/>
          <p:cNvPicPr/>
          <p:nvPr/>
        </p:nvPicPr>
        <p:blipFill>
          <a:blip r:embed="rId2"/>
          <a:stretch/>
        </p:blipFill>
        <p:spPr>
          <a:xfrm>
            <a:off x="762120" y="2492280"/>
            <a:ext cx="7968960" cy="1892520"/>
          </a:xfrm>
          <a:prstGeom prst="rect">
            <a:avLst/>
          </a:prstGeom>
          <a:ln w="0">
            <a:noFill/>
          </a:ln>
        </p:spPr>
      </p:pic>
      <p:sp>
        <p:nvSpPr>
          <p:cNvPr id="492" name="Slide Number Placeholder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FCE3-AA10-4BA8-BF3A-CADF7A1C4855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Rushdi Shams</cp:lastModifiedBy>
  <dcterms:modified xsi:type="dcterms:W3CDTF">2009-04-22T03:40:46Z</dcterms:modified>
  <cp:revision>3</cp:revision>
  <dc:subject/>
  <dc:title>Set Operations</dc:title>
</cp:coreProperties>
</file>