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8FD9-4996-4D06-A9FE-173F94E53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3F6C-E3AF-463D-A6EA-25CE7F2E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016D-8DC9-42DD-AEA5-88FD627C3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5D65-8ED3-4397-9315-98BE519CB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93C6-47DB-44A6-A55A-C1E98B87A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AC3C-3BC0-463F-9D4F-87367B65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3C12-6142-4637-897B-2F681CAC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6162-7892-4AED-859C-46F7835E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F8E7-8F6F-412C-865B-5E9EDE4F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337E-61EE-421D-8985-26829409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A16C-6E5B-46FA-8E71-9A661F79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90B9-C3E7-4FA7-9E55-6E507AA2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977F-18DB-4152-84F1-4E956FB4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EE40-513A-4964-A71B-2936D7DA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3C17-4540-4CCE-B316-9F59BA5F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4D98-82AA-4532-AC33-02762D11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69E5-0EB3-431E-BE13-66EDD5326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2CE79-A052-44CC-929E-B01589DAF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79EC6-A368-4749-BB5C-887658B5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6DF48-0C3D-4643-B3CA-4E3CA087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8ABA4-822F-40D4-BE2E-97690835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84636-368C-4620-AE92-143562E5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CC47-AE0E-4B55-B741-69A4890D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105FA-AFA1-42BF-9EA3-DCB465D4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CCDC9-1119-4355-8C3A-2BACDF17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12420-06B9-4CFF-9682-F5CD3A19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9A258-08A7-44DF-971D-8422D090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5797B-3AA7-4292-B027-F8390EAC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DA261-7824-4E5D-9433-1B8C5992B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64D4C-76EC-4705-9C1A-E641517F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1FE89-B004-4786-98A1-6CB0048EC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AB9A2-63E6-4536-A070-FE658EE1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C95DC-5948-4416-A9AB-4409EAC5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4934-8C5E-4700-8A98-815E6360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3F109-D31B-4FF5-BF45-41240B0B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5BD8C-8017-41C5-B165-08A5F079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39149-185E-4650-B6B1-AF0EDDB5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2EA35-9340-4434-A08D-303CBAE2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8AC1A-B872-4673-BA5B-57975690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C55F1-2C3A-4CF3-8879-2396B743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EFA05-5963-4FB1-A6D9-0777F47C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F5D02-3539-418C-B2CB-4DD609F0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890DE-C1AB-4BBE-B2EA-CF52B1DE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3A8360-E93D-43F0-89A3-97B38025F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0306-A4BB-44F2-BBD5-999FA040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1EE8DD-0769-4FC9-8BDE-3E7462EE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E72C47-27CA-4928-A99B-040D2DC6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615DEA-B217-44FF-8D68-431AE27B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DA8C42-FFD9-4A50-985A-66996391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96DA0D-E02C-4DF2-B0C7-7D3A8F5E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9E63A7-5247-4B31-9887-CB9704D7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BA7A73-E84D-4C67-B8F8-C85721CD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597F8C-5061-4BCC-9CD1-FEDC98AF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7DB98A-2A07-4AA8-A9D3-2294AD01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337057-52E8-42E4-AF81-D6B7B61B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252A-C796-43F3-BADA-DCEE1690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E1D5FE-7DBD-441E-B826-6C710E9EB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AABED5-C368-4F21-8900-76130758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B30560-1031-4536-915E-6E4E787D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1450DE-0107-42E5-A946-BF68BC06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AC8927-178E-4AA9-8E39-18FC74E0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BB25D3-6257-4B00-8EC5-C24BF621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DF7946-7862-4374-8029-9561F26A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229280-590E-4C18-A5F5-87EA39BF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8FE73A-C7FA-4AF7-BF98-58D2C4D2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97078D-7E1D-4897-A83F-6041E8B6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1A67-A400-4FA5-9500-0858E41F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C64CCD-4A0D-44EA-B3BB-387796FD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6FC0B4-1EEC-4315-9FEA-C6293B11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F56967-85DD-4638-A970-36D93DBEA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49E8-0B6E-41A6-B75A-9F348D03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AD3E-A580-4F97-8B8A-B7E4887F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4E28-16A6-4A5A-880C-B112ED67FC8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DF96-B5FF-477D-B333-A96221307DD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42FD-D1CC-4346-B9D5-C28BE1CF3CD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8B62-FC1F-4DF2-8878-219FCDEF520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BE00-9915-4A66-84CE-F67BDAA0C455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Constantia"/>
              </a:rPr>
              <a:t>Rushdi Shams, Dept of CSE, KU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C1CE-DB36-4F2D-BB82-62226DB67E94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Constantia"/>
              </a:rPr>
              <a:t>Rushdi Shams, Dept of CSE, KU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Jo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Join operations bring together two tables and combine their rows and columns in a specific fashion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he generic join operator called the </a:t>
            </a:r>
            <a:r>
              <a:rPr b="1" i="1" lang="en-GB" sz="2800" spc="-1" strike="noStrike">
                <a:solidFill>
                  <a:srgbClr val="ff0000"/>
                </a:solidFill>
                <a:latin typeface="Constantia"/>
              </a:rPr>
              <a:t>Theta Join</a:t>
            </a: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is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It takes as arguments the columns from the two tables that are to be joined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When the join condition operator is   </a:t>
            </a: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  then we call this an Equijo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7" name="Picture 6" descr="joinop"/>
          <p:cNvPicPr/>
          <p:nvPr/>
        </p:nvPicPr>
        <p:blipFill>
          <a:blip r:embed="rId1"/>
          <a:stretch/>
        </p:blipFill>
        <p:spPr>
          <a:xfrm>
            <a:off x="8381880" y="3048120"/>
            <a:ext cx="247680" cy="218880"/>
          </a:xfrm>
          <a:prstGeom prst="rect">
            <a:avLst/>
          </a:prstGeom>
          <a:ln w="0">
            <a:noFill/>
          </a:ln>
        </p:spPr>
      </p:pic>
      <p:sp>
        <p:nvSpPr>
          <p:cNvPr id="298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4025-08F3-4C65-8010-9AF04E16A5B7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Left Outer Joi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57" name="Object 2"/>
          <p:cNvGraphicFramePr/>
          <p:nvPr/>
        </p:nvGraphicFramePr>
        <p:xfrm>
          <a:off x="179280" y="836640"/>
          <a:ext cx="215100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215100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Picture 11" descr=""/>
          <p:cNvPicPr/>
          <p:nvPr/>
        </p:nvPicPr>
        <p:blipFill>
          <a:blip r:embed="rId3"/>
          <a:stretch/>
        </p:blipFill>
        <p:spPr>
          <a:xfrm>
            <a:off x="6778800" y="620640"/>
            <a:ext cx="2041200" cy="26751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PEOPLE   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nstantia"/>
              </a:rPr>
              <a:t>people.food = menu.food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MEN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567B-5CD7-426D-8F1B-038F87DA0934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Object 3"/>
          <p:cNvGraphicFramePr/>
          <p:nvPr/>
        </p:nvGraphicFramePr>
        <p:xfrm>
          <a:off x="2484360" y="2565360"/>
          <a:ext cx="4168800" cy="208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3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4360" y="2565360"/>
                    <a:ext cx="416880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4" name="Picture 13" descr="loj"/>
          <p:cNvPicPr/>
          <p:nvPr/>
        </p:nvPicPr>
        <p:blipFill>
          <a:blip r:embed="rId6"/>
          <a:stretch/>
        </p:blipFill>
        <p:spPr>
          <a:xfrm>
            <a:off x="1835280" y="4797360"/>
            <a:ext cx="29196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Right Outer Joi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66" name="Object 2"/>
          <p:cNvGraphicFramePr/>
          <p:nvPr/>
        </p:nvGraphicFramePr>
        <p:xfrm>
          <a:off x="179280" y="836640"/>
          <a:ext cx="215100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215100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8" name="Picture 5" descr=""/>
          <p:cNvPicPr/>
          <p:nvPr/>
        </p:nvPicPr>
        <p:blipFill>
          <a:blip r:embed="rId3"/>
          <a:stretch/>
        </p:blipFill>
        <p:spPr>
          <a:xfrm>
            <a:off x="6778800" y="620640"/>
            <a:ext cx="2041200" cy="267516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PEOPLE     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nstantia"/>
              </a:rPr>
              <a:t>people.food = menu.food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MEN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A4E4-535C-403A-AB11-0E1F34415B9A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Object 3"/>
          <p:cNvGraphicFramePr/>
          <p:nvPr/>
        </p:nvGraphicFramePr>
        <p:xfrm>
          <a:off x="2411280" y="2133720"/>
          <a:ext cx="4345200" cy="234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11280" y="2133720"/>
                    <a:ext cx="434520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3" name="Picture 12" descr="roj"/>
          <p:cNvPicPr/>
          <p:nvPr/>
        </p:nvPicPr>
        <p:blipFill>
          <a:blip r:embed="rId6"/>
          <a:stretch/>
        </p:blipFill>
        <p:spPr>
          <a:xfrm>
            <a:off x="1908000" y="4797360"/>
            <a:ext cx="2923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Full Outer Joi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75" name="Object 2"/>
          <p:cNvGraphicFramePr/>
          <p:nvPr/>
        </p:nvGraphicFramePr>
        <p:xfrm>
          <a:off x="179280" y="836640"/>
          <a:ext cx="215100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215100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7" name="Picture 5" descr=""/>
          <p:cNvPicPr/>
          <p:nvPr/>
        </p:nvPicPr>
        <p:blipFill>
          <a:blip r:embed="rId3"/>
          <a:stretch/>
        </p:blipFill>
        <p:spPr>
          <a:xfrm>
            <a:off x="6778800" y="620640"/>
            <a:ext cx="2041200" cy="26751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PEOPLE      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nstantia"/>
              </a:rPr>
              <a:t>people.food = menu.food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MEN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9BEA-230D-4C30-A72D-86F63A405213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Object 3"/>
          <p:cNvGraphicFramePr/>
          <p:nvPr/>
        </p:nvGraphicFramePr>
        <p:xfrm>
          <a:off x="2484360" y="1773360"/>
          <a:ext cx="4200480" cy="3049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1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4360" y="1773360"/>
                    <a:ext cx="420048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2" name="Picture 8" descr="foj"/>
          <p:cNvPicPr/>
          <p:nvPr/>
        </p:nvPicPr>
        <p:blipFill>
          <a:blip r:embed="rId6"/>
          <a:stretch/>
        </p:blipFill>
        <p:spPr>
          <a:xfrm>
            <a:off x="1908000" y="5300640"/>
            <a:ext cx="368640" cy="2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Join (continue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0" name="Object 3"/>
          <p:cNvGraphicFramePr/>
          <p:nvPr/>
        </p:nvGraphicFramePr>
        <p:xfrm>
          <a:off x="1063800" y="1523880"/>
          <a:ext cx="3508200" cy="28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1523880"/>
                    <a:ext cx="35082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2"/>
          <p:cNvGraphicFramePr/>
          <p:nvPr/>
        </p:nvGraphicFramePr>
        <p:xfrm>
          <a:off x="5029200" y="1887480"/>
          <a:ext cx="2662200" cy="216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1887480"/>
                    <a:ext cx="266220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4952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Now, we have two tables Emp and depar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We will play with these 2 tables for a while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BCC2-6EAA-4985-B35C-A7CE1E3DFF30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7" name="Object 3"/>
          <p:cNvGraphicFramePr/>
          <p:nvPr/>
        </p:nvGraphicFramePr>
        <p:xfrm>
          <a:off x="76320" y="609480"/>
          <a:ext cx="289548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609480"/>
                    <a:ext cx="289548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2"/>
          <p:cNvGraphicFramePr/>
          <p:nvPr/>
        </p:nvGraphicFramePr>
        <p:xfrm>
          <a:off x="11160" y="3124080"/>
          <a:ext cx="2960640" cy="24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" y="3124080"/>
                    <a:ext cx="296064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67C3-5FBC-46F0-BD8C-42490156DC4C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3048120" y="1371600"/>
          <a:ext cx="5943600" cy="398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1371600"/>
                    <a:ext cx="5943600" cy="39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Rectangle 4"/>
          <p:cNvSpPr/>
          <p:nvPr/>
        </p:nvSpPr>
        <p:spPr>
          <a:xfrm>
            <a:off x="22320" y="5715000"/>
            <a:ext cx="91440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Find all information on every employee including their department inf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EMP    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onstantia"/>
              </a:rPr>
              <a:t>emp.Dept = depart.Dept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 DEPA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16" name="Object 3"/>
          <p:cNvGraphicFramePr/>
          <p:nvPr/>
        </p:nvGraphicFramePr>
        <p:xfrm>
          <a:off x="76320" y="609480"/>
          <a:ext cx="289548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609480"/>
                    <a:ext cx="289548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2"/>
          <p:cNvGraphicFramePr/>
          <p:nvPr/>
        </p:nvGraphicFramePr>
        <p:xfrm>
          <a:off x="11160" y="3124080"/>
          <a:ext cx="2960640" cy="24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" y="3124080"/>
                    <a:ext cx="296064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579096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ake a look, one table has 5 rows, the other has 4 rows, the resultant has 5 rows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EC2A-E774-4AF8-8E02-98781874E170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Object 4"/>
          <p:cNvGraphicFramePr/>
          <p:nvPr/>
        </p:nvGraphicFramePr>
        <p:xfrm>
          <a:off x="3048120" y="1371600"/>
          <a:ext cx="5943600" cy="398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1371600"/>
                    <a:ext cx="5943600" cy="39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25" name="Object 3"/>
          <p:cNvGraphicFramePr/>
          <p:nvPr/>
        </p:nvGraphicFramePr>
        <p:xfrm>
          <a:off x="533520" y="609480"/>
          <a:ext cx="346716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34671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Object 2"/>
          <p:cNvGraphicFramePr/>
          <p:nvPr/>
        </p:nvGraphicFramePr>
        <p:xfrm>
          <a:off x="4800600" y="550800"/>
          <a:ext cx="3695760" cy="196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550800"/>
                    <a:ext cx="3695760" cy="19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ind all information on every employee including department info where the employee works in an office numbered less than the department main off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MP   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nstantia"/>
              </a:rPr>
              <a:t>(emp.office &lt; depart.mainoffice) 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Constantia"/>
              </a:rPr>
              <a:t>Λ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nstantia"/>
              </a:rPr>
              <a:t> (emp.dept = depart.dept)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DEPART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79E0-4FC5-4040-84C8-8B031E01DB3A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4"/>
          <p:cNvGraphicFramePr/>
          <p:nvPr/>
        </p:nvGraphicFramePr>
        <p:xfrm>
          <a:off x="1219320" y="2666880"/>
          <a:ext cx="5976720" cy="201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2666880"/>
                    <a:ext cx="59767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3" name="Picture 8" descr="joinop"/>
          <p:cNvPicPr/>
          <p:nvPr/>
        </p:nvPicPr>
        <p:blipFill>
          <a:blip r:embed="rId7"/>
          <a:stretch/>
        </p:blipFill>
        <p:spPr>
          <a:xfrm>
            <a:off x="1447920" y="5950080"/>
            <a:ext cx="253800" cy="21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Natural Jo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Notice in the generic (Theta) join operation, any attributes in common (such as dept above) are repeated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Natural Join operation removes these duplicate attribut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natural join operator is: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*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e can also assume using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*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that the join condition will be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on the two attributes in comm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B1F7-08DC-4A1B-9C36-7D183BB87584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Natural 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8" name="Object 3"/>
          <p:cNvGraphicFramePr/>
          <p:nvPr/>
        </p:nvGraphicFramePr>
        <p:xfrm>
          <a:off x="503280" y="692280"/>
          <a:ext cx="1763640" cy="16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692280"/>
                    <a:ext cx="1763640" cy="16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2"/>
          <p:cNvGraphicFramePr/>
          <p:nvPr/>
        </p:nvGraphicFramePr>
        <p:xfrm>
          <a:off x="6588000" y="692280"/>
          <a:ext cx="2197080" cy="179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692280"/>
                    <a:ext cx="21970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Emp * depar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here are 2 Dept columns, one is omitted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A0D8-3AE4-464E-AD0A-B469DADD8290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Object 4"/>
          <p:cNvGraphicFramePr/>
          <p:nvPr/>
        </p:nvGraphicFramePr>
        <p:xfrm>
          <a:off x="2700360" y="2349360"/>
          <a:ext cx="3657600" cy="214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360" y="2349360"/>
                    <a:ext cx="3657600" cy="21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Outer Jo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n the Join operations so far, only those tuples from both relations that satisfy the join condition are included in the output rel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 Outer join includes other rows as well according to a few rul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ree types of outer join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Left Outer Join   includes all rows in the left hand relation and includes only those matching rows from the right hand rel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ight Outer Join   includes all rows in the right hand relation and includes only those matching rows from the left hand rel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ull Outer Join   includes all rows in the left hand relation and from the right hand rel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B453-68DB-4974-A860-94EFA1FF49EF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Outer 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50" name="Object 2"/>
          <p:cNvGraphicFramePr/>
          <p:nvPr/>
        </p:nvGraphicFramePr>
        <p:xfrm>
          <a:off x="395280" y="981000"/>
          <a:ext cx="3060720" cy="33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81000"/>
                    <a:ext cx="3060720" cy="33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Object 3"/>
          <p:cNvGraphicFramePr/>
          <p:nvPr/>
        </p:nvGraphicFramePr>
        <p:xfrm>
          <a:off x="4716360" y="907920"/>
          <a:ext cx="2889360" cy="378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907920"/>
                    <a:ext cx="2889360" cy="37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Now we have another 2 tabl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We will play with them for next few slides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E961-7B10-48B2-B9CE-98ECF211E595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cse</cp:lastModifiedBy>
  <dcterms:modified xsi:type="dcterms:W3CDTF">2015-07-26T08:02:02Z</dcterms:modified>
  <cp:revision>16</cp:revision>
  <dc:subject/>
  <dc:title>Join</dc:title>
</cp:coreProperties>
</file>