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229-4431-4CC3-B143-A01B0A59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D29-47F7-4AF5-ACDA-51DAC2A8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D67-62C2-47A2-BEA3-14B186E3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A55-2CF5-49F1-9786-B9B7A42B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0242-FFEB-42F5-9042-57D9A076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203D-0536-4F45-93AD-5EFB582C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699D-0910-4E9B-8553-4465E981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7546-9E41-4465-A02C-79A0E2C1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47A6-9C02-4708-8D27-BC2E9F43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3BD3-85A4-4123-97E1-68BA5648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2F86-07FF-4589-893C-75E0A824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5C6-EC88-4A38-82D3-97D65D10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290A-1B3B-4114-AF22-E77B4736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F2D2-04D4-4743-AF26-54A177C9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A939-FB4E-4E23-9993-C3F5D23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CFE7-46EB-4056-8C13-AB5880C6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3818-E9BF-48F6-9A8F-26AABFE9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3EC60-EF83-4EFF-B576-DA7D861C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9406-FFDB-4CD2-83AF-8C80D028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2251-C701-4CAD-B946-6BFE667E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B1033-265A-4790-994E-2605D504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5E90-F530-4FDA-969E-17F89A5B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0BF-D978-49F7-990D-2FFD3899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18A8-FCDD-4CD4-9CB3-51380FC2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B6F5-6B6B-4B17-9512-0E9DC8C2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57233-F056-4FAB-9673-C1AC0DDA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EEEB8-5D7C-4159-9A39-6EA7F545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53D9-EA96-4C19-89EA-632A44BF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5F527-40E0-4F65-9F7B-50EFEDFE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258DA-3F63-4757-8807-3547424F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0CBB9-A00D-4366-AA28-63B9D168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EE2A4-732B-4E8A-8502-8EEEC119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3CCAC-750F-48FD-938D-833AFB21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DBB-0D59-48B6-933B-6F185D9F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0A1CB-17F5-40F9-8964-2AA68986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7819A-16F0-4014-A7CE-C2945C12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28168-91E6-4511-A8BC-24FF61CA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75CF4-2F81-4F2A-9166-4599D3CF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D03E-B07D-4C94-BDEF-562321E2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681ED-87F9-4E7D-8134-73001D81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31C80-13BE-4E0C-A7E7-3101F311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D6F1-CCBC-480A-BF52-D301B784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D57D0-6B1B-43A8-942C-C22EB40C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EB685-77FA-44B9-96AB-12A89DDE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35F-4433-4A58-B55B-21011469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AF6D8-4ECC-45AB-8BB9-5B555752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3FC67-9F5B-4EFC-9C17-D521764E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97A8B-3B47-4984-9273-E14D1CAF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08133-E18F-4C10-9F51-434613F8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A3088-3BA3-4E9F-B895-4D592BDF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BC2A1-9BCD-4B8E-A811-425890F8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3CC76-CD6A-4AAE-9C3C-29E33943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8A11A-5E22-4501-AF5D-9A998ADC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5B7AB-9F3A-418A-893E-B6F9C152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C1CDD-4027-468C-836C-959EEE9C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766-EE1C-497B-A124-56FC2A59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420CC-65C6-4C0B-B3AD-B5B0095F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F40-8F0D-45E0-A27A-84115EBF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157-2242-45B7-A1E2-F5312721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695-C785-46EC-8BEC-0B7CE993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A459-FB31-4D36-95BD-2DD64F4A67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64F9-0FDA-418A-B14E-7144923FA4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ded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1A76-6FC1-4E06-B5ED-D90BF285B4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75EF-B225-45CC-99B9-37E3FCCE32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68FD-FE33-4EEF-AA82-45B8D08ED4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INTRODUCTION TO PL/SQL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2209680" y="4038480"/>
            <a:ext cx="4496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K. M. Azharul H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hnuma Tabassum O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70,’HR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80,’PSD’,’Mumbai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90,’ESG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gram will insert three records at the same time in the table d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rogram displays the sum of two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:= &amp;Number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:= &amp;Number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:= v_num1 + v_num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The Sum of number is :’ || v_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ave , Edit and Execute program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your program in SQL * 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lt;File Name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s saved in the bin directory to save in other folder give complete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ch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&lt;File 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dit program saved in folder other then b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program saved in folder other then 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are the keywords in PL-SQL , should not be used as a variable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, END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, ELSE , ELSIF , 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thmetic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+ , - , * , 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:                                  (AND , OR ,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lt;=, &lt;, &gt;, =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(Two hyphens):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operator: In PL SQL assignment operator 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o assign values we need to write 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 := 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:= ‘MBT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ends with  operator: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join two strings: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cept valu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**3 means 2 raise to pow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loop we use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X in 1..5 me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numer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ring or da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written in sing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‘ 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 := &amp;Number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112560" y="3646440"/>
            <a:ext cx="47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umber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:= ‘&amp;Name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   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in case if entered data is not num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111840" y="3646440"/>
            <a:ext cx="41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sam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new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dbms_output is a Oracle package its like header file or library in C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ut and .Put_Line are functions like printf in ‘C’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L-SQ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PL-SQ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tructure of PL/SQ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low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Telecom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‘ ‘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British 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am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important that at least once you write .put_line after any number of .put functions else values are not displa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Telecom’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Brit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different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ML operations in Pl-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ML operations (Insert/Update/Delete /Select) are to be written in Begin part of the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 in the Syntax of Insert , Update and Delete , it is same as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yntax is different then SQL , it contains INTO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lect query can return more then one rows then you should always use cursor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elect Syntax for a Single Row Query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lumn1, column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b9f25"/>
                </a:solidFill>
                <a:latin typeface="Arial"/>
              </a:rPr>
              <a:t>INTO Variable1,Variable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ab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ondition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change is as many columns you want to get from the query you need to declare that many variables and use INTO cla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parts of query are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here condition here is such that query will return multiple records then CURSOR should be used. Without that it will give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re always declared in DECLARE section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able Name   &lt;Data Typ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 to decla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mpno  Numb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name varchar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and preferred way  to declare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 Name   TableName.ColName%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mpno  Emp.Empno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name Emp.Ename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will always have same datatype as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change in column will change the type of variable also, so we need not have to change and recompile the program to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ariable Name   TableName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_emp  Emp%RowTyp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140000"/>
              </a:lnSpc>
              <a:spcBef>
                <a:spcPts val="476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riable will  become like a structure variable in C (i.e. v_emp will have same structure like Emp Table) and you can refer to individual element as follow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mp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n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s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make your own type in program and use in the declare section to declare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ype  t_name   is   Varchar2(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now you can make variable of thi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_name and v_name2 both will become varchar2(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&lt;condition1&gt;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IF &lt;Condition2&gt;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ere that for one IF we only need one 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D IF is required for ELSIF i.e for one set of IF condition only one END IF;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v_deptno = 10 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'Accounting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IF v_deptno = 20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ESG')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Invalid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at is PL-SQL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/SQL stands for Procedural Language/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Language extension for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GL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within Oracle data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ble from any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re tested as condition is checked first and then code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t tested as condition is checked after the code is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0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ost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is required for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While i &l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0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&lt;Variable&gt; IN &lt;Min&gt; .. &lt;Max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is used when we know the number of time the loop is to b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0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 to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0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Reverse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00 to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reverse i.e from last value to firs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THANK YOU !!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y PL SQL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/SQL extends SQL by adding constructs found in procedural languages like procedures, loops, variables, object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a structural language that is more powerful than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, Is there any Advantage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5029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SQL to send 3 queries we will need three network trips between client and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L-SQL we bundle any number of queries in a block and in single network trip task is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"/>
          <p:cNvGrpSpPr/>
          <p:nvPr/>
        </p:nvGrpSpPr>
        <p:grpSpPr>
          <a:xfrm>
            <a:off x="777960" y="1714680"/>
            <a:ext cx="3260520" cy="2438280"/>
            <a:chOff x="777960" y="1714680"/>
            <a:chExt cx="3260520" cy="2438280"/>
          </a:xfrm>
        </p:grpSpPr>
        <p:sp>
          <p:nvSpPr>
            <p:cNvPr id="230" name="Rectangle 4"/>
            <p:cNvSpPr/>
            <p:nvPr/>
          </p:nvSpPr>
          <p:spPr>
            <a:xfrm>
              <a:off x="77796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0"/>
            <p:cNvSpPr/>
            <p:nvPr/>
          </p:nvSpPr>
          <p:spPr>
            <a:xfrm>
              <a:off x="192852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"/>
            <p:cNvSpPr/>
            <p:nvPr/>
          </p:nvSpPr>
          <p:spPr>
            <a:xfrm>
              <a:off x="307944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161360" y="3695760"/>
              <a:ext cx="268524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>
              <a:off x="969480" y="1714680"/>
              <a:ext cx="30690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>
              <a:off x="116136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>
              <a:off x="2504160" y="2171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346320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"/>
          <p:cNvGrpSpPr/>
          <p:nvPr/>
        </p:nvGrpSpPr>
        <p:grpSpPr>
          <a:xfrm>
            <a:off x="4800600" y="1676520"/>
            <a:ext cx="3809880" cy="3047760"/>
            <a:chOff x="4800600" y="1676520"/>
            <a:chExt cx="3809880" cy="3047760"/>
          </a:xfrm>
        </p:grpSpPr>
        <p:sp>
          <p:nvSpPr>
            <p:cNvPr id="239" name="Rectangle 19"/>
            <p:cNvSpPr/>
            <p:nvPr/>
          </p:nvSpPr>
          <p:spPr>
            <a:xfrm>
              <a:off x="50792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619452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73094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5172120" y="4267080"/>
              <a:ext cx="260208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5265000" y="1676520"/>
              <a:ext cx="29736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4800600" y="2519280"/>
              <a:ext cx="380988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5"/>
            <p:cNvSpPr/>
            <p:nvPr/>
          </p:nvSpPr>
          <p:spPr>
            <a:xfrm>
              <a:off x="6095160" y="351000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-SQL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7"/>
            <p:cNvSpPr/>
            <p:nvPr/>
          </p:nvSpPr>
          <p:spPr>
            <a:xfrm>
              <a:off x="647316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6566040" y="2209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Language featur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constructs like any other 4th generation langu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and Contro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an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 (Its like structure in C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program structur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Variables, cursors, exception etc  are declared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programming logic , queries , program statements are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Error Handling code is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It ends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nested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9f25"/>
                </a:solidFill>
                <a:latin typeface="Arial"/>
              </a:rPr>
              <a:t>&lt;&lt;Out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&lt;&lt;Inn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memb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is optional and only required when variables need to be decl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 is optional and required when Error/Exception handling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and End are  mandatory as all logic and queries are written insid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07:42:31Z</dcterms:created>
  <dc:creator>cobra</dc:creator>
  <dc:description/>
  <dc:language>en-US</dc:language>
  <cp:lastModifiedBy>cse</cp:lastModifiedBy>
  <dcterms:modified xsi:type="dcterms:W3CDTF">2015-08-02T08:09:00Z</dcterms:modified>
  <cp:revision>41</cp:revision>
  <dc:subject/>
  <dc:title>Introduction to PL/SQL</dc:title>
</cp:coreProperties>
</file>