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41E-7952-4C3A-8164-2F2B6D30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5FE-89FB-4C91-B0F1-58A3ED40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E3FE-7407-4C06-83DB-4DB2C726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5C41-5940-46A1-B5E0-3650122E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E0B6-C6DE-4DCF-86CF-FD8994D4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59F0-B1C1-4745-B269-0163F05F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9B94-92AA-4B43-B628-6DC7E57B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8FA8-AB6E-4E03-BC77-76EA8B76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4FB1-6F93-4516-BE8E-32ACCD29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83CE-A5EC-4954-AA66-0C23EC22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5930-2A61-47EB-9C00-F2DE422F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9AD-9F8C-4441-B7DE-D5BE49EB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CF5B-6B8E-4D17-8ED6-90519D55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0622-12B8-473D-AFCF-D3A9F003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500E-D401-4136-8543-26942FC3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4934-E1AC-4A14-92F9-6CD236B1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DDD0-F450-433E-A9DD-387EF00B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B926E-443C-45C2-9CBC-C13B5193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3AD55-C263-4B9F-8B4C-693D248F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82040-E889-4A27-BBEC-4F45226F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46FF7-4529-487A-A0DB-3AC419CC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88F88-A46C-4C47-A5C4-448D12E9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D45-1F06-4F3B-A0DD-1C43E08C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A80D8-D54D-4BA0-A72A-D02FB01E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9BCB3-6ECE-456D-9832-7AD0810A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373A-2A97-43E7-842D-8F7232DF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D642F-82DE-4864-B281-775FA367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C32AC-099F-4CA8-AA7B-00F2B411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55DED-88C1-4C41-992B-8F1ECA3D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E525A-CFE1-46B4-ACAD-50D0CA2C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AB2D5-F0CC-47C1-A677-AEC0905D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EFA58-40AC-47F9-9640-DF89C2D3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C1F6A-B28E-42B0-84D8-9C7E153D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929-690B-47BF-856A-BB754043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10962-1CB9-4285-A54B-C68A8607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9671-AA8F-40AF-9A4F-D9E1B48B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A7A2-4F5F-4924-B180-5980A700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E96B8-07FF-4174-9727-A5A888F3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61EB4-14F8-478E-AAE4-8C23AD36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76B4B-2C83-4177-9DB6-DEF96CB2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9A0DA-F03D-43DA-B97A-3D74E939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83FE5-AE08-40F7-AFD3-96166128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1BAC1-9F2B-42BA-9939-3EEEACD7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CAD21-FE5D-4EE3-9435-0A83ADF0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0CC-3C75-469A-A394-11B32C4D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CCCBD8-2760-4132-B3CA-2940FBEF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DE4B56-B9E3-46ED-9BB2-D9DF1191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5DAAE-C03C-482C-AEF6-A44A587F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CCD6A-47B3-4B44-92D0-6FFF2C42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C2062-E2A1-47DB-8621-59F683A0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2E0D0-4EE6-449A-A671-52B0110F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14B97-A007-4510-BF1A-707D44DC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00C215-1B1C-49CF-B400-5AD30303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A931D-6DF3-4ABA-959B-22D4F566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8016C-3105-412F-86BD-391A7732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AA4E-DCE5-4BD4-BA52-51DB4650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11CBB-D50D-4355-918A-1DBC9976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ADB668-3B6E-4C0E-A269-73DFA9E0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B33E9E-3040-469E-9E42-44387B73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1DA313-FBFB-4521-858D-6613CB95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167B00-0C39-4D54-8D09-D9C94601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6735B-97A9-4B12-A0F1-F8C03902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86552-776B-47A9-A4A8-4D2AD1E4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E9744-1CC7-4A1E-AAAF-07B83823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C1B8C-2BF8-4A49-98F1-246EA431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DBD0AD-6AD3-43DB-B651-406BBBCE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88F-E536-43F6-A4E3-2DD0FB91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2985EA-9416-4558-844B-17D0AD28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FC4BD6-32AD-4F9D-BD67-3E13FA37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6D12F-2FB3-4D32-A2F0-4147CA43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7E6-68D2-4C1B-B6D0-1B2F33FA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1EC-8954-45D5-9CB7-3B6CCCA3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01EC-1493-412D-99ED-15F4CEFCA6D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F487-EBF2-4022-BA77-D74E7368DCA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ACC5-86CC-4C2A-9FBA-4ACDF3873B1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3CB3-29AD-4D28-9725-37D521E8C3F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28F8-53E0-4531-A651-41B4AD75A1B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E522-46C2-48A4-9243-37DCD21EF628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Join operations bring together two tables and combine their rows and columns in a specific fashio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 generic join operator called the </a:t>
            </a:r>
            <a:r>
              <a:rPr b="1" i="1" lang="en-GB" sz="2800" spc="-1" strike="noStrike">
                <a:solidFill>
                  <a:srgbClr val="ff0000"/>
                </a:solidFill>
                <a:latin typeface="Constantia"/>
              </a:rPr>
              <a:t>Theta Join</a:t>
            </a: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s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t takes as arguments the columns from the two tables that are to be joine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en the join condition operator is   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  then we call this an Equijo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6" descr="joinop"/>
          <p:cNvPicPr/>
          <p:nvPr/>
        </p:nvPicPr>
        <p:blipFill>
          <a:blip r:embed="rId1"/>
          <a:stretch/>
        </p:blipFill>
        <p:spPr>
          <a:xfrm>
            <a:off x="8381880" y="3048120"/>
            <a:ext cx="247680" cy="21888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0439-13FB-40FF-9A1F-16EC4BE11B55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Lef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7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1EEE-FE90-424E-AB10-682CD75F194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3"/>
          <p:cNvGraphicFramePr/>
          <p:nvPr/>
        </p:nvGraphicFramePr>
        <p:xfrm>
          <a:off x="2484360" y="2565360"/>
          <a:ext cx="4168800" cy="20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2565360"/>
                    <a:ext cx="41688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4" name="Picture 13" descr="loj"/>
          <p:cNvPicPr/>
          <p:nvPr/>
        </p:nvPicPr>
        <p:blipFill>
          <a:blip r:embed="rId6"/>
          <a:stretch/>
        </p:blipFill>
        <p:spPr>
          <a:xfrm>
            <a:off x="1835280" y="4797360"/>
            <a:ext cx="2919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Righ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8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4F0F-51EF-4012-985F-7FE6580640B6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411280" y="2133720"/>
          <a:ext cx="434520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2133720"/>
                    <a:ext cx="43452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3" name="Picture 12" descr="roj"/>
          <p:cNvPicPr/>
          <p:nvPr/>
        </p:nvPicPr>
        <p:blipFill>
          <a:blip r:embed="rId6"/>
          <a:stretch/>
        </p:blipFill>
        <p:spPr>
          <a:xfrm>
            <a:off x="1908000" y="4797360"/>
            <a:ext cx="2923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Full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5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7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896C-61A1-4ABA-AD17-40BF3B510C36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2484360" y="1773360"/>
          <a:ext cx="4200480" cy="304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1773360"/>
                    <a:ext cx="420048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Picture 8" descr="foj"/>
          <p:cNvPicPr/>
          <p:nvPr/>
        </p:nvPicPr>
        <p:blipFill>
          <a:blip r:embed="rId6"/>
          <a:stretch/>
        </p:blipFill>
        <p:spPr>
          <a:xfrm>
            <a:off x="1908000" y="5300640"/>
            <a:ext cx="36864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1063800" y="1523880"/>
          <a:ext cx="350820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523880"/>
                    <a:ext cx="35082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2"/>
          <p:cNvGraphicFramePr/>
          <p:nvPr/>
        </p:nvGraphicFramePr>
        <p:xfrm>
          <a:off x="5029200" y="1887480"/>
          <a:ext cx="2662200" cy="21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887480"/>
                    <a:ext cx="26622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4952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, we have two tables Emp and depa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se 2 tables for a while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46D8-0A8C-4436-9744-8BA0FDDDB7A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DD94-CB33-4270-83C3-9BE460139AB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4"/>
          <p:cNvSpPr/>
          <p:nvPr/>
        </p:nvSpPr>
        <p:spPr>
          <a:xfrm>
            <a:off x="22320" y="5715000"/>
            <a:ext cx="9144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Find all information on every employee including their department in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nstantia"/>
              </a:rPr>
              <a:t>emp.Dept = depart.Dept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57909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ake a look, one table has 5 rows, the other has 4 rows, the resultant has 5 row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2458-8728-48D0-8AFE-F8B6A3D79ED8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5" name="Object 3"/>
          <p:cNvGraphicFramePr/>
          <p:nvPr/>
        </p:nvGraphicFramePr>
        <p:xfrm>
          <a:off x="533520" y="609480"/>
          <a:ext cx="34671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34671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2"/>
          <p:cNvGraphicFramePr/>
          <p:nvPr/>
        </p:nvGraphicFramePr>
        <p:xfrm>
          <a:off x="4800600" y="550800"/>
          <a:ext cx="3695760" cy="19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550800"/>
                    <a:ext cx="369576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ind all information on every employee including department info where the employee works in an office numbered less than the department main off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(emp.office &lt; depart.mainoffice) 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nstantia"/>
              </a:rPr>
              <a:t>Λ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 (emp.dept = depart.dept)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542F-3CCC-412F-BC82-00E4BE303B42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1219320" y="2666880"/>
          <a:ext cx="5976720" cy="201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666880"/>
                    <a:ext cx="59767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Picture 8" descr="joinop"/>
          <p:cNvPicPr/>
          <p:nvPr/>
        </p:nvPicPr>
        <p:blipFill>
          <a:blip r:embed="rId7"/>
          <a:stretch/>
        </p:blipFill>
        <p:spPr>
          <a:xfrm>
            <a:off x="1447920" y="5950080"/>
            <a:ext cx="25380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Natural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ice in the generic (Theta) join operation, any attributes in common (such as dept above) are repeat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ion removes these duplicate attribut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or is: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e can also assume using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that the join condition will b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n the two attributes in comm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9B39-D9B2-451F-AEA2-9D795A747C1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Natural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8" name="Object 3"/>
          <p:cNvGraphicFramePr/>
          <p:nvPr/>
        </p:nvGraphicFramePr>
        <p:xfrm>
          <a:off x="503280" y="692280"/>
          <a:ext cx="1763640" cy="16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692280"/>
                    <a:ext cx="176364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2"/>
          <p:cNvGraphicFramePr/>
          <p:nvPr/>
        </p:nvGraphicFramePr>
        <p:xfrm>
          <a:off x="6588000" y="692280"/>
          <a:ext cx="2197080" cy="17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692280"/>
                    <a:ext cx="21970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Emp * dep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re are 2 Dept columns, one is omitted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BCB6-DEA2-4863-856E-816727611574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2700360" y="2349360"/>
          <a:ext cx="3657600" cy="21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2349360"/>
                    <a:ext cx="3657600" cy="21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ter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 the Join operations so far, only those tuples from both relations that satisfy the join condition are included in the output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Outer join includes other rows as well according to a few rul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ree types of outer join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ft Outer Join   includes all rows in the left hand relation and includes only those matching rows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ght Outer Join   includes all rows in the right hand relation and includes only those matching rows from the lef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ull Outer Join   includes all rows in the left hand relation and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DE26-DE48-4169-97AA-4B6DAECFB2E9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Outer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0" name="Object 2"/>
          <p:cNvGraphicFramePr/>
          <p:nvPr/>
        </p:nvGraphicFramePr>
        <p:xfrm>
          <a:off x="395280" y="981000"/>
          <a:ext cx="3060720" cy="33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306072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3"/>
          <p:cNvGraphicFramePr/>
          <p:nvPr/>
        </p:nvGraphicFramePr>
        <p:xfrm>
          <a:off x="4716360" y="907920"/>
          <a:ext cx="2889360" cy="378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907920"/>
                    <a:ext cx="2889360" cy="37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 we have another 2 tab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m for next few slide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D672-25E0-4E29-8DE6-5C982FD3E0C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cse</cp:lastModifiedBy>
  <dcterms:modified xsi:type="dcterms:W3CDTF">2015-07-26T08:02:02Z</dcterms:modified>
  <cp:revision>16</cp:revision>
  <dc:subject/>
  <dc:title>Join</dc:title>
</cp:coreProperties>
</file>