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745-D777-4F69-BA03-50114A2C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A99-BF32-42BD-A755-775F9369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513-AC1A-4F77-B18A-168244B5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F16-3234-4CAB-AB67-DD16C641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ECE4-C371-4054-9419-4196FC6F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1BE2-050B-489C-8301-9ED796B1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254E-5ED6-4482-A2F8-BB6AB2BC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BE19-0315-4BFF-AF54-3B187047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6AAA-B093-4D32-A766-A02A03FA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563A-3000-4708-9D33-8CAC15AB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0DF4-C324-4A3C-B33A-DB2F7790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705-C683-4C37-B5E7-E70A75B7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A6BC-30E9-4A93-A09D-C1B0EB62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D4D1-0E39-4BE3-A5C0-B08394D0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9AF2-7AE9-4DB6-AF7C-DA5A379B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7577-47A5-474D-BEC7-FC461889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7B7A-8AE2-494C-8597-DA261CBA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26785-6CCA-4327-AF2B-42347A2D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A044-B8B5-4B7D-A1DB-A9166283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5BBB-1504-4B48-A0E7-15617E35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2F01A-7E4B-4DBF-BAA1-457ED44E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4C236-031C-4E38-AE52-173D453A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85C-7273-49B3-8BCA-7FEFB553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AA1B7-44EC-49DC-85D6-8EB3023E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02BF8-C26F-4F5C-89FC-422D6C9F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4904-C288-4D80-8B22-E0283B51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D72EF-7D70-42CB-80FD-E418DFA1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ED23-8B70-468B-B2A0-E4BAFE83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03AB9-7D4F-4011-A564-86335794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8BB6A-0185-4D0C-BD02-6D031583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47317-45BC-4DA1-B58C-E8DDB85F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0DFB1-D954-42A8-8C3E-FAAAC461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EDDAF-9C54-4D69-B404-67EB589D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2F7-EE42-444B-B563-E217075F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DA627-E077-4D3E-BE78-60BEAAC4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404E-2C44-4F77-9942-FE9F9542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15D7B-D95C-4E0B-A3C2-339A9A84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DE83D-5EF1-4700-8B53-002C95BD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0723A-37F8-4050-908D-7413C05E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F0ADA-C581-40BD-B4E2-8AC72ECB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BB182-5AAB-4A17-B817-FDD9A9E0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1C53B-38CD-44F9-808D-94675FFF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07F0B-D3AE-445F-A045-7D5AF370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5948C-FDC2-4E22-B769-3C4046BF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6B63-2454-4BD2-8650-1C3FC016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8F2F5-3629-4503-B026-E601EB08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96662-1E56-47BB-8B2D-79AAB7EC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2FED0F-DD5C-4A03-A866-5F168E0E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C74C4-1E57-4EEB-A1DE-697668C3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BC056-7F71-499F-9ADD-CC68BE8E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D1943-0B53-4BD3-8D92-E00B6A6C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FFC91-9C5D-4B3C-ACD2-993A7A43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6A83A8-086E-4263-B23C-977CA09C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9C00E-996E-4AC9-912E-82A19B2C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5AF00-361F-4C85-9792-D035FCA6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F5D-370A-4CD3-A5E0-E7737CC3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D47B9-5253-4EC1-AC74-E98164F9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86D71-09FD-4A30-A3A5-DCEBB04B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FB0A7-88CB-4464-86F9-2A97C339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1A477D-10B8-4EAC-B746-8B7689AD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7FC40-A13C-45A2-AA0B-74E1DF7B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4010F-A396-4315-8F69-AA89C53C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A5C3B4-9EDE-446D-9C4B-22245B7C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1D0E3C-27C2-4597-8A6C-CC2D3845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30C2C-A352-4E8A-8FBE-9C17C5D8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78068C-DA61-49AB-8B65-AD526741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6B5-F9C4-4559-8150-48E1B835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4A3F8-B1C5-4A52-A4D8-975D2D2C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731C0-7B99-4338-A64B-46534C0A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3497B-C539-4028-B21F-6B920D2F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A5A-A59C-43BE-B143-419BDEB4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F33-E59B-4BD8-88DE-F653CB2E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653C-0B3B-4D24-AA5C-741AAB3DA6E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8911-5110-441E-BBEE-BD370E3EE64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FD87-3EFA-49B2-A072-34C062A952F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B91E-1A0B-4DAD-BC2F-E326C367F50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FA98-F1C4-4AF8-A609-F887FAD2B692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4410-CC8D-4097-A00A-627E0E06C83A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Join operations bring together two tables and combine their rows and columns in a specific fashio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 generic join operator called the </a:t>
            </a:r>
            <a:r>
              <a:rPr b="1" i="1" lang="en-GB" sz="2800" spc="-1" strike="noStrike">
                <a:solidFill>
                  <a:srgbClr val="ff0000"/>
                </a:solidFill>
                <a:latin typeface="Constantia"/>
              </a:rPr>
              <a:t>Theta Join</a:t>
            </a: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s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t takes as arguments the columns from the two tables that are to be joine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en the join condition operator is   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  then we call this an Equijo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6" descr="joinop"/>
          <p:cNvPicPr/>
          <p:nvPr/>
        </p:nvPicPr>
        <p:blipFill>
          <a:blip r:embed="rId1"/>
          <a:stretch/>
        </p:blipFill>
        <p:spPr>
          <a:xfrm>
            <a:off x="8381880" y="3048120"/>
            <a:ext cx="247680" cy="21888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A96A-D964-43D9-BCE5-B20CFFF5158A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Lef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7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B527-4F56-4DB3-84A8-7E1C31BA5A81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3"/>
          <p:cNvGraphicFramePr/>
          <p:nvPr/>
        </p:nvGraphicFramePr>
        <p:xfrm>
          <a:off x="2484360" y="2565360"/>
          <a:ext cx="4168800" cy="20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2565360"/>
                    <a:ext cx="41688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4" name="Picture 13" descr="loj"/>
          <p:cNvPicPr/>
          <p:nvPr/>
        </p:nvPicPr>
        <p:blipFill>
          <a:blip r:embed="rId6"/>
          <a:stretch/>
        </p:blipFill>
        <p:spPr>
          <a:xfrm>
            <a:off x="1835280" y="4797360"/>
            <a:ext cx="2919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Righ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8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68A9-79AA-40E2-BACD-4F5E0C01F81D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411280" y="2133720"/>
          <a:ext cx="434520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2133720"/>
                    <a:ext cx="43452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3" name="Picture 12" descr="roj"/>
          <p:cNvPicPr/>
          <p:nvPr/>
        </p:nvPicPr>
        <p:blipFill>
          <a:blip r:embed="rId6"/>
          <a:stretch/>
        </p:blipFill>
        <p:spPr>
          <a:xfrm>
            <a:off x="1908000" y="4797360"/>
            <a:ext cx="2923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Full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5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7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A547-B277-419B-B329-C583B9849D5B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2484360" y="1773360"/>
          <a:ext cx="4200480" cy="304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1773360"/>
                    <a:ext cx="420048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Picture 8" descr="foj"/>
          <p:cNvPicPr/>
          <p:nvPr/>
        </p:nvPicPr>
        <p:blipFill>
          <a:blip r:embed="rId6"/>
          <a:stretch/>
        </p:blipFill>
        <p:spPr>
          <a:xfrm>
            <a:off x="1908000" y="5300640"/>
            <a:ext cx="36864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1063800" y="1523880"/>
          <a:ext cx="35082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523880"/>
                    <a:ext cx="3508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"/>
          <p:cNvGraphicFramePr/>
          <p:nvPr/>
        </p:nvGraphicFramePr>
        <p:xfrm>
          <a:off x="5029200" y="1887480"/>
          <a:ext cx="2662200" cy="21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887480"/>
                    <a:ext cx="26622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4952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, we have two tables Emp and depa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se 2 tables for a whil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4DB6-276C-4B9B-BF8F-42F5D2153009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4BBF-4DAA-43DC-8DA9-14B26C02215B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4"/>
          <p:cNvSpPr/>
          <p:nvPr/>
        </p:nvSpPr>
        <p:spPr>
          <a:xfrm>
            <a:off x="22320" y="5715000"/>
            <a:ext cx="9144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Find all information on every employee including their department in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nstantia"/>
              </a:rPr>
              <a:t>emp.Dept = depart.Dept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57909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ake a look, one table has 5 rows, the other has 4 rows, the resultant has 5 row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E302-C5B1-4984-A36A-35B92665FF7D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5" name="Object 3"/>
          <p:cNvGraphicFramePr/>
          <p:nvPr/>
        </p:nvGraphicFramePr>
        <p:xfrm>
          <a:off x="533520" y="609480"/>
          <a:ext cx="34671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34671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2"/>
          <p:cNvGraphicFramePr/>
          <p:nvPr/>
        </p:nvGraphicFramePr>
        <p:xfrm>
          <a:off x="4800600" y="550800"/>
          <a:ext cx="3695760" cy="19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50800"/>
                    <a:ext cx="369576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ind all information on every employee including department info where the employee works in an office numbered less than the department main off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(emp.office &lt; depart.mainoffice)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nstantia"/>
              </a:rPr>
              <a:t>Λ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 (emp.dept = depart.dept)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6E20-7DF7-4EAF-8961-491ECDE8C0EC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1219320" y="2666880"/>
          <a:ext cx="5976720" cy="201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666880"/>
                    <a:ext cx="59767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Picture 8" descr="joinop"/>
          <p:cNvPicPr/>
          <p:nvPr/>
        </p:nvPicPr>
        <p:blipFill>
          <a:blip r:embed="rId7"/>
          <a:stretch/>
        </p:blipFill>
        <p:spPr>
          <a:xfrm>
            <a:off x="1447920" y="5950080"/>
            <a:ext cx="25380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Natural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ice in the generic (Theta) join operation, any attributes in common (such as dept above) are repeat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ion removes these duplicate attribut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or is: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e can also assume using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that the join condition will b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n the two attributes in comm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461A-C510-457A-A106-157D3882B1FE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Natural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8" name="Object 3"/>
          <p:cNvGraphicFramePr/>
          <p:nvPr/>
        </p:nvGraphicFramePr>
        <p:xfrm>
          <a:off x="503280" y="692280"/>
          <a:ext cx="1763640" cy="16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692280"/>
                    <a:ext cx="176364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"/>
          <p:cNvGraphicFramePr/>
          <p:nvPr/>
        </p:nvGraphicFramePr>
        <p:xfrm>
          <a:off x="6588000" y="692280"/>
          <a:ext cx="219708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692280"/>
                    <a:ext cx="21970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Emp * dep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re are 2 Dept columns, one is omitted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E88D-BDEC-4E95-B521-6F98168E4D7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2700360" y="2349360"/>
          <a:ext cx="3657600" cy="21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2349360"/>
                    <a:ext cx="365760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ter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 the Join operations so far, only those tuples from both relations that satisfy the join condition are included in the output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Outer join includes other rows as well according to a few rul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ree types of outer join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ft Outer Join   includes all rows in the left hand relation and includes only those matching rows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ght Outer Join   includes all rows in the right hand relation and includes only those matching rows from the lef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ull Outer Join   includes all rows in the left hand relation and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0F3D-EC21-492C-8306-D064C6D80C89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Outer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0" name="Object 2"/>
          <p:cNvGraphicFramePr/>
          <p:nvPr/>
        </p:nvGraphicFramePr>
        <p:xfrm>
          <a:off x="395280" y="981000"/>
          <a:ext cx="3060720" cy="33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306072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3"/>
          <p:cNvGraphicFramePr/>
          <p:nvPr/>
        </p:nvGraphicFramePr>
        <p:xfrm>
          <a:off x="4716360" y="907920"/>
          <a:ext cx="2889360" cy="378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907920"/>
                    <a:ext cx="2889360" cy="37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 we have another 2 tab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m for next few slide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1904-8985-4128-85D2-063E7C8F86F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cse</cp:lastModifiedBy>
  <dcterms:modified xsi:type="dcterms:W3CDTF">2015-07-26T08:02:02Z</dcterms:modified>
  <cp:revision>16</cp:revision>
  <dc:subject/>
  <dc:title>Join</dc:title>
</cp:coreProperties>
</file>