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A9F5-B4F9-466C-99F6-0B91EEA14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7D8D-7FF2-4E92-870F-849CE815B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35B4-D37A-4C9E-8AB8-B6383B358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F04E-BB7B-4080-930F-FBC923F5A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6FCE8-464A-4ECE-A9A4-4133F1C27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A4E52-E43E-4A7F-89F3-2480017CB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98462-8EB6-44AD-8E96-5A1312B42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655B7-6542-4F62-B0F0-7C38ECCB9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7B601-1BFC-4D15-A69A-9A9601F58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E3480-6AB6-4AB1-A932-0FE10751A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483EB-DBC1-4D76-A97B-8DFA15B48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E1F6-F95D-4E7C-8D06-30B9C1DC3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A9174-9F3A-4879-AB5E-8CDBC63DA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5A2FF-98E5-4A01-AE31-55642241D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5F181-2A62-4855-BECE-4B3E64E71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FDB67-752D-4732-AFC1-CF2F3B8AA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59E16-BEBF-4372-A1F4-43D2670F5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DF2E19-3AAE-485D-AA79-7499377A0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E95A4A-A6C7-4F44-94D2-01B5DE9C5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7B39B0-DDA7-4A31-A922-D54E644CE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202ED6-F4E8-4E0E-A0F5-1766C4797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51EF83-2E94-41E3-AE78-EEAC81614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3C18-1673-48E3-9080-682C61672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B39D8C-632E-4F7C-9E33-ECD3BFF4D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B2AF6D-586B-4B2E-8F35-40C08FB93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C7FA6A-30F5-490A-9126-9EEADDBC2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FA87BA-E939-4D7E-BEBF-4724F342B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9BD2CE-69DD-4319-AFE1-F6F787C72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FD7E80-C543-4828-B88F-DAD4E9F9F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BE4CB5-EF44-4797-98D2-6CDBC39E2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85428F-81AE-4E2D-B64E-1D4948581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7CBC42-0A97-4467-87DD-0E63A3377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E8B082-2D7D-48BD-9BC1-045973F17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0289-FB70-4118-9A25-5B6F51527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4E72AA-975D-4A49-BFE8-88DB815DD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ED4D6C-5EDA-44B7-8AB4-B94A3C1D4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507460-2D2D-4C7D-AC22-C6531825A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ED72A5-2764-4E82-B081-CD76C8D85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81824C-F091-43E4-A5B8-DEA479C9A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38F09F-FC58-4477-B823-6F63FF9DE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D44E2E-821C-4231-AB2E-B7E5E3F9F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C09B69-F0CF-4A36-8283-CEB45DE61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9A9D57-BAC3-4476-BB79-0DDF12F9C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56C0D6-D955-4601-80F7-79002D176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F270-FCB5-4421-A548-E667BE289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12E36A-6986-43FE-AA7E-98A027230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C8F1A4-13B9-4760-B62D-9BB4C2817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D2B26E-A831-4EFE-BF95-EEC258E3C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48A9E8-3C95-4A64-9090-9F5AAC727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19CCFD-6D6B-4E9F-8477-FDDC6E69A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565134-3993-419E-B0A6-92C265790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4D0DBC-C74C-4B59-81EB-36D161BD5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953995-E73B-4A65-A553-07DCD6745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7C0841-C6FC-433F-BDAB-45D5EF95D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6BAD8A-1B21-4784-8B17-E990562F5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051F-1A81-40EB-9DF2-16E5B7D30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22CC3D-2E90-46E8-B1DD-5845C03F9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6D32-5880-4633-AE74-70A7F96AE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187A-9410-4023-AA36-ED3AB651F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7BC1-F6CE-4D0C-8F0B-B6551A614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f07f0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4D1D3-B1E3-4B59-ABC6-9812CCD9FBE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Straight Connector 8"/>
          <p:cNvSpPr/>
          <p:nvPr/>
        </p:nvSpPr>
        <p:spPr>
          <a:xfrm>
            <a:off x="685800" y="3398760"/>
            <a:ext cx="7848720" cy="1800"/>
          </a:xfrm>
          <a:prstGeom prst="line">
            <a:avLst/>
          </a:prstGeom>
          <a:ln w="1908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f07f0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DB8E5-6C07-434A-A5DA-0C85481295A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traight Connector 8"/>
          <p:cNvSpPr/>
          <p:nvPr/>
        </p:nvSpPr>
        <p:spPr>
          <a:xfrm>
            <a:off x="731880" y="4599000"/>
            <a:ext cx="7848720" cy="1440"/>
          </a:xfrm>
          <a:prstGeom prst="line">
            <a:avLst/>
          </a:prstGeom>
          <a:ln w="19080">
            <a:solidFill>
              <a:srgbClr val="e3de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ded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e3ded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f07f0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52968-40A3-48C3-8C27-ACDC640E062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traight Connector 8"/>
          <p:cNvSpPr/>
          <p:nvPr/>
        </p:nvSpPr>
        <p:spPr>
          <a:xfrm flipH="1">
            <a:off x="4572000" y="1692360"/>
            <a:ext cx="1440" cy="4708440"/>
          </a:xfrm>
          <a:prstGeom prst="line">
            <a:avLst/>
          </a:prstGeom>
          <a:ln w="1908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f07f0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203C5-8987-4472-B2DC-C85E2CF97C2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traight Connector 8"/>
          <p:cNvSpPr/>
          <p:nvPr/>
        </p:nvSpPr>
        <p:spPr>
          <a:xfrm flipH="1">
            <a:off x="2774520" y="792000"/>
            <a:ext cx="1800" cy="5578560"/>
          </a:xfrm>
          <a:prstGeom prst="line">
            <a:avLst/>
          </a:prstGeom>
          <a:ln w="1908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f07f0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D540A-CD3F-49DA-B8A5-B899EB389B6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1599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23232"/>
                </a:solidFill>
                <a:latin typeface="Arial"/>
              </a:rPr>
              <a:t>INTRODUCTION TO PL/SQL</a:t>
            </a:r>
            <a:endParaRPr b="0" lang="en-US" sz="5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20" name="TextBox 1"/>
          <p:cNvSpPr/>
          <p:nvPr/>
        </p:nvSpPr>
        <p:spPr>
          <a:xfrm>
            <a:off x="2209680" y="4038480"/>
            <a:ext cx="449604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K. M. Azharul Has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hnuma Tabassum Om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PL SQL program- Sample I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ert into Dept values(70,’HR’,’Pune’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ert into Dept values(80,’PSD’,’Mumbai’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ert into Dept values(90,’ESG’,’Pune’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D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program will insert three records at the same time in the table dep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799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PL SQL program- Sample II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program displays the sum of two nu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L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_num1 Numbe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_num2 Numbe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_sum  Numbe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_num1 := &amp;Number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_num2 := &amp;Number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_sum := v_num1 + v_num2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ms_Output.Put_Line (‘The Sum of number is :’ || v_sum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150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Save , Edit and Execute program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80000"/>
              </a:lnSpc>
              <a:spcBef>
                <a:spcPts val="45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e your program in SQL *  p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save :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ve &lt;File Name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 is saved in the bin directory to save in other folder give complete pa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g: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ve ‘C:\ESG\FirstPrg.sql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make chan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dit &lt;File Na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edit program saved in folder other then b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dit ‘C:\ESG\FirstPrg.Sql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Execute: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@ File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execute program saved in folder other then b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@ ‘C:\ESG\FirstPrg.Sql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2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2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2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2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2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26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Important Keywords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8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llowing are the keywords in PL-SQL , should not be used as a variable na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499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LAR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499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499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499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CE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499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OP , END 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499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, ELSE , ELSIF , END I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499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S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499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D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499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Important Keywords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700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w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C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IG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O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R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Operators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8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ortant operators in PL SQ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499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irthmetic 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 + , - , * , /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499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ical:                                  (AND , OR , NO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499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rison: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&lt;=, &lt;, &gt;, =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499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ents (Two hyphens):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499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ignment operator: In PL SQL assignment operator i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 to assign values we need to write :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  :=  x +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 :=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 := 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me := ‘MBT’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Operators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80769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70000"/>
              </a:lnSpc>
              <a:spcBef>
                <a:spcPts val="499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operators in PL SQ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70000"/>
              </a:lnSpc>
              <a:spcBef>
                <a:spcPts val="499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e ends with  operator: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70000"/>
              </a:lnSpc>
              <a:spcBef>
                <a:spcPts val="499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join two strings: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|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70000"/>
              </a:lnSpc>
              <a:spcBef>
                <a:spcPts val="499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accept value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70000"/>
              </a:lnSpc>
              <a:spcBef>
                <a:spcPts val="499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we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**3 means 2 raise to power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70000"/>
              </a:lnSpc>
              <a:spcBef>
                <a:spcPts val="499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loop we use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X in 1..5 mean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to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70000"/>
              </a:lnSpc>
              <a:spcBef>
                <a:spcPts val="499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 numeric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string or date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written in sing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ote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‘ ‘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0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2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2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2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2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2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26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2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26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Accept a value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9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90000"/>
              </a:lnSpc>
              <a:spcBef>
                <a:spcPts val="799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1 := &amp;Number1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run time this will prompt 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ever value user will ent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e will be assign to variab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4"/>
          <p:cNvSpPr/>
          <p:nvPr/>
        </p:nvSpPr>
        <p:spPr>
          <a:xfrm>
            <a:off x="3112560" y="3646440"/>
            <a:ext cx="472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b9f25"/>
                </a:solidFill>
                <a:latin typeface="Arial"/>
              </a:rPr>
              <a:t>Enter a value for Number1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2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Accept a value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80000"/>
              </a:lnSpc>
              <a:spcBef>
                <a:spcPts val="700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me := ‘&amp;Name’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run time this will prompt 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ll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ever value user will en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re will be assign to variab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‘   ‘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used in case if entered data is not numer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4"/>
          <p:cNvSpPr/>
          <p:nvPr/>
        </p:nvSpPr>
        <p:spPr>
          <a:xfrm>
            <a:off x="3111840" y="3646440"/>
            <a:ext cx="415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b9f25"/>
                </a:solidFill>
                <a:latin typeface="Arial"/>
              </a:rPr>
              <a:t>Enter a value for Nam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0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2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2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2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2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Display value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display on same lin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bms_output.put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display on new l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bms_output.put_line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re dbms_output is a Oracle package its like header file or library in C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Put and .Put_Line are functions like printf in ‘C’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0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2000"/>
                                        <p:tgtEl>
                                          <p:spTgt spid="2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2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Objectives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15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PL-SQ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5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PL-SQL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5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nguage  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5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ic Structure of PL/SQL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5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5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Flow in PL-SQ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5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ps in PL-SQ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Display value : Examples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bms_output.put (‘Mahindra’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bms_output.put (‘British’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bms_output.put (‘Telecom’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bms_output.put_line(‘ ‘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will display </a:t>
            </a:r>
            <a:r>
              <a:rPr b="1" lang="en-US" sz="2000" spc="-1" strike="noStrike">
                <a:solidFill>
                  <a:srgbClr val="6b9f25"/>
                </a:solidFill>
                <a:latin typeface="Arial"/>
              </a:rPr>
              <a:t>Mahindra British Teleco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n same li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8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 SQL prompt after Login you need to set one command to see displayed valu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6b9f25"/>
                </a:solidFill>
                <a:latin typeface="Arial"/>
              </a:rPr>
              <a:t>SET SERVEROUTPUT ON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85000"/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t is important that at least once you write .put_line after any number of .put functions else values are not display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0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20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2000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2000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2000"/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2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2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2000"/>
                                        <p:tgtEl>
                                          <p:spTgt spid="2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2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2000"/>
                                        <p:tgtEl>
                                          <p:spTgt spid="2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2000"/>
                                        <p:tgtEl>
                                          <p:spTgt spid="2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Display value : Examples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bms_output.put_line (‘Mahindra’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bms_output.put_line (‘British’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bms_output.put_line (‘Telecom’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will displa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b9f25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6b9f25"/>
                </a:solidFill>
                <a:latin typeface="Arial"/>
              </a:rPr>
              <a:t>Mahindr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b9f25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6b9f25"/>
                </a:solidFill>
                <a:latin typeface="Arial"/>
              </a:rPr>
              <a:t>Britis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b9f25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6b9f25"/>
                </a:solidFill>
                <a:latin typeface="Arial"/>
              </a:rPr>
              <a:t>Teleco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different li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8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 SQL prompt after Login you need to set one command to see displayed valu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6b9f25"/>
                </a:solidFill>
                <a:latin typeface="Arial"/>
              </a:rPr>
              <a:t>SET SERVEROUTPUT ON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0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20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2000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2000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2000"/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2000"/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2000"/>
                                        <p:tgtEl>
                                          <p:spTgt spid="2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2000"/>
                                        <p:tgtEl>
                                          <p:spTgt spid="2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2000"/>
                                        <p:tgtEl>
                                          <p:spTgt spid="2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2000"/>
                                        <p:tgtEl>
                                          <p:spTgt spid="2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2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2000"/>
                                        <p:tgtEl>
                                          <p:spTgt spid="2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DML operations in Pl-SQL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7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ML operations (Insert/Update/Delete /Select) are to be written in Begin part of the blo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hange in the Syntax of Insert , Update and Delete , it is same as SQ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syntax is different then SQL , it contains INTO cla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Select query can return more then one rows then you should always use cursor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nodeType="clickEffect" fill="hold">
                      <p:stCondLst>
                        <p:cond delay="0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2000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2000"/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2000"/>
                                        <p:tgtEl>
                                          <p:spTgt spid="2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76320" y="533160"/>
            <a:ext cx="861048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Select Syntax for a Single Row Query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04920" y="175212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 algn="just">
              <a:lnSpc>
                <a:spcPct val="140000"/>
              </a:lnSpc>
              <a:spcBef>
                <a:spcPts val="499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column1, column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6b9f25"/>
                </a:solidFill>
                <a:latin typeface="Arial"/>
              </a:rPr>
              <a:t>INTO Variable1,Variable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able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condition 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lnSpc>
                <a:spcPct val="140000"/>
              </a:lnSpc>
              <a:spcBef>
                <a:spcPts val="499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only change is as many columns you want to get from the query you need to declare that many variables and use INTO claus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lnSpc>
                <a:spcPct val="140000"/>
              </a:lnSpc>
              <a:spcBef>
                <a:spcPts val="499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other parts of query are unchang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lnSpc>
                <a:spcPct val="140000"/>
              </a:lnSpc>
              <a:spcBef>
                <a:spcPts val="499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Where condition here is such that query will return multiple records then CURSOR should be used. Without that it will give err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0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20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2000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2000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2000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2000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2000"/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2000"/>
                                        <p:tgtEl>
                                          <p:spTgt spid="2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Variable Declaration in PL SQL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bles are always declared in DECLARE section of the progra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Variable Name   &lt;Data Type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ous way to declare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V_empno  Numbe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V_ename varchar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nodeType="clickEffect" fill="hold">
                      <p:stCondLst>
                        <p:cond delay="0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20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2000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2000"/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2000"/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2000"/>
                                        <p:tgtEl>
                                          <p:spTgt spid="2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Variable Declaration in PL SQL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8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 and preferred way  to declare a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Variable Name   TableName.ColName%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V_empno  Emp.Empno%Typ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V_ename Emp.Ename%Typ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antages of declaring in above w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ble will always have same datatype as colum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 change in column will change the type of variable also, so we need not have to change and recompile the program to ru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0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20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2000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2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2000"/>
                                        <p:tgtEl>
                                          <p:spTgt spid="2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2000"/>
                                        <p:tgtEl>
                                          <p:spTgt spid="2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2000"/>
                                        <p:tgtEl>
                                          <p:spTgt spid="2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Variable Declaration in PL SQL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140000"/>
              </a:lnSpc>
              <a:spcBef>
                <a:spcPts val="550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%RowTyp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2520" indent="0" algn="ctr">
              <a:lnSpc>
                <a:spcPct val="14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Variable Name   TableName%RowTyp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2520" indent="0" algn="ctr">
              <a:lnSpc>
                <a:spcPct val="14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v_emp  Emp%RowType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40000"/>
              </a:lnSpc>
              <a:spcBef>
                <a:spcPts val="550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vantages of declaring in above wa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140000"/>
              </a:lnSpc>
              <a:spcBef>
                <a:spcPts val="476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Variable will  become like a structure variable in C (i.e. v_emp will have same structure like Emp Table) and you can refer to individual element as follows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4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v_emp.empn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4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v_emp.enam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4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v_emp.s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4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nodeType="clickEffect" fill="hold">
                      <p:stCondLst>
                        <p:cond delay="0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20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2000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2000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2000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2000"/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2000"/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2000"/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2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Variable Declaration in PL SQL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499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 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also make your own type in program and use in the declare section to declare vari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ype  t_name   is   Varchar2(5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 now you can make variable of this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v_nam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t_nam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v_name2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t_nam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_name and v_name2 both will become varchar2(5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nodeType="clickEffect" fill="hold">
                      <p:stCondLst>
                        <p:cond delay="0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20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2000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2000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1" dur="2000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2000"/>
                                        <p:tgtEl>
                                          <p:spTgt spid="2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Conditional Statements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70000"/>
              </a:lnSpc>
              <a:spcBef>
                <a:spcPts val="499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… Then … 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f &lt;condition1&gt;  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&lt;Cod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LSIF &lt;Condition2&gt; 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&lt;Cod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&lt;Cod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499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 here that for one IF we only need one END IF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499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END IF is required for ELSIF i.e for one set of IF condition only one END IF; is requi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nodeType="clickEffect" fill="hold">
                      <p:stCondLst>
                        <p:cond delay="0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8" dur="20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3" dur="2000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8" dur="2000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3" dur="2000"/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8" dur="2000"/>
                                        <p:tgtEl>
                                          <p:spTgt spid="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3" dur="2000"/>
                                        <p:tgtEl>
                                          <p:spTgt spid="2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8" dur="2000"/>
                                        <p:tgtEl>
                                          <p:spTgt spid="2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3" dur="2000"/>
                                        <p:tgtEl>
                                          <p:spTgt spid="2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8" dur="2000"/>
                                        <p:tgtEl>
                                          <p:spTgt spid="2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3" dur="2000"/>
                                        <p:tgtEl>
                                          <p:spTgt spid="2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Conditional Statements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… Then … 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 v_deptno = 10  T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MS_OUTPUT.PUT_LINE ('Accounting'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SIF v_deptno = 20 T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MS_OUTPUT.PUT_LINE (‘ESG')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MS_OUTPUT.PUT_LINE (‘Invalid'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nodeType="clickEffect" fill="hold">
                      <p:stCondLst>
                        <p:cond delay="0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0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5" dur="2000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nodeType="clickEffect" fill="hold">
                      <p:stCondLst>
                        <p:cond delay="indefinite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0" dur="2000"/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5" dur="2000"/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2000"/>
                                        <p:tgtEl>
                                          <p:spTgt spid="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5" dur="2000"/>
                                        <p:tgtEl>
                                          <p:spTgt spid="2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0" dur="2000"/>
                                        <p:tgtEl>
                                          <p:spTgt spid="2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5" dur="2000"/>
                                        <p:tgtEl>
                                          <p:spTgt spid="2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2000"/>
                                        <p:tgtEl>
                                          <p:spTgt spid="2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What is PL-SQL?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15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/SQL stands for Procedural Language/SQ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5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dural Language extension for SQ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5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acle Propriet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5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GL Capab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5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ration of SQ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5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rtable within Oracle data b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5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able from any cl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5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TYPES  OF LOOPS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e 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it When &lt;Condition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Code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it when is required to give the condition to end the 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pre tested as condition is checked first and then code is execu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nodeType="clickEffect" fill="hold">
                      <p:stCondLst>
                        <p:cond delay="0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7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nodeType="clickEffect" fill="hold">
                      <p:stCondLst>
                        <p:cond delay="indefinite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2" dur="20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5" dur="2000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nodeType="clickEffect" fill="hold">
                      <p:stCondLst>
                        <p:cond delay="indefinite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2000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3" dur="2000"/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9" dur="2000"/>
                                        <p:tgtEl>
                                          <p:spTgt spid="2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nodeType="clickEffect" fill="hold">
                      <p:stCondLst>
                        <p:cond delay="indefinite"/>
                      </p:stCondLst>
                      <p:childTnLst>
                        <p:par>
                          <p:cTn id="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4" dur="2000"/>
                                        <p:tgtEl>
                                          <p:spTgt spid="2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9" dur="2000"/>
                                        <p:tgtEl>
                                          <p:spTgt spid="2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TYPES  OF LOOPS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e Loo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6b9f25"/>
                </a:solidFill>
                <a:latin typeface="Arial"/>
              </a:rPr>
              <a:t>Exit When i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bms_output.put_line (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Pre Tes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nodeType="clickEffect" fill="hold">
                      <p:stCondLst>
                        <p:cond delay="0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1" dur="20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4" dur="2000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9" dur="2000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2" dur="2000"/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5" dur="2000"/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8" dur="2000"/>
                                        <p:tgtEl>
                                          <p:spTgt spid="3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3" dur="2000"/>
                                        <p:tgtEl>
                                          <p:spTgt spid="3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TYPES  OF LOOPS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80000"/>
              </a:lnSpc>
              <a:spcBef>
                <a:spcPts val="499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Cod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it When &lt;Condi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d Loo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99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it when is required to give the condition to end the 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99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post tested as condition is checked after the code is execu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84" dur="indefinite" restart="never" nodeType="tmRoot">
          <p:childTnLst>
            <p:seq>
              <p:cTn id="785" dur="indefinite" nodeType="mainSeq">
                <p:childTnLst>
                  <p:par>
                    <p:cTn id="786" nodeType="clickEffect" fill="hold">
                      <p:stCondLst>
                        <p:cond delay="0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0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5" dur="20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8" dur="2000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3" dur="2000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6" dur="2000"/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9" dur="2000"/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2" dur="2000"/>
                                        <p:tgtEl>
                                          <p:spTgt spid="3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nodeType="clickEffect" fill="hold">
                      <p:stCondLst>
                        <p:cond delay="indefinite"/>
                      </p:stCondLst>
                      <p:childTnLst>
                        <p:par>
                          <p:cTn id="8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7" dur="2000"/>
                                        <p:tgtEl>
                                          <p:spTgt spid="3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nodeType="clickEffect" fill="hold">
                      <p:stCondLst>
                        <p:cond delay="indefinite"/>
                      </p:stCondLst>
                      <p:childTnLst>
                        <p:par>
                          <p:cTn id="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2" dur="2000"/>
                                        <p:tgtEl>
                                          <p:spTgt spid="3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TYPES  OF LOOPS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e Loo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bms_output.put_line (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6b9f25"/>
                </a:solidFill>
                <a:latin typeface="Arial"/>
              </a:rPr>
              <a:t>Exit When i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Post Tes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nodeType="clickEffect" fill="hold">
                      <p:stCondLst>
                        <p:cond delay="0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9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nodeType="clickEffect" fill="hold">
                      <p:stCondLst>
                        <p:cond delay="indefinite"/>
                      </p:stCondLst>
                      <p:childTnLst>
                        <p:par>
                          <p:cTn id="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4" dur="20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7" dur="2000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nodeType="clickEffect" fill="hold">
                      <p:stCondLst>
                        <p:cond delay="indefinite"/>
                      </p:stCondLst>
                      <p:childTnLst>
                        <p:par>
                          <p:cTn id="8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2" dur="2000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5" dur="2000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1" dur="2000"/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nodeType="clickEffect" fill="hold">
                      <p:stCondLst>
                        <p:cond delay="indefinite"/>
                      </p:stCondLst>
                      <p:childTnLst>
                        <p:par>
                          <p:cTn id="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6" dur="2000"/>
                                        <p:tgtEl>
                                          <p:spTgt spid="3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TYPES  OF LOOPS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&lt;Condition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Code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is required for condition to end the 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also pre tes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nodeType="clickEffect" fill="hold">
                      <p:stCondLst>
                        <p:cond delay="0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3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nodeType="clickEffect" fill="hold">
                      <p:stCondLst>
                        <p:cond delay="indefinite"/>
                      </p:stCondLst>
                      <p:childTnLst>
                        <p:par>
                          <p:cTn id="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8" dur="20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1" dur="200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nodeType="clickEffect" fill="hold">
                      <p:stCondLst>
                        <p:cond delay="indefinite"/>
                      </p:stCondLst>
                      <p:childTnLst>
                        <p:par>
                          <p:cTn id="8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6" dur="2000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2" dur="2000"/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5" dur="2000"/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nodeType="clickEffect" fill="hold">
                      <p:stCondLst>
                        <p:cond delay="indefinite"/>
                      </p:stCondLst>
                      <p:childTnLst>
                        <p:par>
                          <p:cTn id="8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0" dur="2000"/>
                                        <p:tgtEl>
                                          <p:spTgt spid="3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nodeType="clickEffect" fill="hold">
                      <p:stCondLst>
                        <p:cond delay="indefinite"/>
                      </p:stCondLst>
                      <p:childTnLst>
                        <p:par>
                          <p:cTn id="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5" dur="2000"/>
                                        <p:tgtEl>
                                          <p:spTgt spid="3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TYPES  OF LOOPS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6b9f25"/>
                </a:solidFill>
                <a:latin typeface="Arial"/>
              </a:rPr>
              <a:t>While i &lt;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bms_output.put_line (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6" dur="indefinite" restart="never" nodeType="tmRoot">
          <p:childTnLst>
            <p:seq>
              <p:cTn id="897" dur="indefinite" nodeType="mainSeq">
                <p:childTnLst>
                  <p:par>
                    <p:cTn id="898" nodeType="clickEffect" fill="hold">
                      <p:stCondLst>
                        <p:cond delay="0"/>
                      </p:stCondLst>
                      <p:childTnLst>
                        <p:par>
                          <p:cTn id="8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2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nodeType="clickEffect" fill="hold">
                      <p:stCondLst>
                        <p:cond delay="indefinite"/>
                      </p:stCondLst>
                      <p:childTnLst>
                        <p:par>
                          <p:cTn id="9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7" dur="20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0" dur="200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nodeType="clickEffect" fill="hold">
                      <p:stCondLst>
                        <p:cond delay="indefinite"/>
                      </p:stCondLst>
                      <p:childTnLst>
                        <p:par>
                          <p:cTn id="9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5" dur="2000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8" dur="2000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1" dur="2000"/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4" dur="2000"/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TYPES  OF LOOPS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 &lt;Variable&gt; IN &lt;Min&gt; .. &lt;Max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Code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Loop is used when we know the number of time the loop is to be exec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also pre tes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25" dur="indefinite" restart="never" nodeType="tmRoot">
          <p:childTnLst>
            <p:seq>
              <p:cTn id="926" dur="indefinite" nodeType="mainSeq">
                <p:childTnLst>
                  <p:par>
                    <p:cTn id="927" nodeType="clickEffect" fill="hold">
                      <p:stCondLst>
                        <p:cond delay="0"/>
                      </p:stCondLst>
                      <p:childTnLst>
                        <p:par>
                          <p:cTn id="9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1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nodeType="clickEffect" fill="hold">
                      <p:stCondLst>
                        <p:cond delay="indefinite"/>
                      </p:stCondLst>
                      <p:childTnLst>
                        <p:par>
                          <p:cTn id="9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6" dur="2000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9" dur="2000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nodeType="clickEffect" fill="hold">
                      <p:stCondLst>
                        <p:cond delay="indefinite"/>
                      </p:stCondLst>
                      <p:childTnLst>
                        <p:par>
                          <p:cTn id="9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2000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2000"/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2000"/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2000"/>
                                        <p:tgtEl>
                                          <p:spTgt spid="3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nodeType="clickEffect" fill="hold">
                      <p:stCondLst>
                        <p:cond delay="indefinite"/>
                      </p:stCondLst>
                      <p:childTnLst>
                        <p:par>
                          <p:cTn id="9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8" dur="2000"/>
                                        <p:tgtEl>
                                          <p:spTgt spid="3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nodeType="clickEffect" fill="hold">
                      <p:stCondLst>
                        <p:cond delay="indefinite"/>
                      </p:stCondLst>
                      <p:childTnLst>
                        <p:par>
                          <p:cTn id="9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3" dur="2000"/>
                                        <p:tgtEl>
                                          <p:spTgt spid="3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TYPES  OF LOOPS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 i IN 1 .. 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Code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Loop will execute the given code 100 times for i = 1 to 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64" dur="indefinite" restart="never" nodeType="tmRoot">
          <p:childTnLst>
            <p:seq>
              <p:cTn id="965" dur="indefinite" nodeType="mainSeq">
                <p:childTnLst>
                  <p:par>
                    <p:cTn id="966" nodeType="clickEffect" fill="hold">
                      <p:stCondLst>
                        <p:cond delay="0"/>
                      </p:stCondLst>
                      <p:childTnLst>
                        <p:par>
                          <p:cTn id="9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0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nodeType="clickEffect" fill="hold">
                      <p:stCondLst>
                        <p:cond delay="indefinite"/>
                      </p:stCondLst>
                      <p:childTnLst>
                        <p:par>
                          <p:cTn id="9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5" dur="20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8" dur="2000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nodeType="clickEffect" fill="hold">
                      <p:stCondLst>
                        <p:cond delay="indefinite"/>
                      </p:stCondLst>
                      <p:childTnLst>
                        <p:par>
                          <p:cTn id="9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2000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9" dur="2000"/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2" dur="2000"/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nodeType="clickEffect" fill="hold">
                      <p:stCondLst>
                        <p:cond delay="indefinite"/>
                      </p:stCondLst>
                      <p:childTnLst>
                        <p:par>
                          <p:cTn id="9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7" dur="2000"/>
                                        <p:tgtEl>
                                          <p:spTgt spid="3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TYPES  OF LOOPS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Loop Reve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 i IN Reverse 1 .. 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Code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Loop will execute the given code 100 times for i = 100 to 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reverse i.e from last value to first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8" dur="indefinite" restart="never" nodeType="tmRoot">
          <p:childTnLst>
            <p:seq>
              <p:cTn id="999" dur="indefinite" nodeType="mainSeq">
                <p:childTnLst>
                  <p:par>
                    <p:cTn id="1000" nodeType="clickEffect" fill="hold">
                      <p:stCondLst>
                        <p:cond delay="0"/>
                      </p:stCondLst>
                      <p:childTnLst>
                        <p:par>
                          <p:cTn id="10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4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nodeType="clickEffect" fill="hold">
                      <p:stCondLst>
                        <p:cond delay="indefinite"/>
                      </p:stCondLst>
                      <p:childTnLst>
                        <p:par>
                          <p:cTn id="10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20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2" dur="2000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nodeType="clickEffect" fill="hold">
                      <p:stCondLst>
                        <p:cond delay="indefinite"/>
                      </p:stCondLst>
                      <p:childTnLst>
                        <p:par>
                          <p:cTn id="10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7" dur="2000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0" dur="2000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3" dur="2000"/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6" dur="2000"/>
                                        <p:tgtEl>
                                          <p:spTgt spid="3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nodeType="clickEffect" fill="hold">
                      <p:stCondLst>
                        <p:cond delay="indefinite"/>
                      </p:stCondLst>
                      <p:childTnLst>
                        <p:par>
                          <p:cTn id="10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1" dur="2000"/>
                                        <p:tgtEl>
                                          <p:spTgt spid="3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nodeType="clickEffect" fill="hold">
                      <p:stCondLst>
                        <p:cond delay="indefinite"/>
                      </p:stCondLst>
                      <p:childTnLst>
                        <p:par>
                          <p:cTn id="10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6" dur="2000"/>
                                        <p:tgtEl>
                                          <p:spTgt spid="3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848720" cy="192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23232"/>
                </a:solidFill>
                <a:latin typeface="Arial"/>
              </a:rPr>
              <a:t>THANK YOU !!</a:t>
            </a:r>
            <a:endParaRPr b="0" lang="en-US" sz="5400" spc="-1" strike="noStrike">
              <a:solidFill>
                <a:srgbClr val="323232"/>
              </a:solidFill>
              <a:latin typeface="Arial"/>
            </a:endParaRPr>
          </a:p>
        </p:txBody>
      </p:sp>
    </p:spTree>
  </p:cSld>
  <p:timing>
    <p:tnLst>
      <p:par>
        <p:cTn id="1037" dur="indefinite" restart="never" nodeType="tmRoot">
          <p:childTnLst>
            <p:seq>
              <p:cTn id="1038" dur="indefinite" nodeType="mainSeq">
                <p:childTnLst>
                  <p:par>
                    <p:cTn id="1039" nodeType="clickEffect" fill="hold">
                      <p:stCondLst>
                        <p:cond delay="0"/>
                      </p:stCondLst>
                      <p:childTnLst>
                        <p:par>
                          <p:cTn id="10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3" dur="8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Why PL SQL ?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 algn="just">
              <a:lnSpc>
                <a:spcPct val="90000"/>
              </a:lnSpc>
              <a:spcBef>
                <a:spcPts val="700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/SQL extends SQL by adding constructs found in procedural languages like procedures, loops, variables, objects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lnSpc>
                <a:spcPct val="90000"/>
              </a:lnSpc>
              <a:spcBef>
                <a:spcPts val="700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ing a structural language that is more powerful than SQ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PL SQL, Is there any Advantage ?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09120" y="5029200"/>
            <a:ext cx="80010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80000"/>
              </a:lnSpc>
              <a:spcBef>
                <a:spcPts val="499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case of SQL to send 3 queries we will need three network trips between client and serv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99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PL-SQL we bundle any number of queries in a block and in single network trip task is d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Group 1"/>
          <p:cNvGrpSpPr/>
          <p:nvPr/>
        </p:nvGrpSpPr>
        <p:grpSpPr>
          <a:xfrm>
            <a:off x="777960" y="1714680"/>
            <a:ext cx="3260520" cy="2438280"/>
            <a:chOff x="777960" y="1714680"/>
            <a:chExt cx="3260520" cy="2438280"/>
          </a:xfrm>
        </p:grpSpPr>
        <p:sp>
          <p:nvSpPr>
            <p:cNvPr id="230" name="Rectangle 4"/>
            <p:cNvSpPr/>
            <p:nvPr/>
          </p:nvSpPr>
          <p:spPr>
            <a:xfrm>
              <a:off x="777960" y="2552760"/>
              <a:ext cx="959040" cy="76176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QL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Query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Rectangle 10"/>
            <p:cNvSpPr/>
            <p:nvPr/>
          </p:nvSpPr>
          <p:spPr>
            <a:xfrm>
              <a:off x="1928520" y="2552760"/>
              <a:ext cx="959040" cy="76176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QL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Query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Rectangle 11"/>
            <p:cNvSpPr/>
            <p:nvPr/>
          </p:nvSpPr>
          <p:spPr>
            <a:xfrm>
              <a:off x="3079440" y="2552760"/>
              <a:ext cx="959040" cy="76176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QL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Query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12"/>
            <p:cNvSpPr/>
            <p:nvPr/>
          </p:nvSpPr>
          <p:spPr>
            <a:xfrm>
              <a:off x="1161360" y="3695760"/>
              <a:ext cx="2685240" cy="45720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li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Rectangle 14"/>
            <p:cNvSpPr/>
            <p:nvPr/>
          </p:nvSpPr>
          <p:spPr>
            <a:xfrm>
              <a:off x="969480" y="1714680"/>
              <a:ext cx="3069000" cy="53316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Line 16"/>
            <p:cNvSpPr/>
            <p:nvPr/>
          </p:nvSpPr>
          <p:spPr>
            <a:xfrm>
              <a:off x="1161360" y="2247840"/>
              <a:ext cx="0" cy="144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17"/>
            <p:cNvSpPr/>
            <p:nvPr/>
          </p:nvSpPr>
          <p:spPr>
            <a:xfrm>
              <a:off x="2504160" y="21718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18"/>
            <p:cNvSpPr/>
            <p:nvPr/>
          </p:nvSpPr>
          <p:spPr>
            <a:xfrm>
              <a:off x="3463200" y="2247840"/>
              <a:ext cx="0" cy="144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Group 2"/>
          <p:cNvGrpSpPr/>
          <p:nvPr/>
        </p:nvGrpSpPr>
        <p:grpSpPr>
          <a:xfrm>
            <a:off x="4800600" y="1676520"/>
            <a:ext cx="3809880" cy="3047760"/>
            <a:chOff x="4800600" y="1676520"/>
            <a:chExt cx="3809880" cy="3047760"/>
          </a:xfrm>
        </p:grpSpPr>
        <p:sp>
          <p:nvSpPr>
            <p:cNvPr id="239" name="Rectangle 19"/>
            <p:cNvSpPr/>
            <p:nvPr/>
          </p:nvSpPr>
          <p:spPr>
            <a:xfrm>
              <a:off x="5079240" y="2671920"/>
              <a:ext cx="929160" cy="76176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QL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Query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20"/>
            <p:cNvSpPr/>
            <p:nvPr/>
          </p:nvSpPr>
          <p:spPr>
            <a:xfrm>
              <a:off x="6194520" y="2671920"/>
              <a:ext cx="929160" cy="76176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QL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Query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Rectangle 21"/>
            <p:cNvSpPr/>
            <p:nvPr/>
          </p:nvSpPr>
          <p:spPr>
            <a:xfrm>
              <a:off x="7309440" y="2671920"/>
              <a:ext cx="929160" cy="76176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QL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Query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Rectangle 22"/>
            <p:cNvSpPr/>
            <p:nvPr/>
          </p:nvSpPr>
          <p:spPr>
            <a:xfrm>
              <a:off x="5172120" y="4267080"/>
              <a:ext cx="2602080" cy="45720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li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Rectangle 23"/>
            <p:cNvSpPr/>
            <p:nvPr/>
          </p:nvSpPr>
          <p:spPr>
            <a:xfrm>
              <a:off x="5265000" y="1676520"/>
              <a:ext cx="2973600" cy="53316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Rectangle 24"/>
            <p:cNvSpPr/>
            <p:nvPr/>
          </p:nvSpPr>
          <p:spPr>
            <a:xfrm>
              <a:off x="4800600" y="2519280"/>
              <a:ext cx="3809880" cy="144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Text Box 25"/>
            <p:cNvSpPr/>
            <p:nvPr/>
          </p:nvSpPr>
          <p:spPr>
            <a:xfrm>
              <a:off x="6095160" y="3510000"/>
              <a:ext cx="161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L-SQL Bloc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27"/>
            <p:cNvSpPr/>
            <p:nvPr/>
          </p:nvSpPr>
          <p:spPr>
            <a:xfrm>
              <a:off x="6473160" y="39625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Line 28"/>
            <p:cNvSpPr/>
            <p:nvPr/>
          </p:nvSpPr>
          <p:spPr>
            <a:xfrm>
              <a:off x="6566040" y="22096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Language features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700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s constructs like any other 4th generation languag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bles and Data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ps and Control stat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dures and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igg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rds (Its like structure in C languag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2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PL SQL  program structure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cl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All Variables, cursors, exception etc  are declared here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All programming logic , queries , program statements are written here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xce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All Error Handling code is written here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nd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It ends the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PL SQL  nested block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b9f25"/>
                </a:solidFill>
                <a:latin typeface="Arial"/>
              </a:rPr>
              <a:t>&lt;&lt;Outer Block&gt;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b9f25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6b9f25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6b9f25"/>
                </a:solidFill>
                <a:latin typeface="Arial"/>
              </a:rPr>
              <a:t>Decl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b9f25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6b9f25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6b9f25"/>
                </a:solidFill>
                <a:latin typeface="Arial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&lt;&lt;Inner Block&gt;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Decl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Exce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b9f25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6b9f25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6b9f25"/>
                </a:solidFill>
                <a:latin typeface="Arial"/>
              </a:rPr>
              <a:t>Exce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b9f25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6b9f25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6b9f25"/>
                </a:solidFill>
                <a:latin typeface="Arial"/>
              </a:rPr>
              <a:t>End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PL SQL Block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emember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lare is optional and only required when variables need to be decla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eption is optional and required when Error/Exception handling is d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gin and End are  mandatory as all logic and queries are written inside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5T07:42:31Z</dcterms:created>
  <dc:creator>cobra</dc:creator>
  <dc:description/>
  <dc:language>en-US</dc:language>
  <cp:lastModifiedBy>cse</cp:lastModifiedBy>
  <dcterms:modified xsi:type="dcterms:W3CDTF">2015-08-02T08:09:00Z</dcterms:modified>
  <cp:revision>41</cp:revision>
  <dc:subject/>
  <dc:title>Introduction to PL/SQL</dc:title>
</cp:coreProperties>
</file>