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4.jpeg" ContentType="image/jpeg"/>
  <Override PartName="/ppt/media/image2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4AE53-CC4B-4360-B8F0-836FAFC96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ECEB3-ABDB-441E-BA2F-B32F81CAE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19892-342A-404A-9B57-30BD1784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4D70B-1EDD-4804-8715-5B4613CF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F952-0EA8-4182-BAC3-0213CB93F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6C10DC-8B96-49E9-9CAD-754CD8FBE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3D43B-D5C9-481F-A4CE-165085D95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22A74-1D07-40C3-81F2-BB237E188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01D9-5517-4968-A926-54FC63E8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7AB16-91A5-4C38-8325-06AD88CEF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9EE6-3F73-473A-9CDA-95BA4085F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E8126-BB3B-45E1-9417-8EE37FF1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90C7-22C0-4731-B769-0465209A7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143B1-EF2B-429B-A45F-3E6648046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22B1A-554C-46A5-B54C-A24196F9B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B1266-4FED-43C2-87EC-69B83F974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0B08F-78DA-4ABA-A723-31ADADC25B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4A0E92-A492-426B-ACB7-183D5C358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940A530-5B10-4541-980A-B97224C23B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0DF93E9-C782-4245-851D-03A2B0B63C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2163D-EBEA-4E0B-AB99-ED887D0FE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1EFF0B-EF4C-4FAB-A7FF-484C54605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5D1C5-AAC7-4B74-B781-1E5C16028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BE5DBC-61A5-4F75-8BD3-94D988B2D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A684F6-4F65-49E2-91EA-8E8F82B8A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FE28FE7-41F1-4818-AB67-901312522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8C0FB-19D5-4F84-8373-7DDE89DA1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1D1185-74B8-46CA-8B07-BB8E4B04C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2CA903-C816-4F47-9240-E422F67E45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A08BD9-8CE7-481D-AD75-D1B101F64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9A1C94-F3B7-41D7-B6D4-4DB40DBF9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AECE86-C793-402E-99B2-F3FBEE825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7EA3E8-C80F-499D-B147-060100407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85215-98A1-4143-ADE5-E6C15EAE7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0412C1-9928-4DBC-AEC2-8ACB5036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174BA9-BA83-4B11-8A1F-880DF178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6F4831-9091-4B77-BA75-65DFDECCB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2D7AC-DC1D-494D-A712-8C731607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8F8D2C-579B-4B53-B83E-8A6E923F2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D08D5D-825D-439B-9F1F-D0C0A8A46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04395E-7D55-4D88-8847-2944319AC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C3027-EB9F-48B3-94FA-C136CBCD09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AB2203-3DF8-4C59-A11A-84A2D86A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2B6346-869F-4FD2-BD70-AC23B8FB53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B508F-00D8-4ABE-84C9-EDEF444B6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61C12ED-AB64-4243-87F7-3118D6B8A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7145FBB-1B43-4264-A287-F70F001D7C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DDA99A1-8F99-417E-A366-934F01796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C11B625-AAEB-4AB4-9932-E10D8B585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9F312B3-37CD-4032-90F1-68CBABEAC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6E56A66-D3CF-4FDB-8D6B-483E27093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0C54B5E-5443-4684-A3D8-A735C5296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CE2C36-1172-4B08-A8AF-7F44AF70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F3D7059-A611-4E0E-962A-29E847BC4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2E69E90-2B1D-452B-8C68-713B53D6C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1468-B9CF-40CC-A363-2A97FA668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A6AA86E-D70E-4AF4-9206-DEEF5BBB73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43C097A-DEF6-4F1E-A4C4-46E2E513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B885E1-F444-4056-A216-35D321B66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C7FCDB2-41C1-4FA0-8266-4EED312F61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2EC2488-554A-4261-8664-885C430B7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058E7DB-1702-4FDE-B634-F62E6C95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11A860-646D-4D29-BB80-001D93123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7C04512-BC29-440F-A0BB-51B1591D0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E863327-3F02-46F0-8322-E4D8AFCE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306B88A-5A40-4FB3-9D4F-BA0BD45B7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40C0E-5E7D-46F7-8AFF-5CABD79B3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4CF6DD-7844-43B9-9351-B1EA053490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A8CC9B0-5335-4199-8606-1539D896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520118-24DA-4C0A-AF87-B62B9994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28B51-6E0B-4A5F-9286-8929891CD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7DFD-6A9F-4C40-97E8-2F3659801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D8568-5BEB-46D6-95C5-78A7B3184265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32CF7-892C-4469-9F02-E923B7FD37DD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9B455-1D4B-420B-8C98-904A77C9E732}" type="slidenum">
              <a:rPr b="0" lang="en-US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E2BE5-CBFF-4172-BE1B-D8E244231089}" type="slidenum">
              <a:rPr b="0" lang="en-US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sldNum" idx="14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C6018-4F8A-49D9-A83D-1105C1A8C64F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ftr" idx="1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sldNum" idx="17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FA4C0-9147-4E3C-B9EF-ED7B22648EB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ftr" idx="18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45c75"/>
                </a:solidFill>
                <a:latin typeface="Constantia"/>
              </a:rPr>
              <a:t>Rushdi Shams, Dept of CSE, KU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png"/><Relationship Id="rId6" Type="http://schemas.openxmlformats.org/officeDocument/2006/relationships/image" Target="../media/image20.png"/><Relationship Id="rId7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png"/><Relationship Id="rId7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Join operations bring together two tables and combine their rows and columns in a specific fashion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 generic join operator called the </a:t>
            </a:r>
            <a:r>
              <a:rPr b="1" i="1" lang="en-GB" sz="2800" spc="-1" strike="noStrike">
                <a:solidFill>
                  <a:srgbClr val="ff0000"/>
                </a:solidFill>
                <a:latin typeface="Constantia"/>
              </a:rPr>
              <a:t>Theta Join</a:t>
            </a:r>
            <a:r>
              <a:rPr b="1" lang="en-GB" sz="2800" spc="-1" strike="noStrike">
                <a:solidFill>
                  <a:srgbClr val="ff0000"/>
                </a:solidFill>
                <a:latin typeface="Constantia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s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It takes as arguments the columns from the two tables that are to be joined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50920" indent="-250920" algn="just">
              <a:lnSpc>
                <a:spcPct val="15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hen the join condition operator is   </a:t>
            </a:r>
            <a:r>
              <a:rPr b="1" lang="en-GB" sz="2800" spc="-1" strike="noStrike">
                <a:solidFill>
                  <a:srgbClr val="000000"/>
                </a:solidFill>
                <a:latin typeface="Constantia"/>
              </a:rPr>
              <a:t>= 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  then we call this an Equijo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97" name="Picture 6" descr="joinop"/>
          <p:cNvPicPr/>
          <p:nvPr/>
        </p:nvPicPr>
        <p:blipFill>
          <a:blip r:embed="rId1"/>
          <a:stretch/>
        </p:blipFill>
        <p:spPr>
          <a:xfrm>
            <a:off x="8381880" y="3048120"/>
            <a:ext cx="247680" cy="218880"/>
          </a:xfrm>
          <a:prstGeom prst="rect">
            <a:avLst/>
          </a:prstGeom>
          <a:ln w="0">
            <a:noFill/>
          </a:ln>
        </p:spPr>
      </p:pic>
      <p:sp>
        <p:nvSpPr>
          <p:cNvPr id="298" name="Slide Number Placeholder 5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EEDA2-04E3-4107-8B90-E6E1CB1F47B1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Lef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7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8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59" name="Picture 11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0528D-E89D-468C-911D-F45A9AEC837D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62" name="Object 3"/>
          <p:cNvGraphicFramePr/>
          <p:nvPr/>
        </p:nvGraphicFramePr>
        <p:xfrm>
          <a:off x="2484360" y="2565360"/>
          <a:ext cx="4168800" cy="2084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2565360"/>
                    <a:ext cx="4168800" cy="208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4" name="Picture 13" descr="loj"/>
          <p:cNvPicPr/>
          <p:nvPr/>
        </p:nvPicPr>
        <p:blipFill>
          <a:blip r:embed="rId6"/>
          <a:stretch/>
        </p:blipFill>
        <p:spPr>
          <a:xfrm>
            <a:off x="1835280" y="4797360"/>
            <a:ext cx="2919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Right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66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67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68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4CCB1-6FE5-4635-96E8-DAFDE2656472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1" name="Object 3"/>
          <p:cNvGraphicFramePr/>
          <p:nvPr/>
        </p:nvGraphicFramePr>
        <p:xfrm>
          <a:off x="2411280" y="2133720"/>
          <a:ext cx="4345200" cy="2349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11280" y="2133720"/>
                    <a:ext cx="4345200" cy="2349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3" name="Picture 12" descr="roj"/>
          <p:cNvPicPr/>
          <p:nvPr/>
        </p:nvPicPr>
        <p:blipFill>
          <a:blip r:embed="rId6"/>
          <a:stretch/>
        </p:blipFill>
        <p:spPr>
          <a:xfrm>
            <a:off x="1908000" y="4797360"/>
            <a:ext cx="29232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Full Outer Join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75" name="Object 2"/>
          <p:cNvGraphicFramePr/>
          <p:nvPr/>
        </p:nvGraphicFramePr>
        <p:xfrm>
          <a:off x="179280" y="836640"/>
          <a:ext cx="2151000" cy="232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76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836640"/>
                    <a:ext cx="2151000" cy="232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77" name="Picture 5" descr=""/>
          <p:cNvPicPr/>
          <p:nvPr/>
        </p:nvPicPr>
        <p:blipFill>
          <a:blip r:embed="rId3"/>
          <a:stretch/>
        </p:blipFill>
        <p:spPr>
          <a:xfrm>
            <a:off x="6778800" y="620640"/>
            <a:ext cx="2041200" cy="2675160"/>
          </a:xfrm>
          <a:prstGeom prst="rect">
            <a:avLst/>
          </a:prstGeom>
          <a:ln w="0">
            <a:noFill/>
          </a:ln>
        </p:spPr>
      </p:pic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PEOPLE      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onstantia"/>
              </a:rPr>
              <a:t>people.food = menu.food</a:t>
            </a: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 MEN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9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79754-B340-4E68-927B-8DDEAA2D53D4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Object 3"/>
          <p:cNvGraphicFramePr/>
          <p:nvPr/>
        </p:nvGraphicFramePr>
        <p:xfrm>
          <a:off x="2484360" y="1773360"/>
          <a:ext cx="4200480" cy="3049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1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484360" y="1773360"/>
                    <a:ext cx="4200480" cy="30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82" name="Picture 8" descr="foj"/>
          <p:cNvPicPr/>
          <p:nvPr/>
        </p:nvPicPr>
        <p:blipFill>
          <a:blip r:embed="rId6"/>
          <a:stretch/>
        </p:blipFill>
        <p:spPr>
          <a:xfrm>
            <a:off x="1908000" y="5300640"/>
            <a:ext cx="368640" cy="2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0" name="Object 3"/>
          <p:cNvGraphicFramePr/>
          <p:nvPr/>
        </p:nvGraphicFramePr>
        <p:xfrm>
          <a:off x="1063800" y="1523880"/>
          <a:ext cx="3508200" cy="2895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3800" y="1523880"/>
                    <a:ext cx="350820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2" name="Object 2"/>
          <p:cNvGraphicFramePr/>
          <p:nvPr/>
        </p:nvGraphicFramePr>
        <p:xfrm>
          <a:off x="5029200" y="1887480"/>
          <a:ext cx="2662200" cy="2166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3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1887480"/>
                    <a:ext cx="2662200" cy="21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33520" y="49525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, we have two tables Emp and depart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se 2 tables for a while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0A3265-8E78-4813-8F03-02D596E3E113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07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9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0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FE69E-B568-47EE-A8CF-57041133D55D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1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1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4" name="Rectangle 4"/>
          <p:cNvSpPr/>
          <p:nvPr/>
        </p:nvSpPr>
        <p:spPr>
          <a:xfrm>
            <a:off x="22320" y="5715000"/>
            <a:ext cx="9144000" cy="101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72880">
              <a:lnSpc>
                <a:spcPct val="90000"/>
              </a:lnSpc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Find all information on every employee including their department inf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 algn="ctr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onstantia"/>
              </a:rPr>
              <a:t>emp.Dept = depart.Dept</a:t>
            </a:r>
            <a:r>
              <a:rPr b="0" lang="en-GB" sz="22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16" name="Object 3"/>
          <p:cNvGraphicFramePr/>
          <p:nvPr/>
        </p:nvGraphicFramePr>
        <p:xfrm>
          <a:off x="76320" y="609480"/>
          <a:ext cx="2895480" cy="2438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320" y="609480"/>
                    <a:ext cx="2895480" cy="243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18" name="Object 2"/>
          <p:cNvGraphicFramePr/>
          <p:nvPr/>
        </p:nvGraphicFramePr>
        <p:xfrm>
          <a:off x="11160" y="3124080"/>
          <a:ext cx="2960640" cy="24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19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1160" y="3124080"/>
                    <a:ext cx="2960640" cy="24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7200" y="5790960"/>
            <a:ext cx="822960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ake a look, one table has 5 rows, the other has 4 rows, the resultant has 5 row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1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ADFF-D1A7-4097-8EBD-CDE7BFF00AC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22" name="Object 4"/>
          <p:cNvGraphicFramePr/>
          <p:nvPr/>
        </p:nvGraphicFramePr>
        <p:xfrm>
          <a:off x="3048120" y="1371600"/>
          <a:ext cx="5943600" cy="3984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23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48120" y="1371600"/>
                    <a:ext cx="5943600" cy="3984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25" name="Object 3"/>
          <p:cNvGraphicFramePr/>
          <p:nvPr/>
        </p:nvGraphicFramePr>
        <p:xfrm>
          <a:off x="533520" y="609480"/>
          <a:ext cx="3467160" cy="198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6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609480"/>
                    <a:ext cx="3467160" cy="198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7" name="Object 2"/>
          <p:cNvGraphicFramePr/>
          <p:nvPr/>
        </p:nvGraphicFramePr>
        <p:xfrm>
          <a:off x="4800600" y="550800"/>
          <a:ext cx="3695760" cy="196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8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550800"/>
                    <a:ext cx="3695760" cy="196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ind all information on every employee including department info where the employee works in an office numbered less than the department main offic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EMP    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(emp.office &lt; depart.mainoffice) </a:t>
            </a:r>
            <a:r>
              <a:rPr b="0" lang="el-GR" sz="2400" spc="-1" strike="noStrike" baseline="-25000">
                <a:solidFill>
                  <a:srgbClr val="000000"/>
                </a:solidFill>
                <a:latin typeface="Constantia"/>
              </a:rPr>
              <a:t>Λ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Constantia"/>
              </a:rPr>
              <a:t> (emp.dept = depart.dept)</a:t>
            </a: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 DEPART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0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145A9-12D6-42D8-86A4-D2DE3068C2F7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31" name="Object 4"/>
          <p:cNvGraphicFramePr/>
          <p:nvPr/>
        </p:nvGraphicFramePr>
        <p:xfrm>
          <a:off x="1219320" y="2666880"/>
          <a:ext cx="5976720" cy="201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2666880"/>
                    <a:ext cx="597672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333" name="Picture 8" descr="joinop"/>
          <p:cNvPicPr/>
          <p:nvPr/>
        </p:nvPicPr>
        <p:blipFill>
          <a:blip r:embed="rId7"/>
          <a:stretch/>
        </p:blipFill>
        <p:spPr>
          <a:xfrm>
            <a:off x="1447920" y="5950080"/>
            <a:ext cx="253800" cy="21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33520" y="60948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Natural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228600" y="1600200"/>
            <a:ext cx="861048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Notice in the generic (Theta) join operation, any attributes in common (such as dept above) are repeated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ion removes these duplicate attributes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natural join operator is: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64600" indent="-264600" algn="just">
              <a:lnSpc>
                <a:spcPct val="15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We can also assume using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*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that the join condition will be </a:t>
            </a:r>
            <a:r>
              <a:rPr b="1" lang="en-GB" sz="2600" spc="-1" strike="noStrike">
                <a:solidFill>
                  <a:srgbClr val="000000"/>
                </a:solidFill>
                <a:latin typeface="Constantia"/>
              </a:rPr>
              <a:t>=</a:t>
            </a: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 on the two attributes in common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D255A8-9816-47C1-A71F-095F9EF179C6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Natural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38" name="Object 3"/>
          <p:cNvGraphicFramePr/>
          <p:nvPr/>
        </p:nvGraphicFramePr>
        <p:xfrm>
          <a:off x="503280" y="692280"/>
          <a:ext cx="1763640" cy="1674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9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692280"/>
                    <a:ext cx="1763640" cy="16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0" name="Object 2"/>
          <p:cNvGraphicFramePr/>
          <p:nvPr/>
        </p:nvGraphicFramePr>
        <p:xfrm>
          <a:off x="6588000" y="692280"/>
          <a:ext cx="2197080" cy="1798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1" name="Object 2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588000" y="692280"/>
                    <a:ext cx="2197080" cy="17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Emp * depart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There are 2 Dept columns, one is omitted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3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C402D-D82F-4DE1-823C-FC6259412876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44" name="Object 4"/>
          <p:cNvGraphicFramePr/>
          <p:nvPr/>
        </p:nvGraphicFramePr>
        <p:xfrm>
          <a:off x="2700360" y="2349360"/>
          <a:ext cx="3657600" cy="21434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5" name="Object 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700360" y="2349360"/>
                    <a:ext cx="3657600" cy="2143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4617b"/>
                </a:solidFill>
                <a:latin typeface="Calibri"/>
              </a:rPr>
              <a:t>Outer Join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In the Join operations so far, only those tuples from both relations that satisfy the join condition are included in the output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e Outer join includes other rows as well according to a few rules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Three types of outer joins: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Left Outer Join   includes all rows in the left hand relation and includes only those matching rows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Right Outer Join   includes all rows in the right hand relation and includes only those matching rows from the lef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457200" indent="-457200">
              <a:lnSpc>
                <a:spcPct val="7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Constant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ull Outer Join   includes all rows in the left hand relation and from the right hand relation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Slide Number Placeholder 4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34FB8-C70D-4105-8A5A-10FB40C21C7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25092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4617b"/>
                </a:solidFill>
                <a:latin typeface="Calibri"/>
              </a:rPr>
              <a:t>Outer Join (continued)</a:t>
            </a:r>
            <a:endParaRPr b="0" lang="en-US" sz="4000" spc="-1" strike="noStrike">
              <a:solidFill>
                <a:srgbClr val="04617b"/>
              </a:solidFill>
              <a:latin typeface="Calibri"/>
            </a:endParaRPr>
          </a:p>
        </p:txBody>
      </p:sp>
      <p:graphicFrame>
        <p:nvGraphicFramePr>
          <p:cNvPr id="350" name="Object 2"/>
          <p:cNvGraphicFramePr/>
          <p:nvPr/>
        </p:nvGraphicFramePr>
        <p:xfrm>
          <a:off x="395280" y="981000"/>
          <a:ext cx="3060720" cy="33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1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81000"/>
                    <a:ext cx="3060720" cy="33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52" name="Object 3"/>
          <p:cNvGraphicFramePr/>
          <p:nvPr/>
        </p:nvGraphicFramePr>
        <p:xfrm>
          <a:off x="4716360" y="907920"/>
          <a:ext cx="2889360" cy="3786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53" name="Object 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16360" y="907920"/>
                    <a:ext cx="2889360" cy="378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95280" y="4653000"/>
            <a:ext cx="822960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Now we have another 2 tables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nstantia"/>
              </a:rPr>
              <a:t>We will play with them for next few slides!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5" name="Slide Number Placeholder 6"/>
          <p:cNvSpPr/>
          <p:nvPr/>
        </p:nvSpPr>
        <p:spPr>
          <a:xfrm>
            <a:off x="6553080" y="624852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2D09-BC47-4213-8E90-DCA3FE4A233C}" type="slidenum">
              <a:rPr b="0" lang="en-GB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cse</cp:lastModifiedBy>
  <dcterms:modified xsi:type="dcterms:W3CDTF">2015-07-26T08:02:02Z</dcterms:modified>
  <cp:revision>16</cp:revision>
  <dc:subject/>
  <dc:title>Join</dc:title>
</cp:coreProperties>
</file>