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887-D695-4B62-A836-87D7424C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31C-DFE3-42FE-97D4-C23FDE7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9CC-2E34-4E37-AF0B-90F677F1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5D6-2DC8-4319-A0F2-4CD2E358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8D1-072E-49E0-9E4D-401BE032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818A-3FA4-407E-AD75-E4485232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FD3B-3AF5-4D7F-A3C8-375FF4F0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7301-ADAC-4279-A98C-A4708031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B811-090F-42A7-9F63-2F8BDFF7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C0D6-126E-47EF-8079-A10A540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BD85-9DC4-446E-8625-AA4A641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5D6-2B21-47C5-85B5-4F4D1FD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6FEF-268D-4B3F-A238-6207B6B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2ADD-0DB2-49DF-A0CE-EA19F62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1F89-F57F-4083-8DFB-503D50FF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D7FB-9B21-4F79-B715-4F4DFEC1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C0BE-8A8E-4530-9E74-D9A29BE0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401B-9E24-4D53-9F11-5C86215D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8D2A-6EEC-495B-B89A-EAD3EF9B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F2EC-CEF1-4126-9D97-75CAF626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C65A-EFC7-4D99-BD6E-E6C8FF9B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17BF-89C2-47E4-AAC2-E6EFCA4D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793-50FD-44F8-8A27-F0B2E81C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CC74-AF93-457B-8DF8-7C59C017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0920-159E-4FBC-B7AB-E519A71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8B67-0FDE-4AC5-90AD-D627C646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3ECC-92CC-43FE-A689-51D590E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7697-6A93-47F2-99AC-54AAEFE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47A9-4A49-4F05-B3FB-9F729807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3201-FDD0-4AE0-B1D1-699C56FC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850AE-3C78-4CAB-ABA8-6F030820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D8EB-C837-4FBD-9810-9440E97A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5A8D-2F70-43F8-AFF1-7765F9D8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63A-C0A4-435A-B2BD-531016D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A0AD-9384-46A4-93AD-E061890B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3870-CBDF-44F3-95E1-27FEC38B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24B1-B0D1-4A24-9162-3C802A0D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38F8-DB68-4DCE-B53D-1035343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0BF7-036C-4858-99F0-D751983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64BA-9C2F-4C82-98FF-0B43808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0842-5582-49CA-93B2-CB02A2F1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35CD-F64B-411E-85D8-0A323181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C0CD-2CEF-4D33-A889-4D2C9C31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AB31-9BD9-4C07-B13E-BCAAF3CE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2C9-06B3-48CD-9CA1-5A9DC6D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B0051-A134-4805-9882-BA1CE0E9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4F93-50E2-4893-A907-C71B3F2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417C0-A795-449C-B3DC-48BECE6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B020-B674-4BBA-AC94-53778B3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CDF1-E808-4550-9297-DFE9E69C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9444-53EA-4D57-9D49-F361EC65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4970-43A5-43A4-8E7B-CABC609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6414-9FF6-4DE0-89C9-347BC588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DDD24-BE84-4EC4-983F-5ABF9D0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0A55-FE20-4A07-942E-7CA4FA5E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2E5-C3CB-4C80-A72E-715E42D9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A544-C10A-4E5A-98C4-A6009F45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5F4-5C43-4F9B-8405-F20718D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715-B0A7-4E4D-8494-E1C6BE9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87B-3193-46E6-8A71-1A94330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8383-E4D9-4DD8-865D-6496645440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A5F7-985E-4867-B42A-87E501CD65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1FE-7927-4980-9744-EDB709F3EC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11B6-0343-4268-9BDE-9B46AE6944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321F-DA0A-4953-9D44-9A6C230564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INTRODUCTION TO PL/SQL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209680" y="4038480"/>
            <a:ext cx="4496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K. M. Azharul H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numa Tabassum O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70,’HR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80,’PSD’,’Mumbai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90,’ESG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will insert three records at the same time in the table d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displays the sum of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:= &amp;Numbe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:= &amp;Numbe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:= v_num1 + v_num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The Sum of number is :’ || v_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ave , Edit and Execute program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program in SQL * 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lt;File Na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saved in the bin directory to save in other folder give complet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&lt;File 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dit program saved in folder other then 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program saved in folder other then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the keywords in PL-SQL , should not be used as a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, 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, ELSE , ELSIF , 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thmetic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+ , - , * , 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:                                  (AND , OR 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=, &lt;, &gt;,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(Two hyphens)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operator: In PL SQL assignment operator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assign values we need to write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 := 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‘MBT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ds with  operator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two strings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pt valu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*3 means 2 raise to pow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oop we 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X in 1..5 me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numer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or d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ritten in si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 := &amp;Numbe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12560" y="3646440"/>
            <a:ext cx="47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umber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= ‘&amp;Na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  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in case if entered data is not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111840" y="3646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sam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new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dbms_output is a Oracle package its like header file or library in C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ut and .Put_Line are functions like printf in ‘C’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L-SQ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L-SQ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ructure of PL/SQ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Telecom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‘ ‘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British 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important that at least once you write .put_line after any number of .put functions else values are not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Telecom’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Brit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ifferent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ML operations in Pl-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ML operations (Insert/Update/Delete /Select) are to be written in Begin part of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in the Syntax of Insert , Update and Delete , it is same as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yntax is different then SQL , it contains INTO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lect query can return more then one rows then you should always use cursor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elect Syntax for a Single Row Query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1, column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b9f25"/>
                </a:solidFill>
                <a:latin typeface="Arial"/>
              </a:rPr>
              <a:t>INTO Variable1,Variabl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change is as many columns you want to get from the query you need to declare that many variables and use INTO cla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parts of query are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here condition here is such that query will return multiple records then CURSOR should be used. Without that it will give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always declared in DECLARE section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   &lt;Data 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 to decla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mpno  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name varcha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nd preferred way  to declar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Name   TableName.ColName%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mpno  Emp.Empno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name Emp.Ename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will always have same datatype a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change in column will change the type of variable also, so we need not have to change and recompile the program to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riable Name   TableName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_emp  Emp%RowTyp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40000"/>
              </a:lnSpc>
              <a:spcBef>
                <a:spcPts val="476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able will  become like a structure variable in C (i.e. v_emp will have same structure like Emp Table) and you can refer to individual element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mp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s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your own type in program and use in the declare section to declar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 t_name   is   Varchar2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ow you can make variable of thi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_name and v_name2 both will become varchar2(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&lt;condition1&gt;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IF &lt;Condition2&gt;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ere that for one IF we only need one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 IF is required for ELSIF i.e for one set of IF condition only one END IF;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v_deptno = 10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'Accounting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_deptno = 2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ESG')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Invalid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at is PL-SQL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/SQL stands for Procedural Language/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Language extension for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within Oracle data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ble from 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 tested as condition is checked first and then code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t tested as condition is checked after the code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ost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s required for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While i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&lt;Variable&gt; IN &lt;Min&gt; .. &lt;Max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is used when we know the number of time the loop is to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0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Reverse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00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verse i.e from last value to fir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THANK YOU !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y PL SQL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/SQL extends SQL by adding constructs found in procedural languages like procedures, loops, variables, obje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 structural language that is more powerful tha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, Is there any Advantage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SQL to send 3 queries we will need three network trips between client and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-SQL we bundle any number of queries in a block and in single network trip tas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"/>
          <p:cNvGrpSpPr/>
          <p:nvPr/>
        </p:nvGrpSpPr>
        <p:grpSpPr>
          <a:xfrm>
            <a:off x="777960" y="1714680"/>
            <a:ext cx="3260520" cy="2438280"/>
            <a:chOff x="777960" y="1714680"/>
            <a:chExt cx="3260520" cy="2438280"/>
          </a:xfrm>
        </p:grpSpPr>
        <p:sp>
          <p:nvSpPr>
            <p:cNvPr id="230" name="Rectangle 4"/>
            <p:cNvSpPr/>
            <p:nvPr/>
          </p:nvSpPr>
          <p:spPr>
            <a:xfrm>
              <a:off x="77796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192852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307944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161360" y="3695760"/>
              <a:ext cx="268524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969480" y="1714680"/>
              <a:ext cx="30690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6136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504160" y="2171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346320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"/>
          <p:cNvGrpSpPr/>
          <p:nvPr/>
        </p:nvGrpSpPr>
        <p:grpSpPr>
          <a:xfrm>
            <a:off x="4800600" y="1676520"/>
            <a:ext cx="3809880" cy="3047760"/>
            <a:chOff x="4800600" y="1676520"/>
            <a:chExt cx="3809880" cy="3047760"/>
          </a:xfrm>
        </p:grpSpPr>
        <p:sp>
          <p:nvSpPr>
            <p:cNvPr id="239" name="Rectangle 19"/>
            <p:cNvSpPr/>
            <p:nvPr/>
          </p:nvSpPr>
          <p:spPr>
            <a:xfrm>
              <a:off x="50792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19452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3094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5172120" y="4267080"/>
              <a:ext cx="260208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5265000" y="1676520"/>
              <a:ext cx="29736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4800600" y="2519280"/>
              <a:ext cx="3809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6095160" y="351000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-SQL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473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656604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Language featur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nstructs like any other 4th generation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nd Contro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(Its like structure in C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program structur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Variables, cursors, exception etc  are declared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programming logic , queries , program statements are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Error Handling code is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t ends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nested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Arial"/>
              </a:rPr>
              <a:t>&lt;&lt;Out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&lt;&lt;Inn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emb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is optional and only required when variables need to b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is optional and required when Error/Exception handling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nd End are  mandatory as all logic and queries are written ins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7:42:31Z</dcterms:created>
  <dc:creator>cobra</dc:creator>
  <dc:description/>
  <dc:language>en-US</dc:language>
  <cp:lastModifiedBy>cse</cp:lastModifiedBy>
  <dcterms:modified xsi:type="dcterms:W3CDTF">2015-08-02T08:09:00Z</dcterms:modified>
  <cp:revision>41</cp:revision>
  <dc:subject/>
  <dc:title>Introduction to PL/SQL</dc:title>
</cp:coreProperties>
</file>