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32F-4F45-4E3B-87F5-754CFE95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AB8-5304-43FB-B7FB-A0CA6D3C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F26-0B5C-43A7-812F-B02144C6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921-A63B-4A29-8908-62E30055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054B-96DA-4EB3-9DE2-16E5160B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E91B-9DD4-4A97-8742-44C3CE74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25D1-4463-494B-B5EE-66828DF1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1994-53A6-44D9-A258-E9DC7B13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DF57-ACA4-44AB-97E8-337A4ADF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DF4E-04F4-4352-9698-156DC88F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D183-3CA3-4DA9-B7F4-0AE8E87E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3D3-1D87-4438-8794-B1194C30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84C5-735F-4B23-8AD7-9C54A2AD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5BC9-4190-4022-A259-4473959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8F49-90A6-4034-8869-D443F966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DF2C-3931-43FF-B9DF-18141CF9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2267-6FFD-4178-A104-DF45BA3B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1382-5530-486F-B70D-F22F2CC3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B448E-8D10-448C-948D-F6D29CCD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1D09-3563-4954-A783-E835CDC5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232C-A6A6-42F6-B2A4-527AEE17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8262-661F-4154-B1EF-919E4B99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9DF-E984-417F-9AE0-AA1B6636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D51B-3096-4737-85A7-291B9D87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1E6F-C887-430A-BD17-28CB2F3B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DC40-FF79-4770-AEE6-A697572C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ABA27-26A2-4967-A4C1-C189FF33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591F-DED1-4E4F-8B75-98DE0073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91DCA-9128-473B-A358-A08EC227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D05C-0260-4D3D-8BC0-D6C421C6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C08E-982C-4411-9EE7-ABE2C19C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BB62-3BFE-4A6A-A062-71A3A40D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67644-AD29-4DBD-BE85-AEEBADB7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E35-C83E-426D-AD2A-5E20D871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F3C6-59C1-452F-BDFB-58090685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28E3-C46C-4427-A4F7-C957B96C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4EFC-78B9-4B1A-8B33-3AAD81ED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F2C88-6F40-4002-8A3B-ACF378F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6895-D243-419A-9719-E01934B1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48B0E-EA32-4528-AD70-3EC52FB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E219-9255-4D62-A395-6889F73F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6033-B271-4F69-B81D-C3DCFA1A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33486-03D7-4558-A064-39A4C3E7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6A995-E4C8-4FAE-BC3B-54FB0C9C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A0F-D9B3-440E-BDBF-FD3DEF98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070DB-4344-424C-9EEC-08AC6F7D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9051E-D997-431F-9A84-9A78C088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96E5F-CED1-4647-8367-BDC12AA4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7FA51-1219-4A4D-8C9D-52EE12E2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4C488-C786-449D-8D72-E3035809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F3A00-7743-458E-8238-7DB70424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3F31D-D430-4F07-826C-D0FC09D0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C9FA0-26B2-42E8-A16D-8E5DE1D1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60EB-E7A1-434C-87E8-8DEAA1A5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6669E-2137-439C-B13B-7DFA442C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FDA-3A4B-439B-A8FE-D208D0BB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11429-A422-4BD2-972C-4E8BC1D0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518-03F8-4C41-A6B9-F12BD76B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705-25C5-4DD3-A237-66C7B7E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B57-6B00-406E-B0DB-61F58018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A29D-598C-4F06-90D9-88B2A80F81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573B-0077-4129-9B7F-459D2D0473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ded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090D-4733-4D01-8A9C-478ACD2A23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2270-EE1D-430C-8047-0FCB66BA60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267B-03DD-41B7-BDDB-BFBF98FD84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INTRODUCTION TO PL/SQL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2209680" y="4038480"/>
            <a:ext cx="4496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K. M. Azharul H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hnuma Tabassum O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70,’HR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80,’PSD’,’Mumbai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90,’ESG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gram will insert three records at the same time in the table d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ogram displays the sum of two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:= &amp;Number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:= &amp;Number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:= v_num1 + v_num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The Sum of number is :’ || v_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ave , Edit and Execute program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program in SQL * 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lt;File Nam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s saved in the bin directory to save in other folder give complete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ch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&lt;File 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dit program saved in folder other then b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program saved in folder other then 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re the keywords in PL-SQL , should not be used as a variabl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, END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, ELSE , ELSIF , 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thmetic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+ , - , * , 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:                                  (AND , OR 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=, &lt;, &gt;,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(Two hyphens)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operator: In PL SQL assignment operator 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 assign values we need to write 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 := 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= ‘MBT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nds with  operator: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join two strings: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cept valu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**3 means 2 raise to pow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loop we use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X in 1..5 me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numer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ring or da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written in si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‘ 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 := &amp;Number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112560" y="3646440"/>
            <a:ext cx="47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umber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:= ‘&amp;Na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   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in case if entered data is not 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111840" y="364644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sam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new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dbms_output is a Oracle package its like header file or library in C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ut and .Put_Line are functions like printf in ‘C’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L-SQ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PL-SQ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tructure of PL/SQ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low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Telecom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‘ ‘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British 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am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important that at least once you write .put_line after any number of .put functions else values are not 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Telecom’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Brit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different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ML operations in Pl-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ML operations (Insert/Update/Delete /Select) are to be written in Begin part of th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 in the Syntax of Insert , Update and Delete , it is same as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yntax is different then SQL , it contains INTO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lect query can return more then one rows then you should always use cursor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elect Syntax for a Single Row Query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1, column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b9f25"/>
                </a:solidFill>
                <a:latin typeface="Arial"/>
              </a:rPr>
              <a:t>INTO Variable1,Variable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ab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ondition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change is as many columns you want to get from the query you need to declare that many variables and use INTO cla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parts of query are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here condition here is such that query will return multiple records then CURSOR should be used. Without that it will give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re always declared in DECLARE section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ble Name   &lt;Data Typ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 to decla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mpno  Numb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name varchar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nd preferred way  to declare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 Name   TableName.ColName%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mpno  Emp.Empno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name Emp.Ename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will always have same datatype as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change in column will change the type of variable also, so we need not have to change and recompile the program to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ariable Name   TableName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_emp  Emp%RowTyp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140000"/>
              </a:lnSpc>
              <a:spcBef>
                <a:spcPts val="476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riable will  become like a structure variable in C (i.e. v_emp will have same structure like Emp Table) and you can refer to individual element as follow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mp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n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s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make your own type in program and use in the declare section to declare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ype  t_name   is   Varchar2(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ow you can make variable of thi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_name and v_name2 both will become varchar2(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&lt;condition1&gt;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IF &lt;Condition2&gt;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ere that for one IF we only need one 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D IF is required for ELSIF i.e for one set of IF condition only one END IF;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v_deptno = 10 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'Accounting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IF v_deptno = 20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ESG')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Invalid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at is PL-SQL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/SQL stands for Procedural Language/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Language extension for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L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within Oracle data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ble from any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re tested as condition is checked first and then code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t tested as condition is checked after the code is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0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ost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is required for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While i &l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0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&lt;Variable&gt; IN &lt;Min&gt; .. &lt;Max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is used when we know the number of time the loop is to 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0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0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Reverse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00 to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reverse i.e from last value to firs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THANK YOU !!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y PL SQL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/SQL extends SQL by adding constructs found in procedural languages like procedures, loops, variables, object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a structural language that is more powerful than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, Is there any Advantage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5029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SQL to send 3 queries we will need three network trips between client and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L-SQL we bundle any number of queries in a block and in single network trip task is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"/>
          <p:cNvGrpSpPr/>
          <p:nvPr/>
        </p:nvGrpSpPr>
        <p:grpSpPr>
          <a:xfrm>
            <a:off x="777960" y="1714680"/>
            <a:ext cx="3260520" cy="2438280"/>
            <a:chOff x="777960" y="1714680"/>
            <a:chExt cx="3260520" cy="2438280"/>
          </a:xfrm>
        </p:grpSpPr>
        <p:sp>
          <p:nvSpPr>
            <p:cNvPr id="230" name="Rectangle 4"/>
            <p:cNvSpPr/>
            <p:nvPr/>
          </p:nvSpPr>
          <p:spPr>
            <a:xfrm>
              <a:off x="77796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0"/>
            <p:cNvSpPr/>
            <p:nvPr/>
          </p:nvSpPr>
          <p:spPr>
            <a:xfrm>
              <a:off x="192852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"/>
            <p:cNvSpPr/>
            <p:nvPr/>
          </p:nvSpPr>
          <p:spPr>
            <a:xfrm>
              <a:off x="307944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161360" y="3695760"/>
              <a:ext cx="268524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969480" y="1714680"/>
              <a:ext cx="30690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116136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2504160" y="2171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346320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"/>
          <p:cNvGrpSpPr/>
          <p:nvPr/>
        </p:nvGrpSpPr>
        <p:grpSpPr>
          <a:xfrm>
            <a:off x="4800600" y="1676520"/>
            <a:ext cx="3809880" cy="3047760"/>
            <a:chOff x="4800600" y="1676520"/>
            <a:chExt cx="3809880" cy="3047760"/>
          </a:xfrm>
        </p:grpSpPr>
        <p:sp>
          <p:nvSpPr>
            <p:cNvPr id="239" name="Rectangle 19"/>
            <p:cNvSpPr/>
            <p:nvPr/>
          </p:nvSpPr>
          <p:spPr>
            <a:xfrm>
              <a:off x="50792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619452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73094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5172120" y="4267080"/>
              <a:ext cx="260208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5265000" y="1676520"/>
              <a:ext cx="29736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4800600" y="2519280"/>
              <a:ext cx="380988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5"/>
            <p:cNvSpPr/>
            <p:nvPr/>
          </p:nvSpPr>
          <p:spPr>
            <a:xfrm>
              <a:off x="6095160" y="351000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-SQL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7"/>
            <p:cNvSpPr/>
            <p:nvPr/>
          </p:nvSpPr>
          <p:spPr>
            <a:xfrm>
              <a:off x="647316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6566040" y="2209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Language featur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constructs like any other 4th generation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nd Contro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an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(Its like structure in C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program structur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Variables, cursors, exception etc  are declared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programming logic , queries , program statements are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Error Handling code is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t ends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nested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9f25"/>
                </a:solidFill>
                <a:latin typeface="Arial"/>
              </a:rPr>
              <a:t>&lt;&lt;Out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&lt;&lt;Inn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emb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is optional and only required when variables need to be decl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 is optional and required when Error/Exception handling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nd End are  mandatory as all logic and queries are written insid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7:42:31Z</dcterms:created>
  <dc:creator>cobra</dc:creator>
  <dc:description/>
  <dc:language>en-US</dc:language>
  <cp:lastModifiedBy>cse</cp:lastModifiedBy>
  <dcterms:modified xsi:type="dcterms:W3CDTF">2015-08-02T08:09:00Z</dcterms:modified>
  <cp:revision>41</cp:revision>
  <dc:subject/>
  <dc:title>Introduction to PL/SQL</dc:title>
</cp:coreProperties>
</file>