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27F8-6BD7-4CC1-8449-30EA487E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AD76-B7A8-40A6-84EC-FC427CDD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9215-6AE5-4F2D-88E9-FB9C26477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644E-69A4-44E2-BCA3-333C5CCD6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2B83-D105-4A46-8360-8CC704D65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26A9-E188-440C-AA92-93BF57D7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8557-4D4A-4B76-867B-A8A479E1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23E4-2CC4-4E54-8776-064321C0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6567-CE6D-4360-98CE-BE8EABCF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BD37-B521-4F4D-901D-C010238C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011F-9941-4B98-A9EE-1AE83C29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1588-6B27-4674-9A28-5FE1297A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11EA-C287-43B8-AC99-2317F020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7148-B26B-4DDB-8548-535D5E49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531E-A61E-4847-AD2E-4F7A9E81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C69A-1147-4090-8509-832C4B936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87FE-14B2-49AD-B50C-767E1740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ED0F5-E58C-4E4A-947C-41B5A033C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9256D-9726-4B80-B3DB-CF0509FF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856B2-06EF-4F60-8401-6743846B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CB59C-45FD-4369-A9F5-A5D816A7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84F1C-F5DA-4E30-9392-18E892E2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D1C5-348E-47D5-83AB-6FCF1AC6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7C8C5-0C8F-44E4-B100-C1C0E2A3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B4F24-BC30-4824-958D-0F667FC6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AF534-D38D-4F83-8874-935FA07C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B99BF-F712-40BC-88E4-FD0DA0A8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DA23D-F43A-4549-A9E5-0F5A7B5A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A1FFB-2627-45B7-A873-D1CB8D3F8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8BCE6-A1BA-4777-8516-945D3ACB6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4CBFB-8BF9-4D9E-B4EE-0429C805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18806-630C-44C0-A4A1-63590771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52D62-33DE-4CEA-ADDF-B39CDFC9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7F97-389C-455C-A10D-06BD1276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34164-BF41-4834-ACBC-71C6721C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DB78D-1147-4BAF-ADC8-67DF25C9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E35E1-26C5-476D-AF7B-CC251810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C7AED-8B77-4130-A1FE-FBAB6A94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A2B79-0E35-46D7-BDD8-770D4645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C77F6-1913-4A30-895E-AE0E41BD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934D0-7B1B-4391-A46A-C10C93DB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2074B-3CAF-4FDE-B204-DB09491F3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8FAA8-3DA1-4BCC-8699-73710646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670608-1E65-4221-884B-E936CA1C4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3B57-411E-4C1C-868B-3F46E374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96B9F9-362F-4B88-8A89-8FB9509F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45150E-E149-48DD-8E48-2828AB44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0A103B-DCCA-44BE-88D9-7DF72713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415DD6-7B2A-4DDC-BE1C-90888487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46399C-EE5B-4F3A-8975-9B1B9EDD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5DBA23-92CB-4601-88D3-A4961E82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6DBBCD-DCD5-4527-9CC4-8FDEA341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68C8B2-4B1D-4B7A-9A35-7D468D26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C23F20-6E76-4C8B-BA0A-4A5D56BF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2D0232-74F8-4C18-9AC7-58E147A63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CD52-5A47-4D2E-8DDF-1680B1B2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B26302-9F15-4A07-8E6C-0DE7C255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FE621A-3A91-495A-9356-13F17B1B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B1C380-51F1-41EB-8782-588AE40A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265B7B-6BF8-4DCB-B062-4DD9B357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29DC62-1283-4513-B823-F8DEF64E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AFFDF5-5C6F-47CF-82D4-1AB4BDDD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9779F1-A997-46B9-90F4-8A1C76F4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F1422F-94DE-49D9-9580-7F2F5B2D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6DE56B-66E7-42FC-AE2E-4E2CAFC3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C40D57-E7E9-4C0A-BE30-995AB336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A6A0-BF13-464E-90F7-4B5A33EA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39845D-CAED-4E97-B2F8-5AA9EC83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A604A9-0B83-4B15-8D40-BA5011F4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0D910D-8F77-4AFD-9851-205E23E1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3777-4127-4756-905A-BD838B1B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C692-8218-4EC6-901D-D1EA7183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A73F-48AA-449B-840F-4FC7E767118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2F2A-B24E-49FF-A5B6-9BEA1927357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6522-94C5-490A-A505-A1907639D81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80D6-F268-4C68-8C00-5E216BF2AA0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C716-C682-4016-B8E4-BAA34167AACF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Constantia"/>
              </a:rPr>
              <a:t>Rushdi Shams, Dept of CSE, KU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9C88-B7CC-4E9B-B300-AEABFDC9C1A3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Constantia"/>
              </a:rPr>
              <a:t>Rushdi Shams, Dept of CSE, KU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Jo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Join operations bring together two tables and combine their rows and columns in a specific fashion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he generic join operator called the </a:t>
            </a:r>
            <a:r>
              <a:rPr b="1" i="1" lang="en-GB" sz="2800" spc="-1" strike="noStrike">
                <a:solidFill>
                  <a:srgbClr val="ff0000"/>
                </a:solidFill>
                <a:latin typeface="Constantia"/>
              </a:rPr>
              <a:t>Theta Join</a:t>
            </a: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is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It takes as arguments the columns from the two tables that are to be joined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When the join condition operator is   </a:t>
            </a: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  then we call this an Equijo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7" name="Picture 6" descr="joinop"/>
          <p:cNvPicPr/>
          <p:nvPr/>
        </p:nvPicPr>
        <p:blipFill>
          <a:blip r:embed="rId1"/>
          <a:stretch/>
        </p:blipFill>
        <p:spPr>
          <a:xfrm>
            <a:off x="8381880" y="3048120"/>
            <a:ext cx="247680" cy="218880"/>
          </a:xfrm>
          <a:prstGeom prst="rect">
            <a:avLst/>
          </a:prstGeom>
          <a:ln w="0">
            <a:noFill/>
          </a:ln>
        </p:spPr>
      </p:pic>
      <p:sp>
        <p:nvSpPr>
          <p:cNvPr id="298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3E7D-598D-48DA-B477-DA8F2EE76E11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Left Outer Joi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57" name="Object 2"/>
          <p:cNvGraphicFramePr/>
          <p:nvPr/>
        </p:nvGraphicFramePr>
        <p:xfrm>
          <a:off x="179280" y="836640"/>
          <a:ext cx="215100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215100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Picture 11" descr=""/>
          <p:cNvPicPr/>
          <p:nvPr/>
        </p:nvPicPr>
        <p:blipFill>
          <a:blip r:embed="rId3"/>
          <a:stretch/>
        </p:blipFill>
        <p:spPr>
          <a:xfrm>
            <a:off x="6778800" y="620640"/>
            <a:ext cx="2041200" cy="26751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PEOPLE   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nstantia"/>
              </a:rPr>
              <a:t>people.food = menu.food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MEN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E5F9-E9CF-4CA2-BEC2-29CCD5263E05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Object 3"/>
          <p:cNvGraphicFramePr/>
          <p:nvPr/>
        </p:nvGraphicFramePr>
        <p:xfrm>
          <a:off x="2484360" y="2565360"/>
          <a:ext cx="4168800" cy="208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3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84360" y="2565360"/>
                    <a:ext cx="416880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4" name="Picture 13" descr="loj"/>
          <p:cNvPicPr/>
          <p:nvPr/>
        </p:nvPicPr>
        <p:blipFill>
          <a:blip r:embed="rId6"/>
          <a:stretch/>
        </p:blipFill>
        <p:spPr>
          <a:xfrm>
            <a:off x="1835280" y="4797360"/>
            <a:ext cx="29196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Right Outer Joi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66" name="Object 2"/>
          <p:cNvGraphicFramePr/>
          <p:nvPr/>
        </p:nvGraphicFramePr>
        <p:xfrm>
          <a:off x="179280" y="836640"/>
          <a:ext cx="215100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215100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8" name="Picture 5" descr=""/>
          <p:cNvPicPr/>
          <p:nvPr/>
        </p:nvPicPr>
        <p:blipFill>
          <a:blip r:embed="rId3"/>
          <a:stretch/>
        </p:blipFill>
        <p:spPr>
          <a:xfrm>
            <a:off x="6778800" y="620640"/>
            <a:ext cx="2041200" cy="267516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PEOPLE     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nstantia"/>
              </a:rPr>
              <a:t>people.food = menu.food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MEN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9A15-D949-4D07-9379-FBC395264FAC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Object 3"/>
          <p:cNvGraphicFramePr/>
          <p:nvPr/>
        </p:nvGraphicFramePr>
        <p:xfrm>
          <a:off x="2411280" y="2133720"/>
          <a:ext cx="4345200" cy="234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11280" y="2133720"/>
                    <a:ext cx="434520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3" name="Picture 12" descr="roj"/>
          <p:cNvPicPr/>
          <p:nvPr/>
        </p:nvPicPr>
        <p:blipFill>
          <a:blip r:embed="rId6"/>
          <a:stretch/>
        </p:blipFill>
        <p:spPr>
          <a:xfrm>
            <a:off x="1908000" y="4797360"/>
            <a:ext cx="2923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Full Outer Joi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75" name="Object 2"/>
          <p:cNvGraphicFramePr/>
          <p:nvPr/>
        </p:nvGraphicFramePr>
        <p:xfrm>
          <a:off x="179280" y="836640"/>
          <a:ext cx="215100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215100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7" name="Picture 5" descr=""/>
          <p:cNvPicPr/>
          <p:nvPr/>
        </p:nvPicPr>
        <p:blipFill>
          <a:blip r:embed="rId3"/>
          <a:stretch/>
        </p:blipFill>
        <p:spPr>
          <a:xfrm>
            <a:off x="6778800" y="620640"/>
            <a:ext cx="2041200" cy="26751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PEOPLE      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nstantia"/>
              </a:rPr>
              <a:t>people.food = menu.food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MEN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4378-AA23-49B5-8F46-5A30A855D27B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Object 3"/>
          <p:cNvGraphicFramePr/>
          <p:nvPr/>
        </p:nvGraphicFramePr>
        <p:xfrm>
          <a:off x="2484360" y="1773360"/>
          <a:ext cx="4200480" cy="3049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1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84360" y="1773360"/>
                    <a:ext cx="420048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2" name="Picture 8" descr="foj"/>
          <p:cNvPicPr/>
          <p:nvPr/>
        </p:nvPicPr>
        <p:blipFill>
          <a:blip r:embed="rId6"/>
          <a:stretch/>
        </p:blipFill>
        <p:spPr>
          <a:xfrm>
            <a:off x="1908000" y="5300640"/>
            <a:ext cx="368640" cy="2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Join (continue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0" name="Object 3"/>
          <p:cNvGraphicFramePr/>
          <p:nvPr/>
        </p:nvGraphicFramePr>
        <p:xfrm>
          <a:off x="1063800" y="1523880"/>
          <a:ext cx="3508200" cy="28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1523880"/>
                    <a:ext cx="35082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2"/>
          <p:cNvGraphicFramePr/>
          <p:nvPr/>
        </p:nvGraphicFramePr>
        <p:xfrm>
          <a:off x="5029200" y="1887480"/>
          <a:ext cx="2662200" cy="216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1887480"/>
                    <a:ext cx="266220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4952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Now, we have two tables Emp and depar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We will play with these 2 tables for a while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846B-B681-4219-9BB8-E90522B1B9CC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7" name="Object 3"/>
          <p:cNvGraphicFramePr/>
          <p:nvPr/>
        </p:nvGraphicFramePr>
        <p:xfrm>
          <a:off x="76320" y="609480"/>
          <a:ext cx="289548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609480"/>
                    <a:ext cx="289548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2"/>
          <p:cNvGraphicFramePr/>
          <p:nvPr/>
        </p:nvGraphicFramePr>
        <p:xfrm>
          <a:off x="11160" y="3124080"/>
          <a:ext cx="2960640" cy="24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" y="3124080"/>
                    <a:ext cx="296064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A88B-7116-4261-AA8D-6695DB61E002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3048120" y="1371600"/>
          <a:ext cx="5943600" cy="398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1371600"/>
                    <a:ext cx="5943600" cy="39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Rectangle 4"/>
          <p:cNvSpPr/>
          <p:nvPr/>
        </p:nvSpPr>
        <p:spPr>
          <a:xfrm>
            <a:off x="22320" y="5715000"/>
            <a:ext cx="91440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Find all information on every employee including their department inf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EMP    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onstantia"/>
              </a:rPr>
              <a:t>emp.Dept = depart.Dept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 DEPA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16" name="Object 3"/>
          <p:cNvGraphicFramePr/>
          <p:nvPr/>
        </p:nvGraphicFramePr>
        <p:xfrm>
          <a:off x="76320" y="609480"/>
          <a:ext cx="289548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609480"/>
                    <a:ext cx="289548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2"/>
          <p:cNvGraphicFramePr/>
          <p:nvPr/>
        </p:nvGraphicFramePr>
        <p:xfrm>
          <a:off x="11160" y="3124080"/>
          <a:ext cx="2960640" cy="24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" y="3124080"/>
                    <a:ext cx="296064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579096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ake a look, one table has 5 rows, the other has 4 rows, the resultant has 5 rows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EAF6-1E0F-4B77-8A10-B425BC93232F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Object 4"/>
          <p:cNvGraphicFramePr/>
          <p:nvPr/>
        </p:nvGraphicFramePr>
        <p:xfrm>
          <a:off x="3048120" y="1371600"/>
          <a:ext cx="5943600" cy="398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1371600"/>
                    <a:ext cx="5943600" cy="39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25" name="Object 3"/>
          <p:cNvGraphicFramePr/>
          <p:nvPr/>
        </p:nvGraphicFramePr>
        <p:xfrm>
          <a:off x="533520" y="609480"/>
          <a:ext cx="346716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34671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Object 2"/>
          <p:cNvGraphicFramePr/>
          <p:nvPr/>
        </p:nvGraphicFramePr>
        <p:xfrm>
          <a:off x="4800600" y="550800"/>
          <a:ext cx="3695760" cy="196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550800"/>
                    <a:ext cx="3695760" cy="19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ind all information on every employee including department info where the employee works in an office numbered less than the department main off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MP   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nstantia"/>
              </a:rPr>
              <a:t>(emp.office &lt; depart.mainoffice) 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Constantia"/>
              </a:rPr>
              <a:t>Λ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nstantia"/>
              </a:rPr>
              <a:t> (emp.dept = depart.dept)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DEPART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30E8-2931-48DF-B183-8CB11E7F6BAB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4"/>
          <p:cNvGraphicFramePr/>
          <p:nvPr/>
        </p:nvGraphicFramePr>
        <p:xfrm>
          <a:off x="1219320" y="2666880"/>
          <a:ext cx="5976720" cy="201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2666880"/>
                    <a:ext cx="59767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3" name="Picture 8" descr="joinop"/>
          <p:cNvPicPr/>
          <p:nvPr/>
        </p:nvPicPr>
        <p:blipFill>
          <a:blip r:embed="rId7"/>
          <a:stretch/>
        </p:blipFill>
        <p:spPr>
          <a:xfrm>
            <a:off x="1447920" y="5950080"/>
            <a:ext cx="253800" cy="21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Natural Jo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Notice in the generic (Theta) join operation, any attributes in common (such as dept above) are repeated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Natural Join operation removes these duplicate attribut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natural join operator is: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*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e can also assume using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*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that the join condition will be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on the two attributes in comm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BDAC-1462-4430-BC94-E2C1F2EADF6C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Natural 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8" name="Object 3"/>
          <p:cNvGraphicFramePr/>
          <p:nvPr/>
        </p:nvGraphicFramePr>
        <p:xfrm>
          <a:off x="503280" y="692280"/>
          <a:ext cx="1763640" cy="16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692280"/>
                    <a:ext cx="1763640" cy="16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2"/>
          <p:cNvGraphicFramePr/>
          <p:nvPr/>
        </p:nvGraphicFramePr>
        <p:xfrm>
          <a:off x="6588000" y="692280"/>
          <a:ext cx="2197080" cy="179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692280"/>
                    <a:ext cx="21970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Emp * depar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here are 2 Dept columns, one is omitted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58D0-CA09-4B38-9975-4FF8670DFB9B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Object 4"/>
          <p:cNvGraphicFramePr/>
          <p:nvPr/>
        </p:nvGraphicFramePr>
        <p:xfrm>
          <a:off x="2700360" y="2349360"/>
          <a:ext cx="3657600" cy="214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360" y="2349360"/>
                    <a:ext cx="3657600" cy="21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Outer Jo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n the Join operations so far, only those tuples from both relations that satisfy the join condition are included in the output rel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 Outer join includes other rows as well according to a few rul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ree types of outer join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Left Outer Join   includes all rows in the left hand relation and includes only those matching rows from the right hand rel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ight Outer Join   includes all rows in the right hand relation and includes only those matching rows from the left hand rel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ull Outer Join   includes all rows in the left hand relation and from the right hand rel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C339-D794-4453-B013-460FAF0DFA19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Outer 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50" name="Object 2"/>
          <p:cNvGraphicFramePr/>
          <p:nvPr/>
        </p:nvGraphicFramePr>
        <p:xfrm>
          <a:off x="395280" y="981000"/>
          <a:ext cx="3060720" cy="33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81000"/>
                    <a:ext cx="3060720" cy="33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Object 3"/>
          <p:cNvGraphicFramePr/>
          <p:nvPr/>
        </p:nvGraphicFramePr>
        <p:xfrm>
          <a:off x="4716360" y="907920"/>
          <a:ext cx="2889360" cy="378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907920"/>
                    <a:ext cx="2889360" cy="37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Now we have another 2 tabl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We will play with them for next few slides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64D4-0D26-4538-B4F8-22CCF37ED032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cse</cp:lastModifiedBy>
  <dcterms:modified xsi:type="dcterms:W3CDTF">2015-07-26T08:02:02Z</dcterms:modified>
  <cp:revision>16</cp:revision>
  <dc:subject/>
  <dc:title>Join</dc:title>
</cp:coreProperties>
</file>