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2F313-7E02-456C-A941-2224D69B3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941C5-306D-455C-BD60-77F3D05C2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7C4A-D59E-40F7-8F37-9836D78B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BA26-FC6A-4BF4-8448-9B422295F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B20CBD-BC45-4FD7-A2F7-5A000A821C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A7BD02-BC34-4721-9309-48316080D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93C9C-7976-493F-834E-111842E2E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9150F-EB80-4AC3-A63A-E3617CD7B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DDF8F-93C3-4ACF-9C88-BC28A420D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CA450-5331-4A3C-AFD2-ADB38DDC1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C2EA6-7B8E-4AA6-A121-1707E632E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553FC-FE41-4B9C-AD3D-78ED76ED8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E31F1-A15C-4BC5-BEED-91C004BF4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8B172-3611-483A-A508-7ACB729C7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F91F05-4055-429E-BCFB-EC03F4AE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9ADFA-CAAA-4EF3-B3E1-0F1B8FB351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1979A2-A16D-49D0-B8FF-79E2F5983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7BAF8B-D293-4B78-BE9F-98E46645A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3F397B-C7B6-4694-A6DE-E3EB98C9B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E9891D-249D-4FCA-BEC9-D156AFE1F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2E38EB-70ED-4B18-B0D3-A7759779C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A7E47-66F9-4AA4-BB6E-D79D9D1C8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0DF39-86A6-41B1-BB55-C0DF08CF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53EDF-0C32-414F-96FD-BB218F773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6BD082-1416-47C8-BEC6-CD1B1611B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F13EB4-D1E1-43F3-AA98-50BC78996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47696B-ED99-4D9D-B5F1-45CCD98C7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0487CD-5E2F-4B17-9A96-32D2931A68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6D2360-F7F6-416D-B59A-1BB9A827EC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087DB1-0A4B-4CD6-BB17-C4444FC45E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462DCC-B7AF-4A6D-B52B-A9470919E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E3B3D1-F5C2-40FD-ABC3-646674CA3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1F1926-49FC-4CD6-B6F6-7943B4B4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B6781-F7C8-44AF-8D80-42A869972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AAE5D3-5688-4F1A-AE42-2F58A653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4C4F2A-BF64-42E9-B10B-602F23EDE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D296FF-9847-42A2-8001-0C9DECE91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8F6453-7D71-45E0-B5FC-ACC0840F0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654221-9321-44D0-A584-64EC545FA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2C0361-A435-4B99-8390-5FA0FB7BC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146255-C2E4-4211-9F12-DF52EDA60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702AB3-A7E9-4601-8587-5C0DC8D07B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48E428-01CC-4343-A284-E508C1CB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95BB53-C62C-4EDC-A660-FB3D48579D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34AC5-FB80-4480-857B-4DD79B106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8A1262-3D38-4FE9-A799-CE5C8C1B6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EA1DC1-6C64-4C06-A908-0D68DE042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BD9CD7-C064-46DF-875C-FBC251F90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E0CEF2-B024-4789-89BA-95D927ACD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F4415-C610-463E-8E4C-5CAED1209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0A801D-AA5D-4795-A511-BD4D7B9AE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9DA836-FE93-44BE-840E-D9162547E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0903E77-016A-4750-8FC4-676ED09BD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CE8E01-97CB-4880-82C7-7435B4497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1ED4B-18BE-40C4-B5A5-DB156BD79A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533160"/>
            <a:ext cx="822960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5A86-1303-4BD6-8837-486B33A66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5720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6"/>
          <p:cNvSpPr>
            <a:spLocks noGrp="1"/>
          </p:cNvSpPr>
          <p:nvPr>
            <p:ph/>
          </p:nvPr>
        </p:nvSpPr>
        <p:spPr>
          <a:xfrm>
            <a:off x="323964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7"/>
          <p:cNvSpPr>
            <a:spLocks noGrp="1"/>
          </p:cNvSpPr>
          <p:nvPr>
            <p:ph/>
          </p:nvPr>
        </p:nvSpPr>
        <p:spPr>
          <a:xfrm>
            <a:off x="6022080" y="4147200"/>
            <a:ext cx="264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7BEEC2-FB4F-45C2-BCC4-CC0A794773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27F5-E91D-41F2-B9E6-CAE790ED6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414720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A07AD-3286-4564-AFF0-57DAF5315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147200"/>
            <a:ext cx="822960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E2EE-6839-40CF-BEAA-1620B2BB0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CB37A-813C-4876-AB54-F3EA9A183AB1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Straight Connector 8"/>
          <p:cNvSpPr/>
          <p:nvPr/>
        </p:nvSpPr>
        <p:spPr>
          <a:xfrm>
            <a:off x="685800" y="3398760"/>
            <a:ext cx="7848720" cy="180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FB2C-2FB9-4684-9EB8-92ABE9817A3A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traight Connector 8"/>
          <p:cNvSpPr/>
          <p:nvPr/>
        </p:nvSpPr>
        <p:spPr>
          <a:xfrm>
            <a:off x="731880" y="4599000"/>
            <a:ext cx="7848720" cy="1440"/>
          </a:xfrm>
          <a:prstGeom prst="line">
            <a:avLst/>
          </a:prstGeom>
          <a:ln w="19080">
            <a:solidFill>
              <a:srgbClr val="e3ded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ded1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e3ded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7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8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9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BBDD7-6345-4EE5-9C96-B5CED1906C80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traight Connector 8"/>
          <p:cNvSpPr/>
          <p:nvPr/>
        </p:nvSpPr>
        <p:spPr>
          <a:xfrm flipH="1">
            <a:off x="4572000" y="1692360"/>
            <a:ext cx="1440" cy="470844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10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1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2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CC1225-8FAD-4519-A1CB-2195A89F182B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9"/>
          <p:cNvSpPr/>
          <p:nvPr/>
        </p:nvSpPr>
        <p:spPr>
          <a:xfrm>
            <a:off x="0" y="220680"/>
            <a:ext cx="914400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0" y="0"/>
            <a:ext cx="9144000" cy="3650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Straight Connector 8"/>
          <p:cNvSpPr/>
          <p:nvPr/>
        </p:nvSpPr>
        <p:spPr>
          <a:xfrm flipH="1">
            <a:off x="2774520" y="792000"/>
            <a:ext cx="1800" cy="5578560"/>
          </a:xfrm>
          <a:prstGeom prst="line">
            <a:avLst/>
          </a:prstGeom>
          <a:ln w="1908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730080" indent="-182520">
              <a:spcBef>
                <a:spcPts val="601"/>
              </a:spcBef>
              <a:buClr>
                <a:srgbClr val="f07f09"/>
              </a:buClr>
              <a:buSzPct val="9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004760" indent="-18252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87280" indent="-136440">
              <a:spcBef>
                <a:spcPts val="601"/>
              </a:spcBef>
              <a:buClr>
                <a:srgbClr val="f07f0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87280" indent="-1364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 type="dt" idx="13"/>
          </p:nvPr>
        </p:nvSpPr>
        <p:spPr>
          <a:xfrm>
            <a:off x="456840" y="18720"/>
            <a:ext cx="28954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 type="ftr" idx="14"/>
          </p:nvPr>
        </p:nvSpPr>
        <p:spPr>
          <a:xfrm>
            <a:off x="3429000" y="18720"/>
            <a:ext cx="411480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 type="sldNum" idx="15"/>
          </p:nvPr>
        </p:nvSpPr>
        <p:spPr>
          <a:xfrm>
            <a:off x="7619760" y="18720"/>
            <a:ext cx="1066680" cy="32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C5FB0-B9E1-45AA-91D9-21FA6C4B3775}" type="slidenum">
              <a:rPr b="1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INTRODUCTION TO PL/SQL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0" name="TextBox 1"/>
          <p:cNvSpPr/>
          <p:nvPr/>
        </p:nvSpPr>
        <p:spPr>
          <a:xfrm>
            <a:off x="2209680" y="4038480"/>
            <a:ext cx="4496040" cy="201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K. M. Azharul Hasa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hnuma Tabassum Om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70,’HR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80,’PSD’,’Mumbai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ert into Dept values(90,’ESG’,’Pune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-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program will insert three records at the same time in the table de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program- Sample II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program displays the sum of two numb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CL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 Numbe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1 := &amp;Number1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num2 := &amp;Number2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_sum := v_num1 + v_num2 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The Sum of number is :’ || v_su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D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1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1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ave , Edit and Execute program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ype your program in SQL *  pl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save : 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&lt;File Name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gram is saved in the bin directory to save in other folder give complete pat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g: 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ve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make chang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&lt;File Na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dit program saved in folder other then bin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dit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5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: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File Na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 execute program saved in folder other then bi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@ ‘C:\ESG\FirstPrg.Sql’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2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" dur="2000"/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2000"/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2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2000"/>
                                        <p:tgtEl>
                                          <p:spTgt spid="26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2000"/>
                                        <p:tgtEl>
                                          <p:spTgt spid="26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000"/>
                                        <p:tgtEl>
                                          <p:spTgt spid="26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nodeType="clickEffect" fill="hold">
                      <p:stCondLst>
                        <p:cond delay="indefinite"/>
                      </p:stCondLst>
                      <p:childTnLst>
                        <p:par>
                          <p:cTn id="1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2000"/>
                                        <p:tgtEl>
                                          <p:spTgt spid="26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000"/>
                                        <p:tgtEl>
                                          <p:spTgt spid="26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26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26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ing are the keywords in PL-SQL , should not be used as a variable na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CLAR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G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CEP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 , END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, ELSE , ELSIF , END I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URS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Important Keyword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eywor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VOK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irthmetic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 + , - , * , /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ical:                                  (AND , OR , NOT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parison: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&lt;=, &lt;, &gt;, =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ents (Two hyphens):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-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signment operator: In PL SQL assignment operator i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 to assign values we need to write :=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 :=  x + 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 := 1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ame := ‘MBT’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perator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33520" y="1523520"/>
            <a:ext cx="80769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operators in PL SQ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e ends with  operator: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join two strings: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||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accept valu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am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ower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**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2**3 means 2 raise to power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loop we use             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X in 1..5 means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1 to 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n numeric da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string or date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s written in singl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7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ote: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‘ ‘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0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2000"/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4" dur="2000"/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2000"/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2000"/>
                                        <p:tgtEl>
                                          <p:spTgt spid="2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2000"/>
                                        <p:tgtEl>
                                          <p:spTgt spid="2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2000"/>
                                        <p:tgtEl>
                                          <p:spTgt spid="26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2" dur="2000"/>
                                        <p:tgtEl>
                                          <p:spTgt spid="26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2000"/>
                                        <p:tgtEl>
                                          <p:spTgt spid="269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2000"/>
                                        <p:tgtEl>
                                          <p:spTgt spid="269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2000"/>
                                        <p:tgtEl>
                                          <p:spTgt spid="269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2000"/>
                                        <p:tgtEl>
                                          <p:spTgt spid="269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9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7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 := &amp;Number1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um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4"/>
          <p:cNvSpPr/>
          <p:nvPr/>
        </p:nvSpPr>
        <p:spPr>
          <a:xfrm>
            <a:off x="3112560" y="3646440"/>
            <a:ext cx="472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umber1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0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9" dur="500"/>
                                        <p:tgtEl>
                                          <p:spTgt spid="2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2" dur="500"/>
                                        <p:tgtEl>
                                          <p:spTgt spid="2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2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2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8" dur="500"/>
                                        <p:tgtEl>
                                          <p:spTgt spid="2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2" dur="500"/>
                                        <p:tgtEl>
                                          <p:spTgt spid="2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Accept a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 := ‘&amp;Name’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t run time this will prompt a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llo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ever value user will en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will be assign to variab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a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‘   ‘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 used in case if entered data is not numeri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3111840" y="3646440"/>
            <a:ext cx="415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b9f25"/>
                </a:solidFill>
                <a:latin typeface="Arial"/>
              </a:rPr>
              <a:t>Enter a value for Nam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7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2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8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6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2" dur="500"/>
                                        <p:tgtEl>
                                          <p:spTgt spid="2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6" dur="500"/>
                                        <p:tgtEl>
                                          <p:spTgt spid="2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0" dur="500"/>
                                        <p:tgtEl>
                                          <p:spTgt spid="2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2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same li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display on new li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re dbms_output is a Oracle package its like header file or library in C langu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Put and .Put_Line are functions like printf in ‘C’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0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2000"/>
                                        <p:tgtEl>
                                          <p:spTgt spid="2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2000"/>
                                        <p:tgtEl>
                                          <p:spTgt spid="2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2000"/>
                                        <p:tgtEl>
                                          <p:spTgt spid="2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2000"/>
                                        <p:tgtEl>
                                          <p:spTgt spid="2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2000"/>
                                        <p:tgtEl>
                                          <p:spTgt spid="2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2000"/>
                                        <p:tgtEl>
                                          <p:spTgt spid="2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Objectiv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PL-SQ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PL-SQL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nguage  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sic Structure of PL/SQL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Flow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in PL-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2000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 (‘Telecom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(‘ ‘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British 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on same li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t is important that at least once you write .put_line after any number of .put functions else values are not displaye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nodeType="clickEffect" fill="hold">
                      <p:stCondLst>
                        <p:cond delay="0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2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2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2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2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2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6" dur="2000"/>
                                        <p:tgtEl>
                                          <p:spTgt spid="2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2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2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2000"/>
                                        <p:tgtEl>
                                          <p:spTgt spid="2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nodeType="clickEffect" fill="hold">
                      <p:stCondLst>
                        <p:cond delay="indefinite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2000"/>
                                        <p:tgtEl>
                                          <p:spTgt spid="2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isplay value : Exampl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Mahindra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British’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‘Telecom’);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will displa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Mahindr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British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6b9f25"/>
                </a:solidFill>
                <a:latin typeface="Arial"/>
              </a:rPr>
              <a:t>Telecom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 different lin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te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n SQL prompt after Login you need to set one command to see displayed valu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6b9f25"/>
                </a:solidFill>
                <a:latin typeface="Arial"/>
              </a:rPr>
              <a:t>SET SERVEROUTPUT ON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nodeType="clickEffect" fill="hold">
                      <p:stCondLst>
                        <p:cond delay="0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9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2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2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2000"/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2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2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2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28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2000"/>
                                        <p:tgtEl>
                                          <p:spTgt spid="28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DML operations in Pl-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ML operations (Insert/Update/Delete /Select) are to be written in Begin part of the block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hange in the Syntax of Insert , Update and Delete , it is same as 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syntax is different then SQL , it contains INTO claus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Select query can return more then one rows then you should always use cursors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6" dur="2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2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76320" y="533160"/>
            <a:ext cx="861048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Select Syntax for a Single Row Query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75212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column1, column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6b9f25"/>
                </a:solidFill>
                <a:latin typeface="Arial"/>
              </a:rPr>
              <a:t>INTO Variable1,Variable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able N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condition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only change is as many columns you want to get from the query you need to declare that many variables and use INTO claus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ll other parts of query are unchang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14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Where condition here is such that query will return multiple records then CURSOR should be used. Without that it will give err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14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nodeType="clickEffect" fill="hold">
                      <p:stCondLst>
                        <p:cond delay="0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nodeType="clickEffect" fill="hold">
                      <p:stCondLst>
                        <p:cond delay="indefinite"/>
                      </p:stCondLst>
                      <p:childTnLst>
                        <p:par>
                          <p:cTn id="4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2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2" dur="2000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5" dur="2000"/>
                                        <p:tgtEl>
                                          <p:spTgt spid="2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2000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2000"/>
                                        <p:tgtEl>
                                          <p:spTgt spid="2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2000"/>
                                        <p:tgtEl>
                                          <p:spTgt spid="2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re always declared in DECLARE section of the program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ariable Name   &lt;Data Typ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ous way to declare th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mpno  Number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V_ename varchar2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nodeType="clickEffect" fill="hold">
                      <p:stCondLst>
                        <p:cond delay="0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nodeType="clickEffect" fill="hold">
                      <p:stCondLst>
                        <p:cond delay="indefinite"/>
                      </p:stCondLst>
                      <p:childTnLst>
                        <p:par>
                          <p:cTn id="4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2" dur="2000"/>
                                        <p:tgtEl>
                                          <p:spTgt spid="2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2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2000"/>
                                        <p:tgtEl>
                                          <p:spTgt spid="2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2000"/>
                                        <p:tgtEl>
                                          <p:spTgt spid="2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2000"/>
                                        <p:tgtEl>
                                          <p:spTgt spid="2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ynamic and preferred way  to declare a vari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ariable Name   TableName.ColName%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mpno  Emp.Empno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V_ename Emp.Ename%Typ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 will always have same datatype as colum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8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y change in column will change the type of variable also, so we need not have to change and recompile the program to ru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93" dur="indefinite" restart="never" nodeType="tmRoot">
          <p:childTnLst>
            <p:seq>
              <p:cTn id="494" dur="indefinite" nodeType="mainSeq">
                <p:childTnLst>
                  <p:par>
                    <p:cTn id="495" nodeType="clickEffect" fill="hold">
                      <p:stCondLst>
                        <p:cond delay="0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2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2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2000"/>
                                        <p:tgtEl>
                                          <p:spTgt spid="2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nodeType="clickEffect" fill="hold">
                      <p:stCondLst>
                        <p:cond delay="indefinite"/>
                      </p:stCondLst>
                      <p:childTnLst>
                        <p:par>
                          <p:cTn id="5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nodeType="clickEffect" fill="hold">
                      <p:stCondLst>
                        <p:cond delay="indefinite"/>
                      </p:stCondLst>
                      <p:childTnLst>
                        <p:par>
                          <p:cTn id="5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2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2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2000"/>
                                        <p:tgtEl>
                                          <p:spTgt spid="2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2000"/>
                                        <p:tgtEl>
                                          <p:spTgt spid="28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2000"/>
                                        <p:tgtEl>
                                          <p:spTgt spid="28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ariable Name   TableName%RowTyp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lnSpc>
                <a:spcPct val="14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200" spc="-1" strike="noStrike">
                <a:solidFill>
                  <a:srgbClr val="ff0000"/>
                </a:solidFill>
                <a:latin typeface="Arial"/>
              </a:rPr>
              <a:t>v_emp  Emp%RowType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40000"/>
              </a:lnSpc>
              <a:spcBef>
                <a:spcPts val="55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vantages of declaring in above wa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140000"/>
              </a:lnSpc>
              <a:spcBef>
                <a:spcPts val="476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ariable will  become like a structure variable in C (i.e. v_emp will have same structure like Emp Table) and you can refer to individual element as follow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mpno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ena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v_emp.s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4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nodeType="clickEffect" fill="hold">
                      <p:stCondLst>
                        <p:cond delay="0"/>
                      </p:stCondLst>
                      <p:childTnLst>
                        <p:par>
                          <p:cTn id="5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2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2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3" dur="2000"/>
                                        <p:tgtEl>
                                          <p:spTgt spid="2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2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2000"/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2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2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2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Variable Declaration in PL SQL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81532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 :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ou can also make your own type in program and use in the declare section to declare variab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ype  t_name   is   Varchar2(50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-- now you can make variable of this typ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v_name2 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 t_nam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_name and v_name2 both will become varchar2(5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74" dur="indefinite" restart="never" nodeType="tmRoot">
          <p:childTnLst>
            <p:seq>
              <p:cTn id="575" dur="indefinite" nodeType="mainSeq">
                <p:childTnLst>
                  <p:par>
                    <p:cTn id="576" nodeType="clickEffect" fill="hold">
                      <p:stCondLst>
                        <p:cond delay="0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2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nodeType="clickEffect" fill="hold">
                      <p:stCondLst>
                        <p:cond delay="indefinite"/>
                      </p:stCondLst>
                      <p:childTnLst>
                        <p:par>
                          <p:cTn id="5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2000"/>
                                        <p:tgtEl>
                                          <p:spTgt spid="2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5" dur="2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2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1" dur="2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nodeType="clickEffect" fill="hold">
                      <p:stCondLst>
                        <p:cond delay="indefinite"/>
                      </p:stCondLst>
                      <p:childTnLst>
                        <p:par>
                          <p:cTn id="6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2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f &lt;condition1&gt; 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IF &lt;Condition2&gt; Th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e here that for one IF we only need one END IF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 END IF is required for ELSIF i.e for one set of IF condition only one END IF; is requir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7" dur="indefinite" restart="never" nodeType="tmRoot">
          <p:childTnLst>
            <p:seq>
              <p:cTn id="608" dur="indefinite" nodeType="mainSeq">
                <p:childTnLst>
                  <p:par>
                    <p:cTn id="609" nodeType="clickEffect" fill="hold">
                      <p:stCondLst>
                        <p:cond delay="0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8" dur="2000"/>
                                        <p:tgtEl>
                                          <p:spTgt spid="2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3" dur="2000"/>
                                        <p:tgtEl>
                                          <p:spTgt spid="2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nodeType="clickEffect" fill="hold">
                      <p:stCondLst>
                        <p:cond delay="indefinite"/>
                      </p:stCondLst>
                      <p:childTnLst>
                        <p:par>
                          <p:cTn id="6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8" dur="2000"/>
                                        <p:tgtEl>
                                          <p:spTgt spid="2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3" dur="2000"/>
                                        <p:tgtEl>
                                          <p:spTgt spid="2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nodeType="clickEffect" fill="hold">
                      <p:stCondLst>
                        <p:cond delay="indefinite"/>
                      </p:stCondLst>
                      <p:childTnLst>
                        <p:par>
                          <p:cTn id="6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8" dur="2000"/>
                                        <p:tgtEl>
                                          <p:spTgt spid="2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3" dur="2000"/>
                                        <p:tgtEl>
                                          <p:spTgt spid="2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2000"/>
                                        <p:tgtEl>
                                          <p:spTgt spid="2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nodeType="clickEffect" fill="hold">
                      <p:stCondLst>
                        <p:cond delay="indefinite"/>
                      </p:stCondLst>
                      <p:childTnLst>
                        <p:par>
                          <p:cTn id="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3" dur="2000"/>
                                        <p:tgtEl>
                                          <p:spTgt spid="2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4" nodeType="clickEffect" fill="hold">
                      <p:stCondLst>
                        <p:cond delay="indefinite"/>
                      </p:stCondLst>
                      <p:childTnLst>
                        <p:par>
                          <p:cTn id="6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8" dur="2000"/>
                                        <p:tgtEl>
                                          <p:spTgt spid="29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3" dur="2000"/>
                                        <p:tgtEl>
                                          <p:spTgt spid="29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Conditional Statement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… Then … 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 v_deptno = 10 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'Accounting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IF v_deptno = 20 The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ESG')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BMS_OUTPUT.PUT_LINE (‘Invalid')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IF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7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nodeType="clickEffect" fill="hold">
                      <p:stCondLst>
                        <p:cond delay="0"/>
                      </p:stCondLst>
                      <p:childTnLst>
                        <p:par>
                          <p:cTn id="6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0" dur="20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5" dur="20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6" nodeType="clickEffect" fill="hold">
                      <p:stCondLst>
                        <p:cond delay="indefinite"/>
                      </p:stCondLst>
                      <p:childTnLst>
                        <p:par>
                          <p:cTn id="6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0" dur="20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nodeType="clickEffect" fill="hold">
                      <p:stCondLst>
                        <p:cond delay="indefinite"/>
                      </p:stCondLst>
                      <p:childTnLst>
                        <p:par>
                          <p:cTn id="6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5" dur="20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2000"/>
                                        <p:tgtEl>
                                          <p:spTgt spid="2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5" dur="2000"/>
                                        <p:tgtEl>
                                          <p:spTgt spid="2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nodeType="clickEffect" fill="hold">
                      <p:stCondLst>
                        <p:cond delay="indefinite"/>
                      </p:stCondLst>
                      <p:childTnLst>
                        <p:par>
                          <p:cTn id="6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0" dur="2000"/>
                                        <p:tgtEl>
                                          <p:spTgt spid="2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nodeType="clickEffect" fill="hold">
                      <p:stCondLst>
                        <p:cond delay="indefinite"/>
                      </p:stCondLst>
                      <p:childTnLst>
                        <p:par>
                          <p:cTn id="7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5" dur="2000"/>
                                        <p:tgtEl>
                                          <p:spTgt spid="2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2000"/>
                                        <p:tgtEl>
                                          <p:spTgt spid="2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at is PL-SQL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/SQL stands for Procedural Language/SQ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al Language extension for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racle Proprieta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GL Capabil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gration of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rtable within Oracle data ba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llable from any 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15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pre tested as condition is checked first and then code is execu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1" dur="indefinite" restart="never" nodeType="tmRoot">
          <p:childTnLst>
            <p:seq>
              <p:cTn id="712" dur="indefinite" nodeType="mainSeq">
                <p:childTnLst>
                  <p:par>
                    <p:cTn id="713" nodeType="clickEffect" fill="hold">
                      <p:stCondLst>
                        <p:cond delay="0"/>
                      </p:stCondLst>
                      <p:childTnLst>
                        <p:par>
                          <p:cTn id="7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7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8" nodeType="clickEffect" fill="hold">
                      <p:stCondLst>
                        <p:cond delay="indefinite"/>
                      </p:stCondLst>
                      <p:childTnLst>
                        <p:par>
                          <p:cTn id="7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2" dur="2000"/>
                                        <p:tgtEl>
                                          <p:spTgt spid="2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5" dur="2000"/>
                                        <p:tgtEl>
                                          <p:spTgt spid="2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nodeType="clickEffect" fill="hold">
                      <p:stCondLst>
                        <p:cond delay="indefinite"/>
                      </p:stCondLst>
                      <p:childTnLst>
                        <p:par>
                          <p:cTn id="7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2000"/>
                                        <p:tgtEl>
                                          <p:spTgt spid="2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2000"/>
                                        <p:tgtEl>
                                          <p:spTgt spid="2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2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2000"/>
                                        <p:tgtEl>
                                          <p:spTgt spid="2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4" dur="2000"/>
                                        <p:tgtEl>
                                          <p:spTgt spid="2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nodeType="clickEffect" fill="hold">
                      <p:stCondLst>
                        <p:cond delay="indefinite"/>
                      </p:stCondLst>
                      <p:childTnLst>
                        <p:par>
                          <p:cTn id="7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9" dur="2000"/>
                                        <p:tgtEl>
                                          <p:spTgt spid="2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re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0" dur="indefinite" restart="never" nodeType="tmRoot">
          <p:childTnLst>
            <p:seq>
              <p:cTn id="751" dur="indefinite" nodeType="mainSeq">
                <p:childTnLst>
                  <p:par>
                    <p:cTn id="752" nodeType="clickEffect" fill="hold">
                      <p:stCondLst>
                        <p:cond delay="0"/>
                      </p:stCondLst>
                      <p:childTnLst>
                        <p:par>
                          <p:cTn id="7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3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4" dur="2000"/>
                                        <p:tgtEl>
                                          <p:spTgt spid="3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2000"/>
                                        <p:tgtEl>
                                          <p:spTgt spid="3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2" dur="2000"/>
                                        <p:tgtEl>
                                          <p:spTgt spid="3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2000"/>
                                        <p:tgtEl>
                                          <p:spTgt spid="3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8" dur="2000"/>
                                        <p:tgtEl>
                                          <p:spTgt spid="3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nodeType="clickEffect" fill="hold">
                      <p:stCondLst>
                        <p:cond delay="indefinite"/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3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mpl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&lt;Condition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it when is required to give the condition to end the loo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post tested as condition is checked after the code is execu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84" dur="indefinite" restart="never" nodeType="tmRoot">
          <p:childTnLst>
            <p:seq>
              <p:cTn id="785" dur="indefinite" nodeType="mainSeq">
                <p:childTnLst>
                  <p:par>
                    <p:cTn id="786" nodeType="clickEffect" fill="hold">
                      <p:stCondLst>
                        <p:cond delay="0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5" dur="2000"/>
                                        <p:tgtEl>
                                          <p:spTgt spid="3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2000"/>
                                        <p:tgtEl>
                                          <p:spTgt spid="3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nodeType="clickEffect" fill="hold">
                      <p:stCondLst>
                        <p:cond delay="indefinite"/>
                      </p:stCondLst>
                      <p:childTnLst>
                        <p:par>
                          <p:cTn id="8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3" dur="2000"/>
                                        <p:tgtEl>
                                          <p:spTgt spid="3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6" dur="2000"/>
                                        <p:tgtEl>
                                          <p:spTgt spid="3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9" dur="2000"/>
                                        <p:tgtEl>
                                          <p:spTgt spid="3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2" dur="2000"/>
                                        <p:tgtEl>
                                          <p:spTgt spid="3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7" dur="2000"/>
                                        <p:tgtEl>
                                          <p:spTgt spid="3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8" nodeType="clickEffect" fill="hold">
                      <p:stCondLst>
                        <p:cond delay="indefinite"/>
                      </p:stCondLst>
                      <p:childTnLst>
                        <p:par>
                          <p:cTn id="8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2" dur="2000"/>
                                        <p:tgtEl>
                                          <p:spTgt spid="3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e Loop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it When i =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Post Tes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nodeType="clickEffect" fill="hold">
                      <p:stCondLst>
                        <p:cond delay="0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9" dur="2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0" nodeType="clickEffect" fill="hold">
                      <p:stCondLst>
                        <p:cond delay="indefinite"/>
                      </p:stCondLst>
                      <p:childTnLst>
                        <p:par>
                          <p:cTn id="8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2000"/>
                                        <p:tgtEl>
                                          <p:spTgt spid="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7" dur="2000"/>
                                        <p:tgtEl>
                                          <p:spTgt spid="3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2" dur="2000"/>
                                        <p:tgtEl>
                                          <p:spTgt spid="3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2000"/>
                                        <p:tgtEl>
                                          <p:spTgt spid="3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3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1" dur="2000"/>
                                        <p:tgtEl>
                                          <p:spTgt spid="3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nodeType="clickEffect" fill="hold">
                      <p:stCondLst>
                        <p:cond delay="indefinite"/>
                      </p:stCondLst>
                      <p:childTnLst>
                        <p:par>
                          <p:cTn id="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6" dur="2000"/>
                                        <p:tgtEl>
                                          <p:spTgt spid="3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&lt;Condition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is required for condition to end th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0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3" dur="2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nodeType="clickEffect" fill="hold">
                      <p:stCondLst>
                        <p:cond delay="indefinite"/>
                      </p:stCondLst>
                      <p:childTnLst>
                        <p:par>
                          <p:cTn id="8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8" dur="2000"/>
                                        <p:tgtEl>
                                          <p:spTgt spid="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1" dur="2000"/>
                                        <p:tgtEl>
                                          <p:spTgt spid="3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nodeType="clickEffect" fill="hold">
                      <p:stCondLst>
                        <p:cond delay="indefinite"/>
                      </p:stCondLst>
                      <p:childTnLst>
                        <p:par>
                          <p:cTn id="8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6" dur="2000"/>
                                        <p:tgtEl>
                                          <p:spTgt spid="3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3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2" dur="2000"/>
                                        <p:tgtEl>
                                          <p:spTgt spid="3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5" dur="2000"/>
                                        <p:tgtEl>
                                          <p:spTgt spid="3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0" dur="2000"/>
                                        <p:tgtEl>
                                          <p:spTgt spid="3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5" dur="2000"/>
                                        <p:tgtEl>
                                          <p:spTgt spid="3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ile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While i &lt; 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bms_output.put_line (i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6" dur="indefinite" restart="never" nodeType="tmRoot">
          <p:childTnLst>
            <p:seq>
              <p:cTn id="897" dur="indefinite" nodeType="mainSeq">
                <p:childTnLst>
                  <p:par>
                    <p:cTn id="898" nodeType="clickEffect" fill="hold">
                      <p:stCondLst>
                        <p:cond delay="0"/>
                      </p:stCondLst>
                      <p:childTnLst>
                        <p:par>
                          <p:cTn id="8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2" dur="2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nodeType="clickEffect" fill="hold">
                      <p:stCondLst>
                        <p:cond delay="indefinite"/>
                      </p:stCondLst>
                      <p:childTnLst>
                        <p:par>
                          <p:cTn id="9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7" dur="2000"/>
                                        <p:tgtEl>
                                          <p:spTgt spid="3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0" dur="2000"/>
                                        <p:tgtEl>
                                          <p:spTgt spid="3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1" nodeType="clickEffect" fill="hold">
                      <p:stCondLst>
                        <p:cond delay="indefinite"/>
                      </p:stCondLst>
                      <p:childTnLst>
                        <p:par>
                          <p:cTn id="9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5" dur="2000"/>
                                        <p:tgtEl>
                                          <p:spTgt spid="3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8" dur="2000"/>
                                        <p:tgtEl>
                                          <p:spTgt spid="3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1" dur="2000"/>
                                        <p:tgtEl>
                                          <p:spTgt spid="3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2000"/>
                                        <p:tgtEl>
                                          <p:spTgt spid="3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&lt;Variable&gt; IN &lt;Min&gt; .. &lt;Max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is used when we know the number of time the loop is to be exec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also pre tes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nodeType="clickEffect" fill="hold">
                      <p:stCondLst>
                        <p:cond delay="0"/>
                      </p:stCondLst>
                      <p:childTnLst>
                        <p:par>
                          <p:cTn id="9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1" dur="20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nodeType="clickEffect" fill="hold">
                      <p:stCondLst>
                        <p:cond delay="indefinite"/>
                      </p:stCondLst>
                      <p:childTnLst>
                        <p:par>
                          <p:cTn id="9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2000"/>
                                        <p:tgtEl>
                                          <p:spTgt spid="3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9" dur="2000"/>
                                        <p:tgtEl>
                                          <p:spTgt spid="3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nodeType="clickEffect" fill="hold">
                      <p:stCondLst>
                        <p:cond delay="indefinite"/>
                      </p:stCondLst>
                      <p:childTnLst>
                        <p:par>
                          <p:cTn id="9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2000"/>
                                        <p:tgtEl>
                                          <p:spTgt spid="3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2000"/>
                                        <p:tgtEl>
                                          <p:spTgt spid="3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3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2000"/>
                                        <p:tgtEl>
                                          <p:spTgt spid="3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4" nodeType="clickEffect" fill="hold">
                      <p:stCondLst>
                        <p:cond delay="indefinite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8" dur="2000"/>
                                        <p:tgtEl>
                                          <p:spTgt spid="3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9" nodeType="clickEffect" fill="hold">
                      <p:stCondLst>
                        <p:cond delay="indefinite"/>
                      </p:stCondLst>
                      <p:childTnLst>
                        <p:par>
                          <p:cTn id="9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3" dur="2000"/>
                                        <p:tgtEl>
                                          <p:spTgt spid="3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 to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64" dur="indefinite" restart="never" nodeType="tmRoot">
          <p:childTnLst>
            <p:seq>
              <p:cTn id="965" dur="indefinite" nodeType="mainSeq">
                <p:childTnLst>
                  <p:par>
                    <p:cTn id="966" nodeType="clickEffect" fill="hold">
                      <p:stCondLst>
                        <p:cond delay="0"/>
                      </p:stCondLst>
                      <p:childTnLst>
                        <p:par>
                          <p:cTn id="9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0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1" nodeType="clickEffect" fill="hold">
                      <p:stCondLst>
                        <p:cond delay="indefinite"/>
                      </p:stCondLst>
                      <p:childTnLst>
                        <p:par>
                          <p:cTn id="9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5" dur="2000"/>
                                        <p:tgtEl>
                                          <p:spTgt spid="3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8" dur="2000"/>
                                        <p:tgtEl>
                                          <p:spTgt spid="3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2000"/>
                                        <p:tgtEl>
                                          <p:spTgt spid="3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3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9" dur="2000"/>
                                        <p:tgtEl>
                                          <p:spTgt spid="3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2" dur="2000"/>
                                        <p:tgtEl>
                                          <p:spTgt spid="3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7" dur="2000"/>
                                        <p:tgtEl>
                                          <p:spTgt spid="3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TYPES  OF LOOP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Loop Rever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 i IN Reverse 1 .. 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Cod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d Loop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Loop will execute the given code 100 times for i = 100 to 1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reverse i.e from last value to first valu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98" dur="indefinite" restart="never" nodeType="tmRoot">
          <p:childTnLst>
            <p:seq>
              <p:cTn id="999" dur="indefinite" nodeType="mainSeq">
                <p:childTnLst>
                  <p:par>
                    <p:cTn id="1000" nodeType="clickEffect" fill="hold">
                      <p:stCondLst>
                        <p:cond delay="0"/>
                      </p:stCondLst>
                      <p:childTnLst>
                        <p:par>
                          <p:cTn id="10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4" dur="20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9" dur="2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2" dur="2000"/>
                                        <p:tgtEl>
                                          <p:spTgt spid="3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7" dur="2000"/>
                                        <p:tgtEl>
                                          <p:spTgt spid="3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0" dur="2000"/>
                                        <p:tgtEl>
                                          <p:spTgt spid="3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3" dur="2000"/>
                                        <p:tgtEl>
                                          <p:spTgt spid="3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6" dur="2000"/>
                                        <p:tgtEl>
                                          <p:spTgt spid="31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nodeType="clickEffect" fill="hold">
                      <p:stCondLst>
                        <p:cond delay="indefinite"/>
                      </p:stCondLst>
                      <p:childTnLst>
                        <p:par>
                          <p:cTn id="10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1" dur="2000"/>
                                        <p:tgtEl>
                                          <p:spTgt spid="31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2" nodeType="clickEffect" fill="hold">
                      <p:stCondLst>
                        <p:cond delay="indefinite"/>
                      </p:stCondLst>
                      <p:childTnLst>
                        <p:par>
                          <p:cTn id="10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6" dur="2000"/>
                                        <p:tgtEl>
                                          <p:spTgt spid="31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848720" cy="1927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23232"/>
                </a:solidFill>
                <a:latin typeface="Arial"/>
              </a:rPr>
              <a:t>THANK YOU !!</a:t>
            </a:r>
            <a:endParaRPr b="0" lang="en-US" sz="5400" spc="-1" strike="noStrike">
              <a:solidFill>
                <a:srgbClr val="323232"/>
              </a:solidFill>
              <a:latin typeface="Arial"/>
            </a:endParaRPr>
          </a:p>
        </p:txBody>
      </p:sp>
    </p:spTree>
  </p:cSld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nodeType="clickEffect" fill="hold">
                      <p:stCondLst>
                        <p:cond delay="0"/>
                      </p:stCondLst>
                      <p:childTnLst>
                        <p:par>
                          <p:cTn id="10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3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4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5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6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Why PL SQL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/SQL extends SQL by adding constructs found in procedural languages like procedures, loops, variables, objects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 algn="just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sulting a structural language that is more powerful than SQ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nodeType="clickEffect" fill="hold">
                      <p:stCondLst>
                        <p:cond delay="0"/>
                      </p:stCondLst>
                      <p:childTnLst>
                        <p:par>
                          <p:cTn id="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, Is there any Advantage ?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5029200"/>
            <a:ext cx="800100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case of SQL to send 3 queries we will need three network trips between client and serve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ct val="80000"/>
              </a:lnSpc>
              <a:spcBef>
                <a:spcPts val="499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PL-SQL we bundle any number of queries in a block and in single network trip task is d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9" name="Group 1"/>
          <p:cNvGrpSpPr/>
          <p:nvPr/>
        </p:nvGrpSpPr>
        <p:grpSpPr>
          <a:xfrm>
            <a:off x="777960" y="1714680"/>
            <a:ext cx="3260520" cy="2438280"/>
            <a:chOff x="777960" y="1714680"/>
            <a:chExt cx="3260520" cy="2438280"/>
          </a:xfrm>
        </p:grpSpPr>
        <p:sp>
          <p:nvSpPr>
            <p:cNvPr id="230" name="Rectangle 4"/>
            <p:cNvSpPr/>
            <p:nvPr/>
          </p:nvSpPr>
          <p:spPr>
            <a:xfrm>
              <a:off x="77796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Rectangle 10"/>
            <p:cNvSpPr/>
            <p:nvPr/>
          </p:nvSpPr>
          <p:spPr>
            <a:xfrm>
              <a:off x="192852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Rectangle 11"/>
            <p:cNvSpPr/>
            <p:nvPr/>
          </p:nvSpPr>
          <p:spPr>
            <a:xfrm>
              <a:off x="3079440" y="2552760"/>
              <a:ext cx="95904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Rectangle 12"/>
            <p:cNvSpPr/>
            <p:nvPr/>
          </p:nvSpPr>
          <p:spPr>
            <a:xfrm>
              <a:off x="1161360" y="3695760"/>
              <a:ext cx="268524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Rectangle 14"/>
            <p:cNvSpPr/>
            <p:nvPr/>
          </p:nvSpPr>
          <p:spPr>
            <a:xfrm>
              <a:off x="969480" y="1714680"/>
              <a:ext cx="30690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Line 16"/>
            <p:cNvSpPr/>
            <p:nvPr/>
          </p:nvSpPr>
          <p:spPr>
            <a:xfrm>
              <a:off x="116136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Line 17"/>
            <p:cNvSpPr/>
            <p:nvPr/>
          </p:nvSpPr>
          <p:spPr>
            <a:xfrm>
              <a:off x="2504160" y="217188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Line 18"/>
            <p:cNvSpPr/>
            <p:nvPr/>
          </p:nvSpPr>
          <p:spPr>
            <a:xfrm>
              <a:off x="3463200" y="2247840"/>
              <a:ext cx="0" cy="1447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2"/>
          <p:cNvGrpSpPr/>
          <p:nvPr/>
        </p:nvGrpSpPr>
        <p:grpSpPr>
          <a:xfrm>
            <a:off x="4800600" y="1676520"/>
            <a:ext cx="3809880" cy="3047760"/>
            <a:chOff x="4800600" y="1676520"/>
            <a:chExt cx="3809880" cy="3047760"/>
          </a:xfrm>
        </p:grpSpPr>
        <p:sp>
          <p:nvSpPr>
            <p:cNvPr id="239" name="Rectangle 19"/>
            <p:cNvSpPr/>
            <p:nvPr/>
          </p:nvSpPr>
          <p:spPr>
            <a:xfrm>
              <a:off x="50792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Rectangle 20"/>
            <p:cNvSpPr/>
            <p:nvPr/>
          </p:nvSpPr>
          <p:spPr>
            <a:xfrm>
              <a:off x="619452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21"/>
            <p:cNvSpPr/>
            <p:nvPr/>
          </p:nvSpPr>
          <p:spPr>
            <a:xfrm>
              <a:off x="7309440" y="2671920"/>
              <a:ext cx="929160" cy="7617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QL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Query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22"/>
            <p:cNvSpPr/>
            <p:nvPr/>
          </p:nvSpPr>
          <p:spPr>
            <a:xfrm>
              <a:off x="5172120" y="4267080"/>
              <a:ext cx="2602080" cy="45720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lien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23"/>
            <p:cNvSpPr/>
            <p:nvPr/>
          </p:nvSpPr>
          <p:spPr>
            <a:xfrm>
              <a:off x="5265000" y="1676520"/>
              <a:ext cx="2973600" cy="533160"/>
            </a:xfrm>
            <a:prstGeom prst="rect">
              <a:avLst/>
            </a:prstGeom>
            <a:solidFill>
              <a:srgbClr val="f07f0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er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Rectangle 24"/>
            <p:cNvSpPr/>
            <p:nvPr/>
          </p:nvSpPr>
          <p:spPr>
            <a:xfrm>
              <a:off x="4800600" y="2519280"/>
              <a:ext cx="3809880" cy="1447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Text Box 25"/>
            <p:cNvSpPr/>
            <p:nvPr/>
          </p:nvSpPr>
          <p:spPr>
            <a:xfrm>
              <a:off x="6095160" y="3510000"/>
              <a:ext cx="161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L-SQL Bloc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Line 27"/>
            <p:cNvSpPr/>
            <p:nvPr/>
          </p:nvSpPr>
          <p:spPr>
            <a:xfrm>
              <a:off x="6473160" y="39625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Line 28"/>
            <p:cNvSpPr/>
            <p:nvPr/>
          </p:nvSpPr>
          <p:spPr>
            <a:xfrm>
              <a:off x="6566040" y="220968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Language features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-182520">
              <a:lnSpc>
                <a:spcPct val="90000"/>
              </a:lnSpc>
              <a:spcBef>
                <a:spcPts val="700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s constructs like any other 4th generation langu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ariables and Data typ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ps and Control stat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cedures and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igg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jec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-18252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cords (Its like structure in C languag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2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2000"/>
                                        <p:tgtEl>
                                          <p:spTgt spid="2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2000"/>
                                        <p:tgtEl>
                                          <p:spTgt spid="2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2000"/>
                                        <p:tgtEl>
                                          <p:spTgt spid="24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program structure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Variables, cursors, exception etc  are declared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programming logic , queries , program statements are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All Error Handling code is written here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-It ends the progr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 nested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b9f25"/>
                </a:solidFill>
                <a:latin typeface="Arial"/>
              </a:rPr>
              <a:t>&lt;&lt;Out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0066ff"/>
                </a:solidFill>
                <a:latin typeface="Arial"/>
              </a:rPr>
              <a:t>&lt;&lt;Inner Block&gt;&gt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Decl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Beg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66ff"/>
                </a:solidFill>
                <a:latin typeface="Arial"/>
              </a:rPr>
              <a:t>End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6b9f25"/>
                </a:solidFill>
                <a:latin typeface="Arial"/>
              </a:rPr>
              <a:t>End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23232"/>
                </a:solidFill>
                <a:latin typeface="Arial"/>
              </a:rPr>
              <a:t>PL SQL Block</a:t>
            </a:r>
            <a:endParaRPr b="0" lang="en-US" sz="4000" spc="-1" strike="noStrike">
              <a:solidFill>
                <a:srgbClr val="323232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7200" y="15998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Remember 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clare is optional and only required when variables need to be declar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ption is optional and required when Error/Exception handling is d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gin and End are  mandatory as all logic and queries are written inside i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07f09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5T07:42:31Z</dcterms:created>
  <dc:creator>cobra</dc:creator>
  <dc:description/>
  <dc:language>en-US</dc:language>
  <cp:lastModifiedBy>cse</cp:lastModifiedBy>
  <dcterms:modified xsi:type="dcterms:W3CDTF">2015-08-02T08:09:00Z</dcterms:modified>
  <cp:revision>41</cp:revision>
  <dc:subject/>
  <dc:title>Introduction to PL/SQL</dc:title>
</cp:coreProperties>
</file>